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gif" ContentType="image/gif"/>
  <Override PartName="/ppt/media/image14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29.png" ContentType="image/png"/>
  <Override PartName="/ppt/media/image17.png" ContentType="image/png"/>
  <Override PartName="/ppt/media/image26.wmf" ContentType="image/x-wmf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9.jpeg" ContentType="image/jpeg"/>
  <Override PartName="/ppt/media/image15.png" ContentType="image/png"/>
  <Override PartName="/ppt/media/image24.jpeg" ContentType="image/jpeg"/>
  <Override PartName="/ppt/media/image20.png" ContentType="image/png"/>
  <Override PartName="/ppt/media/image18.png" ContentType="image/pn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8C40-7747-4F04-B8D2-AC138A1A0F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5745-0849-4090-835E-38103C91DE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10F-EC63-459F-B6F5-0E58EF88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39E-05D7-4239-BD02-7E69C6DB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9DB-558C-4A24-BB23-6A130332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FCB-7DF4-427A-9317-4A5C122B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FBE0-FFC2-47F0-83E7-6BE1965C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A768-E530-4F96-AEAB-E3521FC0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8237-9F76-407C-9620-6A2536C2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7B28-5BB3-439D-9BCD-783432B9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F2AA-2F4C-4533-B979-7EECF649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A803-25E2-4376-B002-F2E9846F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3355-F536-44B5-8849-802C411A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9BC-F961-4579-B032-6D5D490F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4D4B-F09F-4CB9-9669-D9A662DE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688B-72DC-4874-8477-ADC03EF1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F17C-69E1-4D61-B62D-86760735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EEF7-B58D-4A7A-AB1C-FA11FE80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684D-99BB-402B-A6D2-B1DDAB85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D67-793C-4B3E-A6FC-3BECA45B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84D-F284-47BF-BDBD-2982C08D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C52-444F-4208-BAE8-B33C560F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AD1-7150-4ED5-81FC-BC7055C7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C3E-ECC8-482E-B915-0CBFBAC3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C94-01B7-4F34-B03B-544C5CD7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945-F242-4E87-98DD-DF0C4AE6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1C19-C9DC-42D0-8715-10ACC61359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4E8F-8808-449F-9FA4-FB8397FDECF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642960" y="1714680"/>
            <a:ext cx="7345440" cy="34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гра – конкур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«Занимательна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атематика»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5940360" y="3860640"/>
            <a:ext cx="2914560" cy="28227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108000" y="2133720"/>
            <a:ext cx="583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Четвертый конкур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000160" cy="252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3"/>
          <a:stretch/>
        </p:blipFill>
        <p:spPr>
          <a:xfrm>
            <a:off x="3348000" y="1773360"/>
            <a:ext cx="1944720" cy="2447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4"/>
          <a:stretch/>
        </p:blipFill>
        <p:spPr>
          <a:xfrm>
            <a:off x="6227640" y="1773360"/>
            <a:ext cx="1962360" cy="24778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8"/>
          <p:cNvSpPr/>
          <p:nvPr/>
        </p:nvSpPr>
        <p:spPr>
          <a:xfrm>
            <a:off x="857160" y="857160"/>
            <a:ext cx="1500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ф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6715080" y="85716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3571920" y="857160"/>
            <a:ext cx="157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х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468360" y="4508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зом каждого, кто нашел что-то новое, является слово «Эврика!». Так воскликнул ученый, открыв новый закон. Он же с большой точностью вычислил значе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тношение длины окружности к её диамет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786040" y="50720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Архим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714240" y="4786200"/>
            <a:ext cx="69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из этих учёных участвовал в атлетических состязаниях и на олимпийских играх был дважды увенчан лавровым венком за победу в кулачном бо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2357280" y="47149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ифа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714240" y="4572000"/>
            <a:ext cx="69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 интересного рассказывают про этого учёного. Вот, например, один случай. Учёный, наблюдая звёзды, упал в колодец, а стоявшая рядом женщина посмеялась над ним, сказав: «Хочет знать, что делается на небе, а что у него под ногами, не види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2357280" y="50720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Фа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714240" y="4500720"/>
            <a:ext cx="65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из этих учёных помогал защищать свой город Сиракузы от римлян и при этом погиб? Легенда гласит: когда римлянин занёс меч над учёным, тот не просил пощады, а лишь воскликнул: «Не трогай мои чертежи!» В миг гибели учёный решал геометрическую зада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2214720" y="5000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Архим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1500120" y="4714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у из них принадлежат слова: «Числа правят мир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2357280" y="49291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ифа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6516720" y="3429000"/>
            <a:ext cx="2394000" cy="31910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324000" y="2133720"/>
            <a:ext cx="583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ятый конкур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5"/>
          <p:cNvSpPr/>
          <p:nvPr/>
        </p:nvSpPr>
        <p:spPr>
          <a:xfrm>
            <a:off x="179280" y="1557360"/>
            <a:ext cx="208908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6948360" y="1557360"/>
            <a:ext cx="208944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4716360" y="1557360"/>
            <a:ext cx="208908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411280" y="1557360"/>
            <a:ext cx="208944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395280" y="198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ОКО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2556000" y="2060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ЮЙ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4932360" y="2060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7164360" y="2060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У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1116000" y="98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7667640" y="10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5435640" y="1052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059280" y="1052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826920" y="407664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коть, дюйм, фут, фунт, по-моему, это единицы измерения длины. Так ли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1187280" y="4365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Фунт – мера в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1332000" y="4365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ожите единицы длины в порядке уб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250920" y="3933720"/>
            <a:ext cx="29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3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 локоть = 46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 фут = 30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 дюйм = 2,5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4" descr=""/>
          <p:cNvPicPr/>
          <p:nvPr/>
        </p:nvPicPr>
        <p:blipFill>
          <a:blip r:embed="rId2"/>
          <a:stretch/>
        </p:blipFill>
        <p:spPr>
          <a:xfrm>
            <a:off x="3348000" y="3357720"/>
            <a:ext cx="4275000" cy="30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5580000" y="3068640"/>
            <a:ext cx="3333960" cy="34574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0" y="1989000"/>
            <a:ext cx="583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Шестой конкур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5"/>
          <p:cNvSpPr/>
          <p:nvPr/>
        </p:nvSpPr>
        <p:spPr>
          <a:xfrm>
            <a:off x="250920" y="1197000"/>
            <a:ext cx="4968720" cy="16574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8"/>
          <p:cNvSpPr/>
          <p:nvPr/>
        </p:nvSpPr>
        <p:spPr>
          <a:xfrm>
            <a:off x="1835280" y="3068640"/>
            <a:ext cx="4968720" cy="165744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3708360" y="4869000"/>
            <a:ext cx="4969080" cy="165708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324000" y="17002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Ravie"/>
              </a:rPr>
              <a:t>Здесь лежит золотой клю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"/>
          <p:cNvPicPr/>
          <p:nvPr/>
        </p:nvPicPr>
        <p:blipFill>
          <a:blip r:embed="rId2"/>
          <a:stretch/>
        </p:blipFill>
        <p:spPr>
          <a:xfrm rot="2668800">
            <a:off x="2916360" y="1125360"/>
            <a:ext cx="2019240" cy="20196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4"/>
          <p:cNvSpPr/>
          <p:nvPr/>
        </p:nvSpPr>
        <p:spPr>
          <a:xfrm>
            <a:off x="2484360" y="3860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Ravie"/>
              </a:rPr>
              <a:t>Не пустая коро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6" descr=""/>
          <p:cNvPicPr/>
          <p:nvPr/>
        </p:nvPicPr>
        <p:blipFill>
          <a:blip r:embed="rId3"/>
          <a:stretch/>
        </p:blipFill>
        <p:spPr>
          <a:xfrm>
            <a:off x="3780000" y="5300640"/>
            <a:ext cx="1590480" cy="11955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7"/>
          <p:cNvSpPr/>
          <p:nvPr/>
        </p:nvSpPr>
        <p:spPr>
          <a:xfrm>
            <a:off x="5435640" y="5589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Ravie"/>
              </a:rPr>
              <a:t>Здесь сидит зм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0" y="2349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АРИФМЕТ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Рисунок16.png"/>
          <p:cNvPicPr/>
          <p:nvPr/>
        </p:nvPicPr>
        <p:blipFill>
          <a:blip r:embed="rId2"/>
          <a:stretch/>
        </p:blipFill>
        <p:spPr>
          <a:xfrm>
            <a:off x="5796000" y="2637000"/>
            <a:ext cx="3173400" cy="3674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611280" y="2205000"/>
            <a:ext cx="52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ервый конкур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333080"/>
            <a:ext cx="7620120" cy="2133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128160" rIns="128160" tIns="84960" bIns="84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362320" y="3390840"/>
            <a:ext cx="6400800" cy="1524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2454120" cy="312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3348000" y="1557360"/>
            <a:ext cx="2400480" cy="317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4"/>
          <a:stretch/>
        </p:blipFill>
        <p:spPr>
          <a:xfrm>
            <a:off x="6300720" y="1557360"/>
            <a:ext cx="2354400" cy="1617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5"/>
          <a:stretch/>
        </p:blipFill>
        <p:spPr>
          <a:xfrm>
            <a:off x="6300720" y="3141720"/>
            <a:ext cx="2354400" cy="1604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395280" y="5084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из них является автором учебника для детей под названием «Арифметик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908000" y="515772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 Л.Н.Толст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071720" y="785880"/>
            <a:ext cx="167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643200" y="714240"/>
            <a:ext cx="2000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В.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6643800" y="714240"/>
            <a:ext cx="171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95280" y="508464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ем из них произошёл следующий случа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 На камзоле продрались локти. Повстречавший его придворный щё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ь ехидно заметил по этому поводу: – Учёность выглядывает оттуд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сколько, сударь, – немедленно ответил он, – глупость загляд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д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195640" y="5300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М.В.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179280" y="4941720"/>
            <a:ext cx="882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из этих знаменитых людей сделал интересное и меткое «арифм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ческое» сравнение, что человек подобен дроби, числитель которой есть 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человек представляет собой, а знаменатель – то, что он думает о себе. 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го мнения о себе человек, тем больше знаменатель, а значит, тем мен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 дроб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2340000" y="5300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Л.Н.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684360" y="5157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у принадлежат слова: «Вдохновение нужно в геометрии, как и в поэзии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2268360" y="5300640"/>
            <a:ext cx="44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А.С.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1116000" y="515772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у из этих людей принадлежат следующие слова: «Математику уже затем учить следует, что она ум в порядок приводит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2411280" y="5300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М.В.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1187280" y="515772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кажется, что фамилиями этих людей названы города. Так ли э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826920" y="515772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Л.Н.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ывается, в Ленинградской области есть города Пушкин и Ломоносов. Города Толстой пока ещё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684360" y="51577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чьему проекту в 1755 году был организован Московский университет, носящий ныне его им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050920" y="5300640"/>
            <a:ext cx="48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М.В.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://s50.radikal.ru/i129/0902/dd/4264e279f1ce.gif"/>
          <p:cNvPicPr/>
          <p:nvPr/>
        </p:nvPicPr>
        <p:blipFill>
          <a:blip r:embed="rId2"/>
          <a:stretch/>
        </p:blipFill>
        <p:spPr>
          <a:xfrm>
            <a:off x="-324000" y="3068640"/>
            <a:ext cx="3667320" cy="3666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3492360" y="2060640"/>
            <a:ext cx="525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Второй конкур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179280" y="2060640"/>
            <a:ext cx="1657440" cy="151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195640" y="2060640"/>
            <a:ext cx="2160360" cy="1511280"/>
          </a:xfrm>
          <a:prstGeom prst="parallelogram">
            <a:avLst>
              <a:gd name="adj" fmla="val 357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 rot="10800000">
            <a:off x="4643280" y="2060640"/>
            <a:ext cx="1657440" cy="1511280"/>
          </a:xfrm>
          <a:custGeom>
            <a:avLst/>
            <a:gdLst>
              <a:gd name="textAreaLeft" fmla="*/ 345240 w 1657440"/>
              <a:gd name="textAreaRight" fmla="*/ 1312200 w 1657440"/>
              <a:gd name="textAreaTop" fmla="*/ 314640 h 1511280"/>
              <a:gd name="textAreaBottom" fmla="*/ 1196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6659640" y="2060640"/>
            <a:ext cx="2087640" cy="1512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71680" y="1125360"/>
            <a:ext cx="1214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428920" y="1125360"/>
            <a:ext cx="214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857840" y="1125360"/>
            <a:ext cx="1285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6715080" y="112536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285920" y="464328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четырёхугольник по очень важному признаку является лишн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1258920" y="44370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се эти четырёхугольники, кроме трапеции, являются параллелограммами, так как у них противолежащие стороны попарно параллель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1357200" y="450072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какой фигуры в переводе с греческого языка означает «обеденный столик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2357280" y="4929120"/>
            <a:ext cx="41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Трапе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1214280" y="4572000"/>
            <a:ext cx="66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метр какой фигуры находится по форму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4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2"/>
          <p:cNvSpPr/>
          <p:nvPr/>
        </p:nvSpPr>
        <p:spPr>
          <a:xfrm>
            <a:off x="2071800" y="471492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3"/>
          <p:cNvSpPr/>
          <p:nvPr/>
        </p:nvSpPr>
        <p:spPr>
          <a:xfrm>
            <a:off x="1500120" y="471492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кой фигуры все углы прям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5"/>
          <p:cNvSpPr/>
          <p:nvPr/>
        </p:nvSpPr>
        <p:spPr>
          <a:xfrm>
            <a:off x="1571760" y="464328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            №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 и 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Содержимое 3" descr="Рисунок11.png"/>
          <p:cNvPicPr/>
          <p:nvPr/>
        </p:nvPicPr>
        <p:blipFill>
          <a:blip r:embed="rId2"/>
          <a:stretch/>
        </p:blipFill>
        <p:spPr>
          <a:xfrm>
            <a:off x="-828720" y="3573360"/>
            <a:ext cx="6218280" cy="4041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3887640" y="1700280"/>
            <a:ext cx="525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Третий конкур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"/>
          <p:cNvSpPr/>
          <p:nvPr/>
        </p:nvSpPr>
        <p:spPr>
          <a:xfrm>
            <a:off x="1857240" y="642960"/>
            <a:ext cx="48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Нарисуй марк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Кв"/>
          <p:cNvPicPr/>
          <p:nvPr/>
        </p:nvPicPr>
        <p:blipFill>
          <a:blip r:embed="rId2"/>
          <a:stretch/>
        </p:blipFill>
        <p:spPr>
          <a:xfrm>
            <a:off x="2286000" y="1857240"/>
            <a:ext cx="4172040" cy="4200840"/>
          </a:xfrm>
          <a:prstGeom prst="rect">
            <a:avLst/>
          </a:prstGeom>
          <a:ln w="0">
            <a:noFill/>
          </a:ln>
        </p:spPr>
      </p:pic>
      <p:grpSp>
        <p:nvGrpSpPr>
          <p:cNvPr id="156" name="Группа 69"/>
          <p:cNvGrpSpPr/>
          <p:nvPr/>
        </p:nvGrpSpPr>
        <p:grpSpPr>
          <a:xfrm>
            <a:off x="5000760" y="4643280"/>
            <a:ext cx="1357200" cy="1357560"/>
            <a:chOff x="5000760" y="4643280"/>
            <a:chExt cx="1357200" cy="1357560"/>
          </a:xfrm>
        </p:grpSpPr>
        <p:sp>
          <p:nvSpPr>
            <p:cNvPr id="157" name="Прямоугольник 53"/>
            <p:cNvSpPr/>
            <p:nvPr/>
          </p:nvSpPr>
          <p:spPr>
            <a:xfrm>
              <a:off x="5000760" y="4643280"/>
              <a:ext cx="1357200" cy="1357560"/>
            </a:xfrm>
            <a:prstGeom prst="rect">
              <a:avLst/>
            </a:prstGeom>
            <a:solidFill>
              <a:srgbClr val="9966ff"/>
            </a:solidFill>
            <a:ln w="255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Группа 68"/>
            <p:cNvGrpSpPr/>
            <p:nvPr/>
          </p:nvGrpSpPr>
          <p:grpSpPr>
            <a:xfrm>
              <a:off x="5429160" y="4786200"/>
              <a:ext cx="575640" cy="1001880"/>
              <a:chOff x="5429160" y="4786200"/>
              <a:chExt cx="575640" cy="1001880"/>
            </a:xfrm>
          </p:grpSpPr>
          <p:sp>
            <p:nvSpPr>
              <p:cNvPr id="159" name="Овал 54"/>
              <p:cNvSpPr/>
              <p:nvPr/>
            </p:nvSpPr>
            <p:spPr>
              <a:xfrm>
                <a:off x="5571720" y="4786200"/>
                <a:ext cx="285480" cy="285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Прямая соединительная линия 56"/>
              <p:cNvSpPr/>
              <p:nvPr/>
            </p:nvSpPr>
            <p:spPr>
              <a:xfrm flipH="1">
                <a:off x="5714640" y="5073480"/>
                <a:ext cx="1440" cy="28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Прямая соединительная линия 58"/>
              <p:cNvSpPr/>
              <p:nvPr/>
            </p:nvSpPr>
            <p:spPr>
              <a:xfrm>
                <a:off x="5429160" y="5072040"/>
                <a:ext cx="285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Прямая соединительная линия 60"/>
              <p:cNvSpPr/>
              <p:nvPr/>
            </p:nvSpPr>
            <p:spPr>
              <a:xfrm flipH="1">
                <a:off x="5719320" y="5072040"/>
                <a:ext cx="285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Прямоугольник 61"/>
              <p:cNvSpPr/>
              <p:nvPr/>
            </p:nvSpPr>
            <p:spPr>
              <a:xfrm>
                <a:off x="5429160" y="5357880"/>
                <a:ext cx="571320" cy="21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Прямая соединительная линия 63"/>
              <p:cNvSpPr/>
              <p:nvPr/>
            </p:nvSpPr>
            <p:spPr>
              <a:xfrm flipH="1">
                <a:off x="5571720" y="5572080"/>
                <a:ext cx="1440" cy="21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Прямая соединительная линия 64"/>
              <p:cNvSpPr/>
              <p:nvPr/>
            </p:nvSpPr>
            <p:spPr>
              <a:xfrm flipH="1">
                <a:off x="5857560" y="5572080"/>
                <a:ext cx="1440" cy="21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Прямая соединительная линия 66"/>
              <p:cNvSpPr/>
              <p:nvPr/>
            </p:nvSpPr>
            <p:spPr>
              <a:xfrm flipH="1" flipV="1">
                <a:off x="5429160" y="5786640"/>
                <a:ext cx="1425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Прямая соединительная линия 67"/>
              <p:cNvSpPr/>
              <p:nvPr/>
            </p:nvSpPr>
            <p:spPr>
              <a:xfrm flipH="1" flipV="1">
                <a:off x="5857560" y="5786640"/>
                <a:ext cx="1425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Рисунок5.png"/>
          <p:cNvPicPr/>
          <p:nvPr/>
        </p:nvPicPr>
        <p:blipFill>
          <a:blip r:embed="rId2"/>
          <a:stretch/>
        </p:blipFill>
        <p:spPr>
          <a:xfrm rot="1419600">
            <a:off x="-181080" y="2708280"/>
            <a:ext cx="3541680" cy="44164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900000" y="1700280"/>
            <a:ext cx="813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Математические       ребус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R13"/>
          <p:cNvPicPr/>
          <p:nvPr/>
        </p:nvPicPr>
        <p:blipFill>
          <a:blip r:embed="rId2"/>
          <a:stretch/>
        </p:blipFill>
        <p:spPr>
          <a:xfrm>
            <a:off x="900000" y="1773360"/>
            <a:ext cx="6972480" cy="3762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0"/>
          <p:cNvSpPr/>
          <p:nvPr/>
        </p:nvSpPr>
        <p:spPr>
          <a:xfrm>
            <a:off x="1476360" y="270828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Д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i"/>
          <p:cNvPicPr/>
          <p:nvPr/>
        </p:nvPicPr>
        <p:blipFill>
          <a:blip r:embed="rId3"/>
          <a:stretch/>
        </p:blipFill>
        <p:spPr>
          <a:xfrm>
            <a:off x="1403280" y="1413000"/>
            <a:ext cx="6429600" cy="4543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2"/>
          <p:cNvSpPr/>
          <p:nvPr/>
        </p:nvSpPr>
        <p:spPr>
          <a:xfrm>
            <a:off x="1547640" y="263700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УГО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3" descr="R23"/>
          <p:cNvPicPr/>
          <p:nvPr/>
        </p:nvPicPr>
        <p:blipFill>
          <a:blip r:embed="rId4"/>
          <a:stretch/>
        </p:blipFill>
        <p:spPr>
          <a:xfrm>
            <a:off x="1116000" y="1628640"/>
            <a:ext cx="7086600" cy="39434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4"/>
          <p:cNvSpPr/>
          <p:nvPr/>
        </p:nvSpPr>
        <p:spPr>
          <a:xfrm>
            <a:off x="1403280" y="292428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ЕКТО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5" descr="q3"/>
          <p:cNvPicPr/>
          <p:nvPr/>
        </p:nvPicPr>
        <p:blipFill>
          <a:blip r:embed="rId5"/>
          <a:stretch/>
        </p:blipFill>
        <p:spPr>
          <a:xfrm>
            <a:off x="1042920" y="2133720"/>
            <a:ext cx="7105680" cy="3124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6"/>
          <p:cNvSpPr/>
          <p:nvPr/>
        </p:nvSpPr>
        <p:spPr>
          <a:xfrm>
            <a:off x="539640" y="3068640"/>
            <a:ext cx="813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7" descr="image097"/>
          <p:cNvPicPr/>
          <p:nvPr/>
        </p:nvPicPr>
        <p:blipFill>
          <a:blip r:embed="rId6"/>
          <a:stretch/>
        </p:blipFill>
        <p:spPr>
          <a:xfrm>
            <a:off x="1042920" y="1989000"/>
            <a:ext cx="7201080" cy="36576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8"/>
          <p:cNvSpPr/>
          <p:nvPr/>
        </p:nvSpPr>
        <p:spPr>
          <a:xfrm>
            <a:off x="324000" y="306864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ПОВЕРХНОС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1" descr="rebuses5"/>
          <p:cNvPicPr/>
          <p:nvPr/>
        </p:nvPicPr>
        <p:blipFill>
          <a:blip r:embed="rId7"/>
          <a:stretch/>
        </p:blipFill>
        <p:spPr>
          <a:xfrm>
            <a:off x="971640" y="2205000"/>
            <a:ext cx="7238880" cy="1943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2"/>
          <p:cNvSpPr/>
          <p:nvPr/>
        </p:nvSpPr>
        <p:spPr>
          <a:xfrm>
            <a:off x="1042920" y="2565360"/>
            <a:ext cx="72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ТЕОРЕМА ПИФАГО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6:54:35Z</dcterms:created>
  <dc:creator>Ольга</dc:creator>
  <dc:description/>
  <dc:language>en-US</dc:language>
  <cp:lastModifiedBy>Admin</cp:lastModifiedBy>
  <dcterms:modified xsi:type="dcterms:W3CDTF">2022-04-09T18:59:06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1e0000000000010291410207f7000400038000</vt:lpwstr>
  </property>
</Properties>
</file>