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4A1C9-7299-46E8-863C-9D6AC8A5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8CE6E-4C44-4EBD-80FE-39DBCFB02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DD475-7F4B-4B67-A967-FA7D0FF6F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AF4B8-2B76-4BDD-9C4A-CF22A22AD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56245-9CFF-43B7-B227-185684FA7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6B29B-1990-4054-BFD9-059DC88B2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1BD94-1A16-41E6-A77E-4B7395500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равоядные или растительноядные – это  животные , которые питаются растениями. Таких животных очень много . Это, например, овцы, коровы, козы, лошади, жирафы, слоны, многие виды микроскопических одноклеточных организм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6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7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8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9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57200" y="90792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равоядные животные, поедая растения, преобразуют пищу в питательные вещества, необходимые для их жизни. Такие травоядные, как верблюд, могут переваривать даже твёрдые горькие колючки, а кролики вынуждены съедать свою пищу дважды – иначе она не может быть переварена. Также два раза съедают свою пищу овцы, коровы, гиппопотамы, жирафы и другие живо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6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7"/>
          <a:stretch/>
        </p:blipFill>
        <p:spPr>
          <a:xfrm>
            <a:off x="0" y="907920"/>
            <a:ext cx="9256680" cy="595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57200" y="90792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ирода позаботилась об этих жвачных травоядных: они могут наполнять желудок  на пастбище, а затем, спрятавшись от хищников в безопасном месте, спокойно продолжить переваривание, пережёвывая растения второй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Хищные  животные питаются другими животными. В природе устроено так, что цепь питания животных не должна прерываться. Хищные животные не могут убить всех травоядных, иначе без пищи хищники погиб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отношение между хищными и травоядными животными поддерживается природой на протяжении миллионов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5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6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7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 животные питаются и растениями, и другими животными. В эту группу входят совершенно непохожие друг на друга животные. К ним относятся, к примеру, бурый медведь, свинья, еж, барсук, енотовидная собака, белка, кабан, серая крыса, мышь, крыса, серая ворона и многие другие. Все они характеризуются смешанным типом питания и поэтому называются термином «всеядные животны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5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6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8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200" y="1052640"/>
            <a:ext cx="82296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ажную роль  в природе выполняют животные – санитары – гиены, лисы, вороны, чайки, поморники, муравь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ни съедают остатки умерших животных, завершая цепь питания: растения дают пищу травоядным, которые являются питанием хищников, а те в свою очередь становятся пищей животных – санит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59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5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7:42:30Z</dcterms:created>
  <dc:creator>Светлана</dc:creator>
  <dc:description/>
  <dc:language>en-US</dc:language>
  <cp:lastModifiedBy>Admin</cp:lastModifiedBy>
  <dcterms:modified xsi:type="dcterms:W3CDTF">2022-04-10T06:28:11Z</dcterms:modified>
  <cp:revision>17</cp:revision>
  <dc:subject/>
  <dc:title>Травоядные, хищные и всеядные животны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