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CED-96D4-409D-A94C-3148A9F3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010-5B2E-4EAB-B0CB-3C9A256F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7B1-F4B8-4838-921A-C64E7834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FB5-A82D-4D08-9666-F3E0850C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BA5-0CD0-48FB-B055-A4974B6E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4A3-D3F6-4391-803F-9351A64A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A07-C8EF-4C54-AE5C-CCDB76FC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09B-B697-4D18-A4DB-F227E849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E29-0884-48CB-BA85-AE8EF825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5D6-ABBD-489B-9766-ABBBD521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047-48FF-4502-817D-93BB2EE7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168-38D6-46A1-8BB2-B450E0A9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8151-0D7C-43B3-BE6E-2D738884B2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310/annaze63.a0/0_3a8ac_621edf06_X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48428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Arial Black"/>
              </a:rPr>
              <a:t>Проект "Белая береза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280" y="4292640"/>
            <a:ext cx="41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гнатова Л.Н., воспитатель филиала «Солнышко» МБДОУ детского сада «Радуга» Староюрьевского района Тамбов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ихи о русской березке для детей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Берёзовая рощ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втор: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ерман Ходыре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ее снега чист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месяца лучистог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в белых платьях девиц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рёзы стали в кру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х ветви — руки тонки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будто струны звонк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ишь ветер к ним притронется —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всё поёт вокру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ясном свете меся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я роща точно светит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реже сумрак вечер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етлее ночи тен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лес могучий, кряжист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ядит на рощу радостн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гда теперь с ним рядышк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яет светлый ден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651280" y="1125000"/>
            <a:ext cx="3035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Берёза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втор: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.Есен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ая берез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 моим ок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накрылась снег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чно серебр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пушистых ветк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нежною кайм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пустились кис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й бахром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стоит берез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онной тишин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горят снежин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золотом ог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заря, ленив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ходя круг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сыпает вет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вым серебр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лизация данного проекта научила дошкольников сравнивать, анализировать, делать выводы. Дети приобрели новый опыт творческо-исследовательской деятельности. В процессе работы над проектом дошкольники рассматривали березу, слушали стихи о ней, рисовали берез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ании исследования пришли к выводу: необходимо сохранить и бережно относиться к символу России – бере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900000" y="2349360"/>
            <a:ext cx="74170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Веточки берёз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нилков Н. Дерево жизни. Все о целебных свойствах берез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нкова Р.А. Стихи русских поэтов. М.: Олма Медиа Групп, 201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.А. Шорыгина «Деревья. Какие они?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.С. Комарова «Изобразительная деятельность в детском сад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нько Елена Алексеевна учитель начальных классов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ОУ лицей №21  г. Иваново Сайт: http://pedsovet.su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0101"/>
                </a:solidFill>
                <a:latin typeface="Arial"/>
                <a:ea typeface="Times New Roman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2276640"/>
            <a:ext cx="7993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10101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01"/>
                </a:solidFill>
                <a:latin typeface="Segoe UI"/>
              </a:rPr>
              <a:t> </a:t>
            </a:r>
            <a:r>
              <a:rPr b="0" lang="ru-RU" sz="2400" spc="-1" strike="noStrike">
                <a:solidFill>
                  <a:srgbClr val="010101"/>
                </a:solidFill>
                <a:latin typeface="Arial"/>
                <a:ea typeface="Times New Roman"/>
              </a:rPr>
              <a:t>Любовь к природе - это чувство, которое включает в себя эмоциональную отзывчивость, устойчивый интерес к природе и желание охранять и преумножать природные богат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01"/>
                </a:solidFill>
                <a:latin typeface="Arial"/>
                <a:ea typeface="Times New Roman"/>
              </a:rPr>
              <a:t>Наблюдая за детьми, я обратила внимание на то, что они проявляют заботу о животных, интересуются растительным миром, рассматривают книги о природе, о растениях, делятся впечатлениями, расспрашивают о деревьях, цв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0101"/>
                </a:solidFill>
                <a:latin typeface="Arial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01"/>
                </a:solidFill>
                <a:latin typeface="Arial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10101"/>
                </a:solidFill>
                <a:latin typeface="Arial"/>
                <a:ea typeface="Times New Roman"/>
              </a:rPr>
              <a:t>формирование начал экологической культуры у детей младшего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ч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6064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ть характеристику березе, учить бережному отношению к деревья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огатить и активизировать словарь детей, воспитывать любовь и бережное отношение к бере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накомство со стихами, песнями, загадками о берез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611280" y="191772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 проект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о-познавательны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тоды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глядный, словесный, практическ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участников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уппов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и прое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 дети средней группы, воспита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ПЫ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ап – подготовите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еда, дискуссия, экскурсия, объяснение задач проекта детя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ап – основно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01"/>
                </a:solidFill>
                <a:latin typeface="Arial"/>
                <a:ea typeface="Times New Roman"/>
              </a:rPr>
              <a:t>Наблюд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01"/>
                </a:solidFill>
                <a:latin typeface="Arial"/>
                <a:ea typeface="Times New Roman"/>
              </a:rPr>
              <a:t>Бесед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01"/>
                </a:solidFill>
                <a:latin typeface="Arial"/>
                <a:ea typeface="Times New Roman"/>
              </a:rPr>
              <a:t>Непосредственно образовательная деятельность с деть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01"/>
                </a:solidFill>
                <a:latin typeface="Arial"/>
                <a:ea typeface="Times New Roman"/>
              </a:rPr>
              <a:t>Чтение художественной литерату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01"/>
                </a:solidFill>
                <a:latin typeface="Arial"/>
                <a:ea typeface="Times New Roman"/>
              </a:rPr>
              <a:t>Разучивание песен, стихотворений, пословиц, поговор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01"/>
                </a:solidFill>
                <a:latin typeface="Arial"/>
                <a:ea typeface="Times New Roman"/>
              </a:rPr>
              <a:t>Просмотр познавательных фильм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01"/>
                </a:solidFill>
                <a:latin typeface="Arial"/>
                <a:ea typeface="Times New Roman"/>
              </a:rPr>
              <a:t>Дидактические и подвижные иг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01"/>
                </a:solidFill>
                <a:latin typeface="Arial"/>
                <a:ea typeface="Times New Roman"/>
              </a:rPr>
              <a:t>Практическая деятельность детей, детей совместно с родителями, с педагог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этап – итогов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бор и обработка материал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отнесение поставленных и прогнозируемых результатов с полученны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общение материалов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0101"/>
                </a:solidFill>
                <a:latin typeface="Arial"/>
                <a:ea typeface="Times New Roman"/>
              </a:rPr>
              <a:t>Ожидаемые итог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2637000"/>
            <a:ext cx="77868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01"/>
                </a:solidFill>
                <a:latin typeface="Arial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10101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10101"/>
                </a:solidFill>
                <a:latin typeface="Arial"/>
                <a:ea typeface="Times New Roman"/>
              </a:rPr>
              <a:t>Формирование экологической грамотности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01"/>
                </a:solidFill>
                <a:latin typeface="Arial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10101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10101"/>
                </a:solidFill>
                <a:latin typeface="Arial"/>
                <a:ea typeface="Times New Roman"/>
              </a:rPr>
              <a:t>Развитие ребенка как личности (развитие мышления, эмоциональное, эстетическое, сенсорное развити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01"/>
                </a:solidFill>
                <a:latin typeface="Arial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10101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10101"/>
                </a:solidFill>
                <a:latin typeface="Arial"/>
                <a:ea typeface="Times New Roman"/>
              </a:rPr>
              <a:t>Воспитание любви к родному кр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Татьяна</cp:lastModifiedBy>
  <dcterms:modified xsi:type="dcterms:W3CDTF">2022-04-10T19:14:33Z</dcterms:modified>
  <cp:revision>37</cp:revision>
  <dc:subject/>
  <dc:title>Слайд 1</dc:title>
</cp:coreProperties>
</file>