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6628-83A5-4316-ACC7-3A0C27E71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151F-3DD5-4BA0-BF44-F9B88E9A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566B-77C6-4F94-A00E-5D108E20E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120B-1554-437F-9E56-DDB2E91E7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FFE42-271C-4910-BB09-35225FC0C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FBD76-20AB-44D0-A051-D78D50E3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C74AF0-0655-44BF-8FF8-1452DD11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A28A3-A3A0-48F7-B671-27351EAF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8C5E9-33CB-42AF-ADE4-8A98BB54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DDA82-D85C-4E9E-B796-AD3DFB66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A4036-2899-4BF7-BDCF-710B25AA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3E90-A758-47B0-872E-22AEAA8D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D1F772-AC6A-46DC-9059-3D40EF8F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75AAA-CEBD-4A0C-B4A3-B22542EE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5B6E3-E911-488E-B21C-B9F03406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69BA9-F025-4B89-BD68-791D8FF52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9F782-3A46-4547-9FBE-A918D3CDB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2A67-566B-4BC0-A5A9-5925DCF7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88B8-F5E6-4679-B20A-6A0BB15E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0516-8421-4218-8F66-9512667F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D661-D9CC-4E21-8862-8103BB0C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38C1-5EC3-45D7-8C4A-E9322571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D20F-A18A-49D0-8081-43561D07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6646-97C4-4F53-8707-1B000CAD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C077-9B05-4C88-A273-42E20B7A39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88A8-00FD-4B0A-968E-888EC24622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27432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Урок изобразительного искусства,  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2 класс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лена Марсовна Карачурина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читель начальных класс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БОУ «Кунашакская СОШ»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Линия как средство выражения: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характер линий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0_27f59_3717c24c_XL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Содержимое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8" descr="25053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Спасибо!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02:32:08Z</dcterms:created>
  <dc:creator>леново</dc:creator>
  <dc:description/>
  <dc:language>en-US</dc:language>
  <cp:lastModifiedBy>леново</cp:lastModifiedBy>
  <dcterms:modified xsi:type="dcterms:W3CDTF">2022-04-10T06:59:3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