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073-D3F0-411E-BCE3-9806B474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345-2B87-42C6-B323-5A668E55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045-ECAB-4740-AF55-DFBCD7AC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1BF-FB5A-48A1-AC92-4AF0BCD1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A1F-E166-41D5-B23F-667454BC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9A7-7372-4A5B-97A9-423BFFB4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25B-9A4F-4351-ACD3-068E4AFE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A64-C761-4836-AEB8-16C4C6AD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3BD-40DC-4434-8B94-E4FDE52A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91B-979F-4827-B666-368796FD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7E0-5811-4560-B8B9-FE294370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2A4-6B24-4DBE-8421-56E9CE0A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3592-3CFD-4E18-BDAB-D1882F88D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инезиологические упражнения для ру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476280"/>
            <a:ext cx="48499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476280"/>
            <a:ext cx="50180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260280"/>
            <a:ext cx="4645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333360"/>
            <a:ext cx="4780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33840" y="260280"/>
            <a:ext cx="4614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64000" y="69228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незо упражнения для гла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3600" y="1600200"/>
            <a:ext cx="4275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g3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4124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5640" y="1050840"/>
            <a:ext cx="629604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g4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43876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g6" descr=""/>
          <p:cNvPicPr/>
          <p:nvPr/>
        </p:nvPicPr>
        <p:blipFill>
          <a:blip r:embed="rId1"/>
          <a:stretch/>
        </p:blipFill>
        <p:spPr>
          <a:xfrm>
            <a:off x="2728800" y="404640"/>
            <a:ext cx="4432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g7" descr=""/>
          <p:cNvPicPr/>
          <p:nvPr/>
        </p:nvPicPr>
        <p:blipFill>
          <a:blip r:embed="rId1"/>
          <a:stretch/>
        </p:blipFill>
        <p:spPr>
          <a:xfrm>
            <a:off x="2657520" y="115920"/>
            <a:ext cx="42069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ttp://dd6deti.ucoz.ru/_fr/0/0002369.jpg"/>
          <p:cNvPicPr/>
          <p:nvPr/>
        </p:nvPicPr>
        <p:blipFill>
          <a:blip r:embed="rId1"/>
          <a:stretch/>
        </p:blipFill>
        <p:spPr>
          <a:xfrm>
            <a:off x="2411280" y="189000"/>
            <a:ext cx="508176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14760" y="476280"/>
            <a:ext cx="46069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469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3:38:14Z</dcterms:created>
  <dc:creator>Лёля</dc:creator>
  <dc:description/>
  <dc:language>en-US</dc:language>
  <cp:lastModifiedBy>Лёля</cp:lastModifiedBy>
  <dcterms:modified xsi:type="dcterms:W3CDTF">2012-12-06T14:30:47Z</dcterms:modified>
  <cp:revision>4</cp:revision>
  <dc:subject/>
  <dc:title>Кинезиологические упражнения для рук.</dc:title>
</cp:coreProperties>
</file>