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798-23BA-494C-A119-9532DBCA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E28-4AE8-40B8-A9FA-C7584BB8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665-78F3-443E-B3C1-F8DE418A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D3F-7DE2-4604-A03A-CF18E14B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F267-969E-4609-9E31-237F13E5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44C8-D204-4ADC-B2E2-D8341A33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6E21-7FF1-4674-94F5-90C15E56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8CB6-A3B8-43B9-8986-6BBE1CDA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D4B6-DFF0-4568-B06C-D8CF260B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391A-6039-4455-B132-03066118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1341-1EF9-41F3-AA60-0D9B9B0A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C10-BF87-4802-B3EA-1DE8F21D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EBC9-038A-4B71-866B-5809E133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A9D2-778B-49CD-BB03-FCD94CA0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39DF-3737-4F38-BDA2-6836BA83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6DF3-0EE4-4497-89B2-1F96439C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9F42-083E-4240-8EAA-371E71B9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4AF-8D74-4AA5-8464-BEBB38E3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C7C-7DED-4DD5-8248-A607E52D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36F-D263-4D52-AE20-ED514312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108-0AED-4895-8211-1E780E37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49D-1319-431B-94F5-379B219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EAC-4309-4C60-8227-E75CD5B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5F6-F000-4B9F-B53E-51C98492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8743-7D7D-454A-8616-154541F1F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18C3-561A-4979-B080-40261870A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5400" spc="-1" strike="noStrike">
                <a:solidFill>
                  <a:srgbClr val="ff0000"/>
                </a:solidFill>
                <a:latin typeface="Cambria Math"/>
                <a:ea typeface="Cambria Math"/>
              </a:rPr>
              <a:t>«Мы и наше здоровье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</a:t>
            </a:r>
            <a:r>
              <a:rPr b="0" lang="ru-RU" sz="5400" spc="-1" strike="noStrike">
                <a:solidFill>
                  <a:srgbClr val="ff0000"/>
                </a:solidFill>
                <a:latin typeface="Cambria Math"/>
                <a:ea typeface="Cambria Math"/>
              </a:rPr>
              <a:t>3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</a:t>
            </a:r>
            <a:r>
              <a:rPr b="0" lang="ru-RU" sz="2800" spc="-1" strike="noStrike">
                <a:solidFill>
                  <a:srgbClr val="ff0000"/>
                </a:solidFill>
                <a:latin typeface="Cambria Math"/>
                <a:ea typeface="Cambria Math"/>
              </a:rPr>
              <a:t>(учебник для 3 класса   А.А. Плеша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ajestic"/>
              </a:rPr>
              <a:t>Сочетай труд и отдых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 организм  как  машина  -может  работать  много  и  долго , но  отдыхать    тоже  необходимо  . А  самое  лучшее  для  человека -  это  правильное   сочетание труда  и  отдых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ты  устал , надо дать возможность своему организму отдохнуть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сном не играй в подвижные игры , не смотри  телевизор. Обязательно почисть зубы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ajestic"/>
              </a:rPr>
              <a:t>Спи не менее 8 часов в сутки , иначе ты заснёшь на уроке 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04" name="Picture 2" descr="http://i32.beon.ru/63/91/769163/61/25178961/img_6061667_1855_12.jpeg"/>
          <p:cNvPicPr/>
          <p:nvPr/>
        </p:nvPicPr>
        <p:blipFill>
          <a:blip r:embed="rId1"/>
          <a:stretch/>
        </p:blipFill>
        <p:spPr>
          <a:xfrm>
            <a:off x="1523880" y="1881360"/>
            <a:ext cx="60962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ajestic"/>
              </a:rPr>
              <a:t>Больше двигайся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  наша  жизнь  проходит  в   движении , а  чем  больше   мы  двигаемся , тем полезнее  это   для  нашего  организма  . Недаром наши  бабушки  и  дедушки  не  ездили  на  машинах ,  а работали   в  огороде  и  в   поле  , зато  были  сильны   и  здоровы . В  наше   время   спорт  помогает     человеку   поддерживать  здоровье  и  форму .  Спорт – это  здоровье . Назовите , пожалуйста , что  образует  опорно – двигательную  систему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вертика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Вид спорта, использующий ракетку и вол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Спортивная обу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Вид борьбы в перчат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 Игра в мяч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 Что забивают в ворота при игре в хокк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 Вид спорта, необходимый при защ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 Предмет, используемый для кат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асфаль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горизонта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 Вид зимнего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 Игра в мяч с попаданием в корзин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. Игра в мяч на вод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1. Предмет для катания с гор зимо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2. Предмет для ката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http://festival.1september.ru/articles/601992/img1.jpg"/>
          <p:cNvPicPr/>
          <p:nvPr/>
        </p:nvPicPr>
        <p:blipFill>
          <a:blip r:embed="rId1"/>
          <a:stretch/>
        </p:blipFill>
        <p:spPr>
          <a:xfrm>
            <a:off x="380880" y="3657600"/>
            <a:ext cx="4343400" cy="285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img2.board.com.ua/a/2000063562/wm/2-gornolyizhnyie-turyi-slovakiyu-tur-slovakiyu-zima.jpg"/>
          <p:cNvPicPr/>
          <p:nvPr/>
        </p:nvPicPr>
        <p:blipFill>
          <a:blip r:embed="rId2"/>
          <a:stretch/>
        </p:blipFill>
        <p:spPr>
          <a:xfrm>
            <a:off x="4952880" y="1219320"/>
            <a:ext cx="356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ajestic"/>
              </a:rPr>
              <a:t>Подвигайся немного , выполни сам упражнения , показанные на картинке</a:t>
            </a:r>
            <a:endParaRPr b="0" lang="en-US" sz="36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12" name="Picture 2" descr="http://xreferat.ru/image/55/1307990320_11.png"/>
          <p:cNvPicPr/>
          <p:nvPr/>
        </p:nvPicPr>
        <p:blipFill>
          <a:blip r:embed="rId1"/>
          <a:stretch/>
        </p:blipFill>
        <p:spPr>
          <a:xfrm>
            <a:off x="1347840" y="1646280"/>
            <a:ext cx="64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Не  заводи  вредных  привычек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108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ята ,  курение  ,  алкоголь   и   наркотики  -это  не  просто  вредные  привычки , это  настоящие «убийцы  здоровья» .  Все  они  постепенно  убивают  человека .  Предлагаю  просмотреть  подборку   слайдов  только об  одной   вредной   привычке -курении но  я  думаю ,  что  этого  будет  достаточно ,  чтобы  вы   поняли , насколько  она  вред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ши предки не знали табака. Он не произрастал в России. Его впервые завёз в страну царь Пётр I. В то время было модным подражать европейцам. А в Европу привезён был табак из Южной Америки Колумбом, открывший этот континент. Табаку приписывалось лечебное свойство. Особенно при простуде и головной боли, но в дальнейшем было установлено его пагубное влияние на организм. К этому времени многие пристрастились к этой вредной привычке и уже не могли остановиться. Табак начал своё победоносное шествие по странам и континентам, унося жизни и здоровье многих поколений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SzPct val="3087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129528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ОМН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5105520" y="1371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емного истор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1219320" y="380880"/>
            <a:ext cx="548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Россия занима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1-ое место в ми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457200" y="167652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по количеству курящ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:\Users\Василий\Desktop\no-smoking_resize.jpg"/>
          <p:cNvPicPr/>
          <p:nvPr/>
        </p:nvPicPr>
        <p:blipFill>
          <a:blip r:embed="rId1"/>
          <a:stretch/>
        </p:blipFill>
        <p:spPr>
          <a:xfrm>
            <a:off x="2438280" y="2743200"/>
            <a:ext cx="33577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00000"/>
                </a:solidFill>
                <a:latin typeface="Majestic"/>
              </a:rPr>
              <a:t>Если  хочешь  быть  здоров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формирование  представления  о  здоровом  образе  жизни , последствиях  вредных  привыче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одолжить разговор с детьми о здоровом  образе  жизни , полезном  питании  ,вредной привычке – курен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учить делать выбор своих  действий , поведения ,  питания и его обоснов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расширять знания учащихся о вреде курения , алкоголя и наркотиков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учить говорить «нет»  «вредному   и  пагубному»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ajestic"/>
              </a:rPr>
              <a:t>Помни основные  правила , если хочешь быть здоров :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380880" y="1676520"/>
            <a:ext cx="6477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людай чистот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о питайс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етай труд и отды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двигайс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заводи вредных  привычек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 грусти и не порти настроение друг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52280" y="171360"/>
            <a:ext cx="89917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Majestic"/>
              </a:rPr>
              <a:t>Объясните  смысл этого    изречения  </a:t>
            </a: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евние   люди   говорили 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еньги потерял - ничего не потерял, время потерял  - многое потерял, здоровье потерял –  всё потерял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 u="sng">
                <a:solidFill>
                  <a:srgbClr val="000000"/>
                </a:solidFill>
                <a:uFillTx/>
                <a:latin typeface="Majestic"/>
              </a:rPr>
              <a:t>Соблюдай   чистоту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Чистота  -  залог  здоровья  , а  здоровый  человек  выглядит  и  чувствует  себя  по  особенному 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543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d2d8a"/>
                </a:solidFill>
                <a:latin typeface="Majestic"/>
              </a:rPr>
              <a:t>ПОМНИ  !!!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1" name="Picture 2" descr="http://im5-tub-ru.yandex.net/i?id=233504730-47-72&amp;n=21"/>
          <p:cNvPicPr/>
          <p:nvPr/>
        </p:nvPicPr>
        <p:blipFill>
          <a:blip r:embed="rId1"/>
          <a:stretch/>
        </p:blipFill>
        <p:spPr>
          <a:xfrm>
            <a:off x="1697040" y="1752480"/>
            <a:ext cx="5923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3" name="Picture 2" descr="http://stat20.privet.ru/lr/0b2576ebd99541900e17d6f8087b5169"/>
          <p:cNvPicPr/>
          <p:nvPr/>
        </p:nvPicPr>
        <p:blipFill>
          <a:blip r:embed="rId1"/>
          <a:stretch/>
        </p:blipFill>
        <p:spPr>
          <a:xfrm>
            <a:off x="609480" y="609480"/>
            <a:ext cx="7696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2268"/>
                </a:solidFill>
                <a:latin typeface="Majestic"/>
              </a:rPr>
              <a:t>Правильно  питайся 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айся  есть в одно и то же время , не торопясь .Ешь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ольш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овощей и фруктов , </a:t>
            </a: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меньш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мучного , сладкого , жирного и жареного . Обязательно пей после приёма пищи .Нельзя  есть  перед сном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http://lariduarte.com/wp-content/uploads/2013/01/fruits-for-a-healthy-life-217509-658x445.jpeg"/>
          <p:cNvPicPr/>
          <p:nvPr/>
        </p:nvPicPr>
        <p:blipFill>
          <a:blip r:embed="rId2"/>
          <a:stretch/>
        </p:blipFill>
        <p:spPr>
          <a:xfrm>
            <a:off x="3886200" y="4343400"/>
            <a:ext cx="3532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Выбери  характеристики здорового и больного человека </a:t>
            </a: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расивый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ту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ов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а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тяну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ле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Найди ошибку 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лезная  еда                  Вредная п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жие огурцы                         Гамбур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ый хлеб                               Поп кор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жая  капуста                       Рыбная запека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сяная  каша                          Шоко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псы                                        Газированные напи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щ                                          Твор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лень                                       Колб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фир                                        Сухофрук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2056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 Windows</cp:lastModifiedBy>
  <dcterms:modified xsi:type="dcterms:W3CDTF">2022-04-08T13:41:51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