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ECB-4AEE-45AE-A325-62FBA641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C78-BBCB-4DD4-8AAE-D8F1655F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679-7A42-4E79-808C-90B906A3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CE4-CA80-4233-9D99-6EA75CE2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AEA8-C257-42C7-9DB5-2EA4FBB4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F104-1262-4C67-8F2A-90057E66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BAC9-06A4-434D-8CEF-FDBE55F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26F-4B9B-46C5-B00E-E8BE8EB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81C9-FD95-4A68-AE89-5759CEB9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1D18-2E66-476D-85A1-7F26D78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F02-3274-435F-A6E4-304D940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E13-D6BF-488B-95D2-CFBFF5C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F80-805C-4EB1-A686-9388DA0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206E-4A33-48E9-8346-5248E0F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DD84-4D9A-4E98-9250-9FD70BD5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BEAD-9B92-481A-96D6-1BF7DF9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C89-ABA1-4F00-8231-9B297CDA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C89-2668-4978-976E-14F478F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EC1-D803-45B6-A212-48AC7A1A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B3C-2C00-4F83-9C0A-A6D01CA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4F9-A6B2-446D-86B2-28C8D11B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3AC-97C2-47B3-BE27-5E9C5AE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71E-AD80-44E7-810A-237088D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73D-E4AB-4963-84F8-00C33B2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638C-29A0-43C7-92CD-3635BD486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46B-CA8E-4E24-914D-A5C4A663D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«Мы и наше здоровье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 Math"/>
                <a:ea typeface="Cambria Math"/>
              </a:rPr>
              <a:t>(учебник для 3 класса   А.А. Плеша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Сочетай труд и отдых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 организм  как  машина  -может  работать  много  и  долго , но  отдыхать    тоже  необходимо  . А  самое  лучшее  для  человека -  это  правильное   сочетание труда  и  отдых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 устал , надо дать возможность своему организму отдохнуть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сном не играй в подвижные игры , не смотри  телевизор. Обязательно почисть зуб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Спи не менее 8 часов в сутки , иначе ты заснёшь на уроке 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4" name="Picture 2" descr="http://i32.beon.ru/63/91/769163/61/25178961/img_6061667_1855_12.jpeg"/>
          <p:cNvPicPr/>
          <p:nvPr/>
        </p:nvPicPr>
        <p:blipFill>
          <a:blip r:embed="rId1"/>
          <a:stretch/>
        </p:blipFill>
        <p:spPr>
          <a:xfrm>
            <a:off x="1523880" y="1881360"/>
            <a:ext cx="6096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Больше двигайся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 наша  жизнь  проходит  в   движении , а  чем  больше   мы  двигаемся , тем полезнее  это   для  нашего  организма  . Недаром наши  бабушки  и  дедушки  не  ездили  на  машинах ,  а работали   в  огороде  и  в   поле  , зато  были  сильны   и  здоровы . В  наше   время   спорт  помогает     человеку   поддерживать  здоровье  и  форму .  Спорт – это  здоровье . Назовите , пожалуйста , что  образует  опорно – двигательную  сист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ертик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 спорта, использующий ракетку и вол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портивная обу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Вид борьбы в перчат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Игра в мяч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 Что забивают в ворота при игре в хокк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Вид спорта, необходимый при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 Предмет, используемый для кат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асфаль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горизонт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Вид зимне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Игра в мяч с попаданием в корзин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 Игра в мяч на вод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 Предмет для катания с гор зим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 Предмет для ката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http://festival.1september.ru/articles/601992/img1.jpg"/>
          <p:cNvPicPr/>
          <p:nvPr/>
        </p:nvPicPr>
        <p:blipFill>
          <a:blip r:embed="rId1"/>
          <a:stretch/>
        </p:blipFill>
        <p:spPr>
          <a:xfrm>
            <a:off x="380880" y="3657600"/>
            <a:ext cx="4343400" cy="285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g2.board.com.ua/a/2000063562/wm/2-gornolyizhnyie-turyi-slovakiyu-tur-slovakiyu-zima.jpg"/>
          <p:cNvPicPr/>
          <p:nvPr/>
        </p:nvPicPr>
        <p:blipFill>
          <a:blip r:embed="rId2"/>
          <a:stretch/>
        </p:blipFill>
        <p:spPr>
          <a:xfrm>
            <a:off x="4952880" y="1219320"/>
            <a:ext cx="356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ajestic"/>
              </a:rPr>
              <a:t>Подвигайся немного , выполни сам упражнения , показанные на картинке</a:t>
            </a:r>
            <a:endParaRPr b="0" lang="en-US" sz="36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12" name="Picture 2" descr="http://xreferat.ru/image/55/1307990320_11.png"/>
          <p:cNvPicPr/>
          <p:nvPr/>
        </p:nvPicPr>
        <p:blipFill>
          <a:blip r:embed="rId1"/>
          <a:stretch/>
        </p:blipFill>
        <p:spPr>
          <a:xfrm>
            <a:off x="1347840" y="1646280"/>
            <a:ext cx="64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Не  заводи  вредных  привычек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 ,  курение  ,  алкоголь   и   наркотики  -это  не  просто  вредные  привычки , это  настоящие «убийцы  здоровья» .  Все  они  постепенно  убивают  человека .  Предлагаю  просмотреть  подборку   слайдов  только об  одной   вредной   привычке -курении но  я  думаю ,  что  этого  будет  достаточно ,  чтобы  вы   поняли , насколько  она  вред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и предки не знали табака. Он не произрастал в России. Его впервые завёз в страну царь Пётр I. В то время было модным подражать европейцам. А в Европу привезён был табак из Южной Америки Колумбом, открывший этот континент. Табаку приписывалось лечебное свойство. Особенно при простуде и головной боли, но в дальнейшем было установлено его пагубное влияние на организм. К этому времени многие пристрастились к этой вредной привычке и уже не могли остановиться. Табак начал своё победоносное шествие по странам и континентам, унося жизни и здоровье многих поколений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SzPct val="3087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29528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МН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51055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емного истор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1219320" y="380880"/>
            <a:ext cx="548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оссия заним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1-ое место в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572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по количеству курящ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:\Users\Василий\Desktop\no-smoking_resize.jpg"/>
          <p:cNvPicPr/>
          <p:nvPr/>
        </p:nvPicPr>
        <p:blipFill>
          <a:blip r:embed="rId1"/>
          <a:stretch/>
        </p:blipFill>
        <p:spPr>
          <a:xfrm>
            <a:off x="2438280" y="2743200"/>
            <a:ext cx="3357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Majestic"/>
              </a:rPr>
              <a:t>Если  хочешь  быть  здоров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формирование  представления  о  здоровом  образе  жизни , последствиях  вредных  привыче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одолжить разговор с детьми о здоровом  образе  жизни , полезном  питании  ,вредной привычке – куре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учить делать выбор своих  действий , поведения ,  питания и его обоснов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расширять знания учащихся о вреде курения , алкоголя и наркотиков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учить говорить «нет»  «вредному   и  пагубному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Помни основные  правила , если хочешь быть здоров 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380880" y="167652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й чистот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питайс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етай труд и отды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игайс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води вредных  привыче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грусти и не порти настроение друг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991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Majestic"/>
              </a:rPr>
              <a:t>Объясните  смысл этого    изречения  </a:t>
            </a: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евние   люди   говорили 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ньги потерял - ничего не потерял, время потерял  - многое потерял, здоровье потерял –  всё потерял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 u="sng">
                <a:solidFill>
                  <a:srgbClr val="000000"/>
                </a:solidFill>
                <a:uFillTx/>
                <a:latin typeface="Majestic"/>
              </a:rPr>
              <a:t>Соблюдай   чистоту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Чистота  -  залог  здоровья  , а  здоровый  человек  выглядит  и  чувствует  себя  по  особенному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543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d2d8a"/>
                </a:solidFill>
                <a:latin typeface="Majestic"/>
              </a:rPr>
              <a:t>ПОМНИ  !!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1" name="Picture 2" descr="http://im5-tub-ru.yandex.net/i?id=233504730-47-72&amp;n=21"/>
          <p:cNvPicPr/>
          <p:nvPr/>
        </p:nvPicPr>
        <p:blipFill>
          <a:blip r:embed="rId1"/>
          <a:stretch/>
        </p:blipFill>
        <p:spPr>
          <a:xfrm>
            <a:off x="1697040" y="1752480"/>
            <a:ext cx="592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3" name="Picture 2" descr="http://stat20.privet.ru/lr/0b2576ebd99541900e17d6f8087b5169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Majestic"/>
              </a:rPr>
              <a:t>Правильно  питайся 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айся  есть в одно и то же время , не торопясь .Ешь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овощей и фруктов , 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меньш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мучного , сладкого , жирного и жареного . Обязательно пей после приёма пищи .Нельзя  есть  перед сном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http://lariduarte.com/wp-content/uploads/2013/01/fruits-for-a-healthy-life-217509-658x445.jpeg"/>
          <p:cNvPicPr/>
          <p:nvPr/>
        </p:nvPicPr>
        <p:blipFill>
          <a:blip r:embed="rId2"/>
          <a:stretch/>
        </p:blipFill>
        <p:spPr>
          <a:xfrm>
            <a:off x="3886200" y="4343400"/>
            <a:ext cx="353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Выбери  характеристики здорового и больного человека </a:t>
            </a: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асивый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ту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в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Найди ошибку 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лезная  еда                  Вредная п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е огурцы                         Гамбур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 хлеб                               Поп ко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ая  капуста                       Рыбная запек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сяная  каша                          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псы                                        Газированные напи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щ                                          Твор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ь                                       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фир                                        Сухофр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2-04-08T13:41:51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