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4A08-934C-4E95-96BB-7A3E46F6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0F85-1797-4B9F-8B37-07A73F67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CA55-FC0F-40E9-8985-292BC41D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4947-2A91-46EF-86EE-031F059A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32BC-B9AF-415A-96FF-56D15D24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E1E6-ABD1-4BB5-97A5-2EF81984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FCDB-C94C-46B1-B127-24C7E1B2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26A8-71E9-4EB8-953D-83D42ED6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81F9-40C0-4EB3-8FE7-2E6031F1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63DF-BDB9-4250-B335-08756F7E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C056-4C00-415F-BF71-A6A7B2F2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1F5F-7596-461F-B6F4-DAF7FFFA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E336-869F-4040-8652-1E7613B3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805F-CF68-4E1C-BF24-D7FFFC7A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ADD8-D002-44CF-9C27-38BB88B9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F450-2DCA-4FB5-A376-D6A416FC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B4B9-237E-4E54-9294-7DCA83F8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2F2E-5B93-4B2B-A2B5-97E5CD19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BB64-0A36-4905-922B-411FCE67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0D82-AA3C-4F8E-BE59-A2130536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5189-1C69-47ED-B7E3-111F2677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3456-50E4-4F6F-AB22-D5F4A863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880A-737B-4BD1-ABC0-662DBC29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E4C1-8282-4FC2-9054-A80D5841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4825-229A-4B7C-B4E4-494587A6A12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46F5-BF87-408C-A69B-AA9BD6E7854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480" y="3156120"/>
            <a:ext cx="4496040" cy="2997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Garamond"/>
              </a:rPr>
              <a:t>НЕУСПЕШНЫЕ </a:t>
            </a:r>
            <a:br>
              <a:rPr sz="5000"/>
            </a:br>
            <a:r>
              <a:rPr b="1" lang="en-US" sz="5000" spc="-1" strike="noStrike">
                <a:solidFill>
                  <a:srgbClr val="333399"/>
                </a:solidFill>
                <a:latin typeface="Garamond"/>
              </a:rPr>
              <a:t>ОДАРЕННЫЕ ДЕТИ</a:t>
            </a: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343040" y="5486400"/>
            <a:ext cx="4800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рачурина Елена Марсовн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БОУ «Кунашакская СОШ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9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Garamond"/>
              </a:rPr>
              <a:t>Все одаренные и</a:t>
            </a: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Garamond"/>
              </a:rPr>
              <a:t> передовые люди России были есть и будут…</a:t>
            </a:r>
            <a:endParaRPr b="0" lang="en-US" sz="4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426672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едор Михайлович Достоевск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Бес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8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3399"/>
                </a:solidFill>
                <a:latin typeface="Garamond"/>
              </a:rPr>
              <a:t>«Именно талантливые и креативные люди являются теми, кто продвигает прогресс. Но у нас нет самого главного, а именно общенациональной системы поиска и развития талантливых детей и молодежи».</a:t>
            </a:r>
            <a:r>
              <a:rPr b="0" lang="ru-RU" sz="3800" spc="-1" strike="noStrike">
                <a:solidFill>
                  <a:srgbClr val="cc0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04960" y="4647960"/>
            <a:ext cx="510516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митрий Медвед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 </a:t>
            </a:r>
            <a:r>
              <a:rPr b="1" lang="en-US" sz="4200" spc="-1" strike="noStrike">
                <a:solidFill>
                  <a:srgbClr val="333399"/>
                </a:solidFill>
                <a:latin typeface="Garamond"/>
              </a:rPr>
              <a:t>…</a:t>
            </a:r>
            <a:r>
              <a:rPr b="1" lang="en-US" sz="4200" spc="-1" strike="noStrike">
                <a:solidFill>
                  <a:srgbClr val="333399"/>
                </a:solidFill>
                <a:latin typeface="Garamond"/>
              </a:rPr>
              <a:t>выявления и развития способностей обучающихся;</a:t>
            </a:r>
            <a:br>
              <a:rPr sz="4200"/>
            </a:br>
            <a:br>
              <a:rPr sz="4200"/>
            </a:br>
            <a:r>
              <a:rPr b="1" lang="en-US" sz="4200" spc="-1" strike="noStrike">
                <a:solidFill>
                  <a:srgbClr val="333399"/>
                </a:solidFill>
                <a:latin typeface="Garamond"/>
              </a:rPr>
              <a:t> работа с одаренными детьми…</a:t>
            </a: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0" y="4952880"/>
            <a:ext cx="6400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Федеральные государственные образовательные стандарты второго покол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562720" y="297180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792468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Garamond"/>
              </a:rPr>
              <a:t>Константин Эдуардович </a:t>
            </a:r>
            <a:br>
              <a:rPr sz="3800"/>
            </a:br>
            <a:r>
              <a:rPr b="1" lang="en-US" sz="3800" spc="-1" strike="noStrike">
                <a:solidFill>
                  <a:srgbClr val="333399"/>
                </a:solidFill>
                <a:latin typeface="Garamond"/>
              </a:rPr>
              <a:t>                                 Циолковский;</a:t>
            </a:r>
            <a:br>
              <a:rPr sz="3800"/>
            </a:br>
            <a:r>
              <a:rPr b="1" lang="en-US" sz="3800" spc="-1" strike="noStrike">
                <a:solidFill>
                  <a:srgbClr val="333399"/>
                </a:solidFill>
                <a:latin typeface="Garamond"/>
              </a:rPr>
              <a:t>Дмитрий Иванович </a:t>
            </a:r>
            <a:br>
              <a:rPr sz="3800"/>
            </a:br>
            <a:r>
              <a:rPr b="1" lang="en-US" sz="3800" spc="-1" strike="noStrike">
                <a:solidFill>
                  <a:srgbClr val="333399"/>
                </a:solidFill>
                <a:latin typeface="Garamond"/>
              </a:rPr>
              <a:t>                                   Менделеев;</a:t>
            </a:r>
            <a:br>
              <a:rPr sz="3800"/>
            </a:br>
            <a:r>
              <a:rPr b="1" lang="en-US" sz="3800" spc="-1" strike="noStrike">
                <a:solidFill>
                  <a:srgbClr val="333399"/>
                </a:solidFill>
                <a:latin typeface="Garamond"/>
              </a:rPr>
              <a:t>Софья Васильевна</a:t>
            </a:r>
            <a:br>
              <a:rPr sz="3800"/>
            </a:br>
            <a:r>
              <a:rPr b="1" lang="en-US" sz="3800" spc="-1" strike="noStrike">
                <a:solidFill>
                  <a:srgbClr val="333399"/>
                </a:solidFill>
                <a:latin typeface="Garamond"/>
              </a:rPr>
              <a:t>                                 Ковалевская;</a:t>
            </a:r>
            <a:br>
              <a:rPr sz="3800"/>
            </a:br>
            <a:r>
              <a:rPr b="1" lang="en-US" sz="3800" spc="-1" strike="noStrike">
                <a:solidFill>
                  <a:srgbClr val="333399"/>
                </a:solidFill>
                <a:latin typeface="Garamond"/>
              </a:rPr>
              <a:t>Александр Степанович </a:t>
            </a:r>
            <a:br>
              <a:rPr sz="3800"/>
            </a:br>
            <a:r>
              <a:rPr b="1" lang="en-US" sz="3800" spc="-1" strike="noStrike">
                <a:solidFill>
                  <a:srgbClr val="333399"/>
                </a:solidFill>
                <a:latin typeface="Garamond"/>
              </a:rPr>
              <a:t>                                             Попов;</a:t>
            </a:r>
            <a:br>
              <a:rPr sz="3800"/>
            </a:br>
            <a:r>
              <a:rPr b="1" lang="en-US" sz="3800" spc="-1" strike="noStrike">
                <a:solidFill>
                  <a:srgbClr val="333399"/>
                </a:solidFill>
                <a:latin typeface="Garamond"/>
              </a:rPr>
              <a:t>Сергей Петрович </a:t>
            </a:r>
            <a:br>
              <a:rPr sz="3800"/>
            </a:br>
            <a:r>
              <a:rPr b="1" lang="en-US" sz="3800" spc="-1" strike="noStrike">
                <a:solidFill>
                  <a:srgbClr val="333399"/>
                </a:solidFill>
                <a:latin typeface="Garamond"/>
              </a:rPr>
              <a:t>                                      Боткин...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Garamond"/>
              </a:rPr>
              <a:t>60-65 %</a:t>
            </a:r>
            <a:r>
              <a:rPr b="0" lang="en-US" sz="6000" spc="-1" strike="noStrike">
                <a:solidFill>
                  <a:srgbClr val="333399"/>
                </a:solidFill>
                <a:latin typeface="Garamond"/>
              </a:rPr>
              <a:t> одаренных детей младшего школьного возраста;</a:t>
            </a:r>
            <a:br>
              <a:rPr sz="6000"/>
            </a:br>
            <a:endParaRPr b="0" lang="en-US" sz="60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14600" y="2946240"/>
            <a:ext cx="62676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6095880" cy="3567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743200" y="2895480"/>
            <a:ext cx="6095880" cy="35672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Garamond"/>
              </a:rPr>
              <a:t>60-65 %</a:t>
            </a:r>
            <a:r>
              <a:rPr b="0" lang="en-US" sz="6000" spc="-1" strike="noStrike">
                <a:solidFill>
                  <a:srgbClr val="333399"/>
                </a:solidFill>
                <a:latin typeface="Garamond"/>
              </a:rPr>
              <a:t> одаренных детей младшего школьного возраста;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333399"/>
                </a:solidFill>
                <a:latin typeface="Garamond"/>
              </a:rPr>
              <a:t>  </a:t>
            </a:r>
            <a:br>
              <a:rPr sz="6000"/>
            </a:br>
            <a:r>
              <a:rPr b="0" lang="en-US" sz="6000" spc="-1" strike="noStrike">
                <a:solidFill>
                  <a:srgbClr val="cc0000"/>
                </a:solidFill>
                <a:latin typeface="Garamond"/>
              </a:rPr>
              <a:t>ОДИН</a:t>
            </a:r>
            <a:r>
              <a:rPr b="0" lang="en-US" sz="6000" spc="-1" strike="noStrike">
                <a:solidFill>
                  <a:srgbClr val="333399"/>
                </a:solidFill>
                <a:latin typeface="Garamond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на    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100 000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 !</a:t>
            </a:r>
            <a:endParaRPr b="0" lang="en-US" sz="6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4343040"/>
            <a:ext cx="403884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648320" y="4266720"/>
            <a:ext cx="403848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«Ребенок в семье не только большая радость, но и большая ответственность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ристотель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15:55:12Z</dcterms:created>
  <dc:creator>леново</dc:creator>
  <dc:description/>
  <dc:language>en-US</dc:language>
  <cp:lastModifiedBy>леново</cp:lastModifiedBy>
  <dcterms:modified xsi:type="dcterms:W3CDTF">2022-04-10T07:13:4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