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B3E-C268-4E86-8F47-4BDB69BF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96C-91E0-4C8C-9CE3-AC7A39FF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FD7F-5EA3-4384-A151-EC02278F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3D7-0949-404D-96B9-8F950239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0191-2108-4D41-BB28-CE79341F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4672-6924-456C-A759-CD63BDF4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A066-1C2A-47DC-8767-9226EEDC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41F8-13A8-4C80-BB58-5954CBD3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DED9-88CF-4298-A7BE-7BA074F5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79C0-F856-4F4D-B451-C0F62ADA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A67B-5060-4F9E-A3A0-E1794989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0F7-B1B2-4164-A823-AF681ECF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B6EA-33B4-436C-ADE1-A933B278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AB06-1563-43D2-B1FB-6E71823F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E0B0-FBD5-4EF9-B024-9514DB07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C6C4-97A9-4952-A7F4-9BA7DF9A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212F-09D4-439F-B13A-41BF89B7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003-B84C-4A3B-8581-C39D9C72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CD9F-6DEA-40FC-B250-B94AC0B0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7C8-C190-476F-9844-54487BC8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474-F10F-4898-B172-17DC2E0B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F97-9907-4208-9F26-83D76459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58C-6F31-44E5-B08B-02B089FA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CCA-4FCA-4FD7-9831-AE89A6A9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3771-F12A-4605-A873-4797121CA2D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B58A-C9AA-4F4B-966A-C7F818F3AF6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3156120"/>
            <a:ext cx="4496040" cy="2997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Garamond"/>
              </a:rPr>
              <a:t>НЕУСПЕШНЫЕ </a:t>
            </a:r>
            <a:br>
              <a:rPr sz="5000"/>
            </a:br>
            <a:r>
              <a:rPr b="1" lang="en-US" sz="5000" spc="-1" strike="noStrike">
                <a:solidFill>
                  <a:srgbClr val="333399"/>
                </a:solidFill>
                <a:latin typeface="Garamond"/>
              </a:rPr>
              <a:t>ОДАРЕННЫЕ ДЕТИ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343040" y="548640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ачурина Елена Марсовн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БОУ «Кунашакская СОШ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Garamond"/>
              </a:rPr>
              <a:t>Все одаренные и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Garamond"/>
              </a:rPr>
              <a:t> передовые люди России были есть и будут…</a:t>
            </a:r>
            <a:endParaRPr b="0" lang="en-US" sz="4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едор Михайлович Достоевск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Бес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8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Garamond"/>
              </a:rPr>
              <a:t>«Именно талантливые и креативные люди являются теми, кто продвигает прогресс. Но у нас нет самого главного, а именно общенациональной системы поиска и развития талантливых детей и молодежи».</a:t>
            </a:r>
            <a:r>
              <a:rPr b="0" lang="ru-RU" sz="3800" spc="-1" strike="noStrike">
                <a:solidFill>
                  <a:srgbClr val="cc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04960" y="4647960"/>
            <a:ext cx="510516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митрий Медвед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…</a:t>
            </a: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выявления и развития способностей обучающихся;</a:t>
            </a:r>
            <a:br>
              <a:rPr sz="4200"/>
            </a:br>
            <a:br>
              <a:rPr sz="4200"/>
            </a:b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 работа с одаренными детьми…</a:t>
            </a: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0" y="4952880"/>
            <a:ext cx="6400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Федеральные государственные образовательные стандарты второго поко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792468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Константин Эдуардович 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                                 Циолковский;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Дмитрий Иванович 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                                   Менделеев;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Софья Васильевна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                                 Ковалевская;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Александр Степанович 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                                             Попов;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Сергей Петрович 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                                      Боткин...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Garamond"/>
              </a:rPr>
              <a:t>60-65 %</a:t>
            </a:r>
            <a:r>
              <a:rPr b="0" lang="en-US" sz="6000" spc="-1" strike="noStrike">
                <a:solidFill>
                  <a:srgbClr val="333399"/>
                </a:solidFill>
                <a:latin typeface="Garamond"/>
              </a:rPr>
              <a:t> одаренных детей младшего школьного возраста;</a:t>
            </a:r>
            <a:br>
              <a:rPr sz="6000"/>
            </a:br>
            <a:endParaRPr b="0" lang="en-US" sz="60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14600" y="2946240"/>
            <a:ext cx="62676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6095880" cy="3567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6095880" cy="3567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Garamond"/>
              </a:rPr>
              <a:t>60-65 %</a:t>
            </a:r>
            <a:r>
              <a:rPr b="0" lang="en-US" sz="6000" spc="-1" strike="noStrike">
                <a:solidFill>
                  <a:srgbClr val="333399"/>
                </a:solidFill>
                <a:latin typeface="Garamond"/>
              </a:rPr>
              <a:t> одаренных детей младшего школьного возраста;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333399"/>
                </a:solidFill>
                <a:latin typeface="Garamond"/>
              </a:rPr>
              <a:t>  </a:t>
            </a:r>
            <a:br>
              <a:rPr sz="6000"/>
            </a:br>
            <a:r>
              <a:rPr b="0" lang="en-US" sz="6000" spc="-1" strike="noStrike">
                <a:solidFill>
                  <a:srgbClr val="cc0000"/>
                </a:solidFill>
                <a:latin typeface="Garamond"/>
              </a:rPr>
              <a:t>ОДИН</a:t>
            </a:r>
            <a:r>
              <a:rPr b="0" lang="en-US" sz="6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на    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100 000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 !</a:t>
            </a:r>
            <a:endParaRPr b="0" lang="en-US" sz="6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4343040"/>
            <a:ext cx="403884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48320" y="4266720"/>
            <a:ext cx="40384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«Ребенок в семье не только большая радость, но и большая ответственност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ристотель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5:55:12Z</dcterms:created>
  <dc:creator>леново</dc:creator>
  <dc:description/>
  <dc:language>en-US</dc:language>
  <cp:lastModifiedBy>леново</cp:lastModifiedBy>
  <dcterms:modified xsi:type="dcterms:W3CDTF">2022-04-10T07:13:4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