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408-1ECF-4E2B-86C9-C7F775E8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E58-B418-4343-A1A3-922764FA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263-FF83-43AA-B7C5-E4526EF8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58B-63F8-4CDC-A530-F545F63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314-E58F-478D-993F-5A881A8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6CF-5F0B-4CFB-9B42-D73BF959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E2A-C0C3-4397-9330-1253D739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67A-5115-47C0-93F4-6961DBC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50A-E062-4214-9BCA-D998CC1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E46-F537-4FBC-9F0E-7C66BB2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5B1-C7F1-457D-B0D9-C9B4BA2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4CC-B49A-4618-B3CD-8B2F966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E64-1E1F-497B-B514-B01D07EB8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359000" y="208080"/>
            <a:ext cx="6456240" cy="792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Хозяин\Downloads\2022-04-10_19-33-51.png"/>
          <p:cNvPicPr/>
          <p:nvPr/>
        </p:nvPicPr>
        <p:blipFill>
          <a:blip r:embed="rId2"/>
          <a:stretch/>
        </p:blipFill>
        <p:spPr>
          <a:xfrm>
            <a:off x="2050920" y="1214280"/>
            <a:ext cx="1500480" cy="127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4140360" y="1352520"/>
            <a:ext cx="482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расуйся, град Петров, и стой,                                                                                                  Непоколебимо как Россия…»                                                                                                                        .               А.С. Пушкин «Медный всадни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H:\emblema_1.jpg"/>
          <p:cNvPicPr/>
          <p:nvPr/>
        </p:nvPicPr>
        <p:blipFill>
          <a:blip r:embed="rId3"/>
          <a:stretch/>
        </p:blipFill>
        <p:spPr>
          <a:xfrm>
            <a:off x="8028000" y="4724280"/>
            <a:ext cx="812880" cy="7081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357200" y="2828880"/>
            <a:ext cx="51944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. Д. Кузиева  </a:t>
            </a:r>
            <a:br>
              <a:rPr sz="1400"/>
            </a:b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атель ГПД</a:t>
            </a:r>
            <a:br>
              <a:rPr sz="1400"/>
            </a:b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кола 207 Центрального района</a:t>
            </a:r>
            <a:br>
              <a:rPr sz="1400"/>
            </a:b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. Санкт-Петербург</a:t>
            </a: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оительство   город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52908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Calibri"/>
              </a:rPr>
              <a:t>Цель и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Times New Roman"/>
                <a:ea typeface="Calibri"/>
              </a:rPr>
              <a:t>Развитие интеллектуальных способности обучающихся, их творческого потенциала, расширение кругозора.</a:t>
            </a:r>
            <a:br>
              <a:rPr sz="1400"/>
            </a:br>
            <a:r>
              <a:rPr b="1" lang="ru-RU" sz="1400" spc="-1" strike="noStrike">
                <a:solidFill>
                  <a:srgbClr val="984807"/>
                </a:solidFill>
                <a:latin typeface="Times New Roman"/>
                <a:ea typeface="Calibri"/>
              </a:rPr>
              <a:t>Нравственно-патриотическое воспитание школьников, знакомство с историей Санкт-Петербурга и его достопримечательностями через игровую деятельнос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:\20.03.2022 Доработать\9 апрель\2022-04-06_23-22-18.png"/>
          <p:cNvPicPr/>
          <p:nvPr/>
        </p:nvPicPr>
        <p:blipFill>
          <a:blip r:embed="rId1"/>
          <a:stretch/>
        </p:blipFill>
        <p:spPr>
          <a:xfrm>
            <a:off x="4643280" y="90792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745160" y="2708280"/>
            <a:ext cx="2058840" cy="129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28800" y="2727360"/>
            <a:ext cx="7858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928800" y="2459160"/>
            <a:ext cx="54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700360" y="-100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928800" y="750960"/>
            <a:ext cx="7858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 древних времён здесь, по Неве, проходил путь "из варяг в греки", стратегически эта территория имела чрезвычайно выгодное положение. </a:t>
            </a:r>
            <a:br>
              <a:rPr sz="1400"/>
            </a:br>
            <a:r>
              <a:rPr b="1" lang="ru-RU" sz="1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ля утверждения на берегах Невы 27 мая 1703 года и был основан Санкт-Петербург. Отсюда русский царь Пётр I "прорубил окно в Европу", страна получила выход в Балтийское море. Начался город с крепости "Санкт-Петербург", называемой сейчас Петропавловской, по находящемуся при ней собору . Вокруг этой крепости и начал строиться гор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1763640" y="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Строительство   город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076480" y="2567160"/>
            <a:ext cx="20494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4838760" y="2459160"/>
            <a:ext cx="2022480" cy="1546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511164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050920" y="2744640"/>
            <a:ext cx="5689800" cy="61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826920" y="3051000"/>
            <a:ext cx="3243600" cy="151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5694480" y="3143160"/>
            <a:ext cx="1946160" cy="1440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258920" y="4437000"/>
            <a:ext cx="66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 основания Петербурга именовался Янниссаари (фин. jaennissaari — заячий остров) или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ст-гольм (швед, lystholni — веселый остр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042920" y="2708280"/>
            <a:ext cx="69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sikkasaari»,что значит «Телячий остров». Известны также другие финские названия - «Хирвисаари» (hirvisaari) - «Лосиный остр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532764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888840" y="981000"/>
            <a:ext cx="3481560" cy="155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5894280" y="954000"/>
            <a:ext cx="1773360" cy="12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4"/>
          <a:stretch/>
        </p:blipFill>
        <p:spPr>
          <a:xfrm>
            <a:off x="2376360" y="3213000"/>
            <a:ext cx="438948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5"/>
          <a:stretch/>
        </p:blipFill>
        <p:spPr>
          <a:xfrm>
            <a:off x="914400" y="3886200"/>
            <a:ext cx="3852720" cy="1990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4767120" y="3886200"/>
            <a:ext cx="437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ывался по фински — Койвусаари (березовый остров) и русское — Березовый остров. В начале XVIII в. остров стал называться Городским Тогда же существовало и другое название — Троицкий остров (по находившемуся на нем собору Св. Троицы). В 30-х гг. XVIII в. Городской остров получил наименование Петербургского по имени нового города, центром которого он был в то время. В 1914 г. остров был переименован в Петроград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05:20:32Z</dcterms:created>
  <dc:creator>Ирина</dc:creator>
  <dc:description/>
  <dc:language>en-US</dc:language>
  <cp:lastModifiedBy>Хозяин</cp:lastModifiedBy>
  <dcterms:modified xsi:type="dcterms:W3CDTF">2022-04-10T20:29:21Z</dcterms:modified>
  <cp:revision>75</cp:revision>
  <dc:subject/>
  <dc:title>Пётр 1 30 мая (9 июня) 1672 года — 28 января (8 февраля) 1725 года</dc:title>
</cp:coreProperties>
</file>