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gif" ContentType="image/gif"/>
  <Override PartName="/ppt/media/image2.jpeg" ContentType="image/jpeg"/>
  <Override PartName="/ppt/media/image16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52F-AE89-4EEF-A49F-794527AC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5D4-1393-4E81-B926-263F49C7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E40-C624-41D1-94FD-917045EE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FA5-D3EB-4A0C-B987-C342AF9E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E7F3-26CD-424F-932C-49521CCF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0718-A38C-46B7-8E65-26542541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D20D-B11A-4A7A-91AF-DB5AFEB9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6514-5DBB-4FEF-BFA4-5661A62B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028E-267B-4C60-8E07-01057DFD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CA96-E0B1-4D3C-AC1B-53EFB562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821A-EA67-4E33-A49C-81AD046D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3F5-3FD0-4C69-BD19-9FC2C46B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3B95-EED0-44C7-8361-F792A9CD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8E4A-C43C-4D68-9314-BB91E488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F7A6-CCF2-45F2-A8ED-DABF3AB1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3C73-A433-43AF-9684-0A0A29C0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68FC-49C7-49BE-8696-CFC08DB3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C7624-8386-4BDB-B448-0801AB8E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7728-7051-4048-9E8E-740C2407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E250-F19C-41BB-A7F2-4DA201BC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4494-1652-4917-830D-1361DF8C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BB77-CE80-4B8F-997A-FDDB9745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0EE-A25E-4848-9788-07760B1F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ABEB-47A4-4066-9995-87687A94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4B9F-6467-4EAB-8BD0-4C7EB96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D3CA-B865-4CBF-B405-325FB86F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8C20-2274-4362-9313-4C62D59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FEA3B-D210-4845-AB9B-B6FE6394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9F01-A6EE-46CB-9E0B-2DD3CB7B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F775C-5BBD-4E4D-86BC-89302649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344F9-65FC-4EAE-B147-47F5122E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9580-92E3-4B07-A8F6-71AC6891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F023-DA4C-4F0F-A8C3-735D41FB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BE7-6DA3-4188-902E-B3736333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26B8-5230-472B-B295-C056B5A7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4BCE-2E44-4714-868A-8F406E5D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26D2-D594-4E10-AA72-E64D168D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961B-A3BA-44AA-BE20-1EE3157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664A-CE53-40F6-A8DC-5222487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518B-659A-435F-9C3B-A4DFFE86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ED95-FC2A-458A-B17F-DB4FCB58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F327-D9FD-4433-8F5C-1074E24E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FBB7A-B75F-4BBF-A592-A33F9024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3D1-31AA-41DE-922A-2506C68D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6F7-4A20-45B0-9A26-0BB5976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199-B52D-472F-A5DE-63858B5D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8B5-AB63-44BC-91F0-523BECF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B7D-78F7-4857-8B08-EB26B4B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FEA9-F16B-4D4F-A959-C787FAC7927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8D75-40CF-41BB-B8E3-2BB2C33288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6EE1-40A9-4D6A-A839-C878306C0DF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3280-A552-4413-B991-C7CF9436F0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0920" y="1197000"/>
            <a:ext cx="48960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600" spc="-1" strike="noStrike">
                <a:solidFill>
                  <a:srgbClr val="4f6228"/>
                </a:solidFill>
                <a:latin typeface="Calibri"/>
              </a:rPr>
              <a:t>Веселый</a:t>
            </a:r>
            <a:br>
              <a:rPr sz="9600"/>
            </a:br>
            <a:r>
              <a:rPr b="1" i="1" lang="uk-UA" sz="9600" spc="-1" strike="noStrike">
                <a:solidFill>
                  <a:srgbClr val="4f6228"/>
                </a:solidFill>
                <a:latin typeface="Calibri"/>
              </a:rPr>
              <a:t>счет</a:t>
            </a:r>
            <a:br>
              <a:rPr sz="4300"/>
            </a:br>
            <a:endParaRPr b="0" lang="en-US" sz="96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15880" y="404640"/>
            <a:ext cx="8051760" cy="5977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1028880" y="3081240"/>
            <a:ext cx="4032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0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Придумай задачку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85" name="Пятно 2 3"/>
          <p:cNvSpPr/>
          <p:nvPr/>
        </p:nvSpPr>
        <p:spPr>
          <a:xfrm>
            <a:off x="782640" y="1484280"/>
            <a:ext cx="3240000" cy="252108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3+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ятно 2 9"/>
          <p:cNvSpPr/>
          <p:nvPr/>
        </p:nvSpPr>
        <p:spPr>
          <a:xfrm>
            <a:off x="4175280" y="1197000"/>
            <a:ext cx="3240000" cy="251928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7-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ятно 2 10"/>
          <p:cNvSpPr/>
          <p:nvPr/>
        </p:nvSpPr>
        <p:spPr>
          <a:xfrm>
            <a:off x="5148360" y="3141720"/>
            <a:ext cx="3240000" cy="251928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6+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ятно 2 11"/>
          <p:cNvSpPr/>
          <p:nvPr/>
        </p:nvSpPr>
        <p:spPr>
          <a:xfrm>
            <a:off x="1619280" y="3573360"/>
            <a:ext cx="3240000" cy="25196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8-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Посади зайку на место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4537080" cy="453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Users\Lilechek\Desktop\2122286_html_29c30983.png"/>
          <p:cNvPicPr/>
          <p:nvPr/>
        </p:nvPicPr>
        <p:blipFill>
          <a:blip r:embed="rId2"/>
          <a:stretch/>
        </p:blipFill>
        <p:spPr>
          <a:xfrm>
            <a:off x="5076720" y="1916280"/>
            <a:ext cx="37339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600" y="28692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Задачка на смекалку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2360" cy="504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2251080"/>
            <a:ext cx="18288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258920" y="1190520"/>
            <a:ext cx="6662880" cy="4908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28692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Задачка на смекалку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1803240" y="3284640"/>
            <a:ext cx="18288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4600" y="28692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Задачка на смекалку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9" name="Пятно 2 1"/>
          <p:cNvSpPr/>
          <p:nvPr/>
        </p:nvSpPr>
        <p:spPr>
          <a:xfrm>
            <a:off x="5707080" y="1673280"/>
            <a:ext cx="1800360" cy="1079280"/>
          </a:xfrm>
          <a:prstGeom prst="irregularSeal2">
            <a:avLst/>
          </a:prstGeom>
          <a:solidFill>
            <a:srgbClr val="4f6228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Lilechek\Desktop\oschpar3.png"/>
          <p:cNvPicPr/>
          <p:nvPr/>
        </p:nvPicPr>
        <p:blipFill>
          <a:blip r:embed="rId1"/>
          <a:stretch/>
        </p:blipFill>
        <p:spPr>
          <a:xfrm>
            <a:off x="2860560" y="1208160"/>
            <a:ext cx="26179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280" y="105264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считали и устал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жно все мы тихо встал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чками похлопали – раз, два, тр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жками потопали – раз, два, т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ше руки! Шире плечи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, два, три! Дыши ровней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ли, встали, встали, сел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уг друга не задел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немножко отдохн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опять считать начнё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1" descr="C:\Users\Lilechek\Desktop\sun.png"/>
          <p:cNvPicPr/>
          <p:nvPr/>
        </p:nvPicPr>
        <p:blipFill>
          <a:blip r:embed="rId1"/>
          <a:stretch/>
        </p:blipFill>
        <p:spPr>
          <a:xfrm>
            <a:off x="6405480" y="907920"/>
            <a:ext cx="25146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1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Сравните цифры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05" name="Прямоугольник 1"/>
          <p:cNvSpPr/>
          <p:nvPr/>
        </p:nvSpPr>
        <p:spPr>
          <a:xfrm>
            <a:off x="3254400" y="1287360"/>
            <a:ext cx="4608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   7                      6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   5                      7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   5                      4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   6                      3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   3                      8    6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   4                      6    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   4                      2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   3                      3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   7                      4   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C:\Users\Lilechek\Desktop\109607633_SMAYLIK_DUMAET.gif"/>
          <p:cNvPicPr/>
          <p:nvPr/>
        </p:nvPicPr>
        <p:blipFill>
          <a:blip r:embed="rId1"/>
          <a:stretch/>
        </p:blipFill>
        <p:spPr>
          <a:xfrm>
            <a:off x="0" y="2637000"/>
            <a:ext cx="2981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67840"/>
            <a:ext cx="7848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Соедини по точкам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140360" y="1125360"/>
            <a:ext cx="3384360" cy="4197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Users\Lilechek\Desktop\689941008.gif"/>
          <p:cNvPicPr/>
          <p:nvPr/>
        </p:nvPicPr>
        <p:blipFill>
          <a:blip r:embed="rId2"/>
          <a:stretch/>
        </p:blipFill>
        <p:spPr>
          <a:xfrm>
            <a:off x="1116000" y="955800"/>
            <a:ext cx="3672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Найди лишнее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55640" y="1700280"/>
          <a:ext cx="7672320" cy="2378160"/>
        </p:xfrm>
        <a:graphic>
          <a:graphicData uri="http://schemas.openxmlformats.org/drawingml/2006/table">
            <a:tbl>
              <a:tblPr/>
              <a:tblGrid>
                <a:gridCol w="3672000"/>
                <a:gridCol w="40003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има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сна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558720" y="333360"/>
            <a:ext cx="797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549360"/>
            <a:ext cx="78879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ль занят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математических способностей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Учить составлять и решать простые арифметические задачи на сложение и вычитание чисел в пределах 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пражнять в счёте в пределах 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чить называть соседей числа, сравнивать два чис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Закреплять умение ориентироваться на плоском простран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Развивать внимание, память, мыш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Воспитывать самоконтроль и самостоятельность при выполнении зад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10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Найди лишнее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55640" y="1700280"/>
          <a:ext cx="7672320" cy="2378160"/>
        </p:xfrm>
        <a:graphic>
          <a:graphicData uri="http://schemas.openxmlformats.org/drawingml/2006/table">
            <a:tbl>
              <a:tblPr/>
              <a:tblGrid>
                <a:gridCol w="3672000"/>
                <a:gridCol w="40003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абр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рел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ен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Найди лишнее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55640" y="1700280"/>
          <a:ext cx="7672320" cy="2378160"/>
        </p:xfrm>
        <a:graphic>
          <a:graphicData uri="http://schemas.openxmlformats.org/drawingml/2006/table">
            <a:tbl>
              <a:tblPr/>
              <a:tblGrid>
                <a:gridCol w="3672000"/>
                <a:gridCol w="40003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има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сна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Найди лишнее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1700280"/>
          <a:ext cx="7672320" cy="2378160"/>
        </p:xfrm>
        <a:graphic>
          <a:graphicData uri="http://schemas.openxmlformats.org/drawingml/2006/table">
            <a:tbl>
              <a:tblPr/>
              <a:tblGrid>
                <a:gridCol w="3672000"/>
                <a:gridCol w="40003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ем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р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71320" y="128556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колько месяцев в г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(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зимние месяц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(декабрь, январь, февра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какого месяца начинается год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(с январ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канчивается год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(декабре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Быстро отвечайте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320" y="128556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дней в неде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(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дни недели, начиная со среды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(четверг, пятница, суббота, воскресень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ется седьмой день нед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(воскресень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Быстро отвечайте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12640"/>
            <a:ext cx="800100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понедельник я купался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А во вторник – рисовал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среду долго умывался,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А в четверг в футбол играл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пятницу я прыгал, бегал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чень долго танцевал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А в субботу, воскресенье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Целый день я отдыхал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C:\Users\Lilechek\Desktop\sun.png"/>
          <p:cNvPicPr/>
          <p:nvPr/>
        </p:nvPicPr>
        <p:blipFill>
          <a:blip r:embed="rId1"/>
          <a:stretch/>
        </p:blipFill>
        <p:spPr>
          <a:xfrm>
            <a:off x="5905440" y="1413000"/>
            <a:ext cx="2541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6:49:08Z</dcterms:created>
  <dc:creator>Ozverin</dc:creator>
  <dc:description/>
  <dc:language>en-US</dc:language>
  <cp:lastModifiedBy>RePack by Diakov</cp:lastModifiedBy>
  <dcterms:modified xsi:type="dcterms:W3CDTF">2022-04-10T12:28:17Z</dcterms:modified>
  <cp:revision>456</cp:revision>
  <dc:subject/>
  <dc:title>Слайд 1</dc:title>
</cp:coreProperties>
</file>