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E6E-46CC-4DED-978A-1F347331BA5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705C-AAD6-4125-8ADC-AD48CD7FB93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CDF-787A-4C21-B2E0-084609DB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43B-706F-41AB-BADD-ADE00B9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131-A372-42B3-BF29-079ACDB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AF6-19EE-45C5-802B-96A08B64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FB7-73DC-4071-AABC-03FDA3B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3DF-7047-45D6-9600-380DD486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25E-4A1B-4DA8-A382-AAF2DBC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813-970B-4E78-8CEC-5789E82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27F-FA0E-48CD-BDAB-189FCA2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5FE-AA58-4F69-A0F9-0D0F14B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96C-7516-4848-BC8C-B316CC3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857-3232-4009-85DE-CBDA8FA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82A4-391B-493A-961D-094E350B7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92360" y="2967120"/>
            <a:ext cx="6062400" cy="3436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2"/>
          <a:stretch/>
        </p:blipFill>
        <p:spPr>
          <a:xfrm>
            <a:off x="1117440" y="1968480"/>
            <a:ext cx="720756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0" y="317520"/>
            <a:ext cx="91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резентация к интегрированному уроку окружающего мира и технолог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3 класс УМК «Школа России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76720" y="1600200"/>
            <a:ext cx="54100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ройте учебник на стр.30-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те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животные навсегда исчезли с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4360" y="1695600"/>
            <a:ext cx="1873080" cy="24573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7b0f"/>
                </a:solidFill>
                <a:latin typeface="comic sans ms"/>
              </a:rPr>
              <a:t>Работа по учеб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Text Box 11"/>
          <p:cNvGrpSpPr/>
          <p:nvPr/>
        </p:nvGrpSpPr>
        <p:grpSpPr>
          <a:xfrm>
            <a:off x="2193840" y="774720"/>
            <a:ext cx="4756320" cy="639720"/>
            <a:chOff x="2193840" y="774720"/>
            <a:chExt cx="4756320" cy="639720"/>
          </a:xfrm>
        </p:grpSpPr>
        <p:pic>
          <p:nvPicPr>
            <p:cNvPr id="74" name="Text Box 11" descr=""/>
            <p:cNvPicPr/>
            <p:nvPr/>
          </p:nvPicPr>
          <p:blipFill>
            <a:blip r:embed="rId1"/>
            <a:stretch/>
          </p:blipFill>
          <p:spPr>
            <a:xfrm>
              <a:off x="2193840" y="774720"/>
              <a:ext cx="4756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224080" y="801720"/>
              <a:ext cx="46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Охрана природ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Прямоугольник 12"/>
          <p:cNvSpPr/>
          <p:nvPr/>
        </p:nvSpPr>
        <p:spPr>
          <a:xfrm>
            <a:off x="1476360" y="1979640"/>
            <a:ext cx="2843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повед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4489560" y="1989000"/>
            <a:ext cx="408600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циональны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р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2987280" y="1413000"/>
            <a:ext cx="4680" cy="461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5800680" y="1413000"/>
            <a:ext cx="0" cy="461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Text Box 11"/>
          <p:cNvGrpSpPr/>
          <p:nvPr/>
        </p:nvGrpSpPr>
        <p:grpSpPr>
          <a:xfrm>
            <a:off x="554040" y="2530440"/>
            <a:ext cx="3639960" cy="3784680"/>
            <a:chOff x="554040" y="2530440"/>
            <a:chExt cx="3639960" cy="3784680"/>
          </a:xfrm>
        </p:grpSpPr>
        <p:pic>
          <p:nvPicPr>
            <p:cNvPr id="81" name="Text Box 11" descr=""/>
            <p:cNvPicPr/>
            <p:nvPr/>
          </p:nvPicPr>
          <p:blipFill>
            <a:blip r:embed="rId2"/>
            <a:stretch/>
          </p:blipFill>
          <p:spPr>
            <a:xfrm>
              <a:off x="554040" y="2530440"/>
              <a:ext cx="3639960" cy="37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68440" y="2546280"/>
              <a:ext cx="361152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Участки земли,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где вся природа находится под строгой охраной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Закрыты для посещени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туристов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Text Box 11"/>
          <p:cNvGrpSpPr/>
          <p:nvPr/>
        </p:nvGrpSpPr>
        <p:grpSpPr>
          <a:xfrm>
            <a:off x="4224240" y="2779560"/>
            <a:ext cx="4170600" cy="3097800"/>
            <a:chOff x="4224240" y="2779560"/>
            <a:chExt cx="4170600" cy="3097800"/>
          </a:xfrm>
        </p:grpSpPr>
        <p:pic>
          <p:nvPicPr>
            <p:cNvPr id="84" name="Text Box 11" descr=""/>
            <p:cNvPicPr/>
            <p:nvPr/>
          </p:nvPicPr>
          <p:blipFill>
            <a:blip r:embed="rId3"/>
            <a:stretch/>
          </p:blipFill>
          <p:spPr>
            <a:xfrm>
              <a:off x="4224240" y="2779560"/>
              <a:ext cx="4170600" cy="22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080" y="2797200"/>
              <a:ext cx="41371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Это природные музеи под открытым небом.Проводятся экскурсии для всех любителей природы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клип 2.mk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0244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06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 «Мая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765000"/>
            <a:ext cx="7786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436e6"/>
                </a:solidFill>
                <a:uFillTx/>
                <a:latin typeface="Arial"/>
              </a:rPr>
              <a:t>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"/>
              </a:rPr>
              <a:t>Линейка, карандаш, нож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"/>
              </a:rPr>
              <a:t>Белая бумага, к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"/>
              </a:rPr>
              <a:t>Пластиковые и бумажные стакан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"/>
              </a:rPr>
              <a:t>Светильник - све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258920" y="1484280"/>
            <a:ext cx="72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рьте и вырежьте две полоски  шириной 2 с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клейте бумажный стаканчик поперёк белыми полоск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зрачный пластиковый стаканчик разрежьте по первой линии перфо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ерите конструкц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419280" y="1429920"/>
            <a:ext cx="526716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36e6"/>
                </a:solidFill>
                <a:latin typeface="Arial Black"/>
                <a:ea typeface="Calibri"/>
              </a:rPr>
              <a:t>Окружающий нас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36e6"/>
                </a:solidFill>
                <a:latin typeface="Arial Black"/>
                <a:ea typeface="Calibri"/>
              </a:rPr>
              <a:t>Интересно позн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36e6"/>
                </a:solidFill>
                <a:latin typeface="Arial Black"/>
                <a:ea typeface="Calibri"/>
              </a:rPr>
              <a:t>Его тайны и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36e6"/>
                </a:solidFill>
                <a:latin typeface="Arial Black"/>
                <a:ea typeface="Calibri"/>
              </a:rPr>
              <a:t>Мы готовы разг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"/>
          <p:cNvPicPr/>
          <p:nvPr/>
        </p:nvPicPr>
        <p:blipFill>
          <a:blip r:embed="rId1"/>
          <a:stretch/>
        </p:blipFill>
        <p:spPr>
          <a:xfrm>
            <a:off x="-19080" y="3924360"/>
            <a:ext cx="3914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клип 1.mkv" descr="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05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ма урока: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Природа в опаснос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213336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почему природа в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аны наносит челове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сделать, для сохранения природы нашей план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987280" y="2060280"/>
            <a:ext cx="3035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436e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 Black"/>
              </a:rPr>
              <a:t>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436e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 Black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436e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 Black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b436e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36e6"/>
                </a:solidFill>
                <a:latin typeface="Arial Black"/>
              </a:rPr>
              <a:t>Возду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0560" y="333360"/>
            <a:ext cx="8713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omic sans ms"/>
              </a:rPr>
              <a:t>— </a:t>
            </a:r>
            <a:r>
              <a:rPr b="0" lang="ru-RU" sz="3200" spc="-1" strike="noStrike">
                <a:solidFill>
                  <a:srgbClr val="323232"/>
                </a:solidFill>
                <a:latin typeface="comic sans ms"/>
              </a:rPr>
              <a:t>Есть такое твердое правило, — сказал  Маленький принц. —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л поутру, умылся, привел себя в порядок — и сразу же приведи в порядок свою план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rcRect l="0" t="0" r="-3984" b="0"/>
          <a:stretch/>
        </p:blipFill>
        <p:spPr>
          <a:xfrm>
            <a:off x="2987640" y="2825640"/>
            <a:ext cx="367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перерабат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Пластиковый стакан за 100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Телефонную карту за 10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Стеклянную бутылку за 4000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69880" y="188640"/>
            <a:ext cx="80042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b436e6"/>
                </a:solidFill>
                <a:latin typeface="Segoe UI Semibold"/>
                <a:ea typeface="Segoe UI Semibold"/>
              </a:rPr>
              <a:t>Раздельно собранные отходы — это НЕ МУСОР, это ВТОРИЧНОЕ СЫРЬЕ, из которого можно получать нужные нам товары, не увеличивая нагрузку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1727280" y="4221000"/>
            <a:ext cx="5689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ext Box 11"/>
          <p:cNvGrpSpPr/>
          <p:nvPr/>
        </p:nvGrpSpPr>
        <p:grpSpPr>
          <a:xfrm>
            <a:off x="523800" y="171360"/>
            <a:ext cx="8259840" cy="3158640"/>
            <a:chOff x="523800" y="171360"/>
            <a:chExt cx="8259840" cy="3158640"/>
          </a:xfrm>
        </p:grpSpPr>
        <p:pic>
          <p:nvPicPr>
            <p:cNvPr id="67" name="Text Box 11" descr=""/>
            <p:cNvPicPr/>
            <p:nvPr/>
          </p:nvPicPr>
          <p:blipFill>
            <a:blip r:embed="rId1"/>
            <a:stretch/>
          </p:blipFill>
          <p:spPr>
            <a:xfrm>
              <a:off x="523800" y="171360"/>
              <a:ext cx="825984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39640" y="189000"/>
              <a:ext cx="822960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о вине людей уже исчезли или находятся на грани исчезновения многие виды растений и животных. В последние годы на Земле ежедневно исчезает от 1до 10 видов животных и еженедельно- по одному виду растений. Новых появляется намного меньше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" descr="http://itd3.mycdn.me/image?id=862226788080&amp;t=20&amp;plc=WEB&amp;tkn=*yFU2NN-154_UKgJJhX_ceeY7Aqg"/>
          <p:cNvPicPr/>
          <p:nvPr/>
        </p:nvPicPr>
        <p:blipFill>
          <a:blip r:embed="rId2"/>
          <a:stretch/>
        </p:blipFill>
        <p:spPr>
          <a:xfrm>
            <a:off x="900000" y="2852640"/>
            <a:ext cx="7236000" cy="40053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6:41:56Z</dcterms:created>
  <dc:creator>Admin</dc:creator>
  <dc:description/>
  <dc:language>en-US</dc:language>
  <cp:lastModifiedBy>Учетная запись Майкрософт</cp:lastModifiedBy>
  <dcterms:modified xsi:type="dcterms:W3CDTF">2022-04-10T10:51:02Z</dcterms:modified>
  <cp:revision>203</cp:revision>
  <dc:subject/>
  <dc:title>Стихотворение Саши Чёрного «Слоник»</dc:title>
</cp:coreProperties>
</file>