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748-2A8A-4B2A-B8D8-CFB23185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0D5-4D11-4C4B-86EE-117D85F0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F62-900A-4FCA-A8B5-9BCE33C4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BCD-094A-40B2-9F37-3C2082E6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B15-DC1F-41D4-A1D9-EB3B302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E56-35EB-4CAA-926E-75DDA9A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986-F495-421B-8433-DFF4A9C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B02-027F-4F15-A8CE-442A4AF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A27-7067-4B73-9F37-F8829CD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41A-0C54-402C-9033-F4B9932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96F-3CF8-452C-86E1-FEA8C0B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4C3-1B58-4E6D-AA65-4E65BE0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580-118F-42DB-9A65-76FEF1140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852640" y="2700360"/>
            <a:ext cx="33591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488960" y="1341360"/>
            <a:ext cx="5329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photojournal.jpl.nasa.gov/jpegMod/PIA06890_modest.jpg"/>
          <p:cNvPicPr/>
          <p:nvPr/>
        </p:nvPicPr>
        <p:blipFill>
          <a:blip r:embed="rId1"/>
          <a:stretch/>
        </p:blipFill>
        <p:spPr>
          <a:xfrm>
            <a:off x="1258920" y="1509840"/>
            <a:ext cx="69548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dotdotdot.ru/img/Solar_System.jpg"/>
          <p:cNvPicPr/>
          <p:nvPr/>
        </p:nvPicPr>
        <p:blipFill>
          <a:blip r:embed="rId1"/>
          <a:stretch/>
        </p:blipFill>
        <p:spPr>
          <a:xfrm>
            <a:off x="971640" y="1351080"/>
            <a:ext cx="720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iki.iteach.ru/images/7/7f/%D0%9A%D0%BE%D1%81%D0%BC%D0%BE%D1%81_%D0%9F._%D0%98..png"/>
          <p:cNvPicPr/>
          <p:nvPr/>
        </p:nvPicPr>
        <p:blipFill>
          <a:blip r:embed="rId1"/>
          <a:stretch/>
        </p:blipFill>
        <p:spPr>
          <a:xfrm>
            <a:off x="1403280" y="1628640"/>
            <a:ext cx="7056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mywidescreenwallpapers.com/wallpapers/various_10/earth_and_the_moon_widescreen_wallpaper_44432.jpg"/>
          <p:cNvPicPr/>
          <p:nvPr/>
        </p:nvPicPr>
        <p:blipFill>
          <a:blip r:embed="rId1"/>
          <a:srcRect l="15310" t="0" r="12386" b="0"/>
          <a:stretch/>
        </p:blipFill>
        <p:spPr>
          <a:xfrm>
            <a:off x="250920" y="1700280"/>
            <a:ext cx="5165640" cy="446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g-fotki.yandex.ru/get/3006/ivan-suroegin.2/0_1e67e_6880fc9_XL"/>
          <p:cNvPicPr/>
          <p:nvPr/>
        </p:nvPicPr>
        <p:blipFill>
          <a:blip r:embed="rId2"/>
          <a:stretch/>
        </p:blipFill>
        <p:spPr>
          <a:xfrm>
            <a:off x="5364000" y="2133720"/>
            <a:ext cx="34322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6:49Z</dcterms:modified>
  <cp:revision>18</cp:revision>
  <dc:subject/>
  <dc:title>Слайд 1</dc:title>
</cp:coreProperties>
</file>