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7F1-91D3-4743-B448-312191B0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747-A203-4DBF-8F54-2D04075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60D-F482-446D-A7A8-0725DA35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04E-910E-429A-A8B1-767563E4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0CCA-37D7-44D9-9ECE-D26C536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C7D-F4B9-4920-A376-E86B153E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B66-DD7F-4B99-BB93-C2A0213D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BD7-F5DC-436C-AD0A-9373838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D50-587D-48B4-BDB3-6A74758B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4514-09E8-497C-9821-2E7F6FD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C92-071D-4091-B690-A5D3392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B7C-DB48-4970-ABD8-C42ACD5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E577-8CCD-4275-9211-8F7F276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0F1-36D8-48B1-B9D7-9F03AA6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A95-D41D-414B-9B33-7717AC8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A1B-92AD-4CF1-8328-64E7B85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1F37-9355-405F-B999-AB523C82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A917-1161-48D8-A3E2-9CE5D03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6C3D-0A49-40B1-811B-9FF89484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F9A9-9CCC-4B6B-B3BC-EC5C9A4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19E0-4F66-4024-98BC-4DF5727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41D3-258C-4DFE-97F6-AC78A87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D5B-AFA6-4194-B16A-AF5DC760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1227-87AB-4F86-8C3B-BC2AB01A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B6FE-4D15-4EF0-B89D-47847A13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7432-ADC7-44BC-85D0-EAF3FF5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0475-B34B-4C9F-A49F-CD74030D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D0B1-00E1-41F9-A43E-E3235C1F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A624-59BB-4DC2-810A-083C392A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19CB-CE31-4361-B5A4-DB49339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E6637-D3B5-46B8-BBE7-D4D1CA17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0EC3-50CA-4E19-9BA8-583557E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6875-2C8B-4ED1-8CB2-4D7A6246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0F3-3357-42FD-8E09-8A00365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D5B1-A968-4824-B7D4-76DC912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B876-D7CB-434D-975C-5B3A1BC9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50FE-B849-4221-B1B4-2D80B91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B84F-85CC-4324-890E-4DCDF24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717D-CF8C-4FCD-9B0E-0170341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7187-D2E3-4038-B978-6D4A7C8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EC9C-A71A-4651-97F2-0A14BAB4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FB28-E64F-4A93-A6A1-EBE8C7C6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4C8E-4E4A-4061-9895-A48961E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092-6F5A-4919-843B-429FDA6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42A-4666-407E-BB51-458C591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C6F-8A16-488A-AA11-BE49C7B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F0F-9710-4DFC-9A2B-236F584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A99-16A0-43A0-B48D-C5028DE6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5C084-EA6C-4D6C-802F-9E172EFE3C17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1B628-91FB-48A6-B651-407CDAA2DBC3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727D0-349C-4149-81E8-EE42EFEF1DB4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1DB58-3A1B-4399-A372-20E7998E04CA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685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ПТИЦЫ РОССИИ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4360" y="384300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1595520" y="4557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ЖАВОРОНОК ПОЛЕВО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920000" y="1233360"/>
            <a:ext cx="43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а размером немного крупнее воробья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едпочитают открытые пространства — луга, поля, степи. В лесу встретить жаворонка практически невозможн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о очень простое, строится оно в ямке на земле, среди травы. Строится из стеблей и корешков травы, внутри укладывается мягкой шерстью, собранной птицей, конским волосом и пухом. Кладка состоит из 5-6 красновато-белых или желтовато-зеленых яиц, покрытых узором из серовато-бурых пятен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семенами и насекомы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Рисунок 6" descr=""/>
          <p:cNvPicPr/>
          <p:nvPr/>
        </p:nvPicPr>
        <p:blipFill>
          <a:blip r:embed="rId1"/>
          <a:stretch/>
        </p:blipFill>
        <p:spPr>
          <a:xfrm>
            <a:off x="1595520" y="1233360"/>
            <a:ext cx="6300720" cy="4200480"/>
          </a:xfrm>
          <a:prstGeom prst="rect">
            <a:avLst/>
          </a:prstGeom>
          <a:ln w="0">
            <a:noFill/>
          </a:ln>
        </p:spPr>
      </p:pic>
      <p:pic>
        <p:nvPicPr>
          <p:cNvPr id="232" name="zhavoronok_polevoy" descr=""/>
          <p:cNvPicPr/>
          <p:nvPr/>
        </p:nvPicPr>
        <p:blipFill>
          <a:blip r:embed="rId2"/>
          <a:stretch/>
        </p:blipFill>
        <p:spPr>
          <a:xfrm>
            <a:off x="9785520" y="343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595520" y="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ЗАРЯНКА, ИЛИ МАЛИНОВ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920000" y="1233360"/>
            <a:ext cx="434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а семейства дроздовых отряда воробьины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ет в сырых лесах, особенно в зарослях ольхи и орешника а также в густом еловом молодняке. Предпочитает близость воды. С наступлением зимы улетает в Северную Африку, Юго-Восточную Европу и Юго-Западную Азию. На места гнездовья прилетает ран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амка строит гнёзда из листвы и травинок на земле или на низких пеньках. За лето выводит птенцов 1–2 раза; в кладке 4–6 яиц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ща весной и летом — насекомые, осенью и зимой — семена и ягоды, охотно прилетают к кормушкам, где клюют мягкие корм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Рисунок 4" descr=""/>
          <p:cNvPicPr/>
          <p:nvPr/>
        </p:nvPicPr>
        <p:blipFill>
          <a:blip r:embed="rId1"/>
          <a:stretch/>
        </p:blipFill>
        <p:spPr>
          <a:xfrm>
            <a:off x="1665360" y="1233360"/>
            <a:ext cx="6230880" cy="4137120"/>
          </a:xfrm>
          <a:prstGeom prst="rect">
            <a:avLst/>
          </a:prstGeom>
          <a:ln w="0">
            <a:noFill/>
          </a:ln>
        </p:spPr>
      </p:pic>
      <p:pic>
        <p:nvPicPr>
          <p:cNvPr id="236" name="zaryanka_malin" descr=""/>
          <p:cNvPicPr/>
          <p:nvPr/>
        </p:nvPicPr>
        <p:blipFill>
          <a:blip r:embed="rId2"/>
          <a:stretch/>
        </p:blipFill>
        <p:spPr>
          <a:xfrm>
            <a:off x="9752040" y="17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1595520" y="43020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ЗЯБЛИК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7920000" y="1233360"/>
            <a:ext cx="439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евчая птица семейства вьюрковых, одна из самых многочисленных птиц в Росс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еличиной зяблик примерно с воробья (длина около 17 см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ет в лесах и парках всех типов, часто у самого жилья человек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ёзда вьёт на деревьях, обычно выше человеческого роста, маскируя их мхом и лишайниками. Изнутри гнездо выстлано большим количеством перьев, растительного пуха и волос. Иногда гнездится 2 раза в лето. В кладке 3-6 голубоватых с крапинками и черточками яиц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семенами и зелёными частями растений, летом — также насекомыми и другими беспозвоночными, которыми выкармливает и птенц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есня у зяблика звучная, его часто содержат в клетке как красивую певчую птиц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1595520" y="1233360"/>
            <a:ext cx="6313320" cy="4208760"/>
          </a:xfrm>
          <a:prstGeom prst="rect">
            <a:avLst/>
          </a:prstGeom>
          <a:ln w="0">
            <a:noFill/>
          </a:ln>
        </p:spPr>
      </p:pic>
      <p:pic>
        <p:nvPicPr>
          <p:cNvPr id="240" name="zyablik" descr=""/>
          <p:cNvPicPr/>
          <p:nvPr/>
        </p:nvPicPr>
        <p:blipFill>
          <a:blip r:embed="rId2"/>
          <a:stretch/>
        </p:blipFill>
        <p:spPr>
          <a:xfrm>
            <a:off x="9752040" y="430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1595520" y="15552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4967c"/>
                </a:solidFill>
                <a:latin typeface="Arial"/>
                <a:ea typeface="Arial"/>
              </a:rPr>
              <a:t>КАНЮК, ИЛИ ОБЫКНОВЕННЫЙ САРЫЧ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7920000" y="1233360"/>
            <a:ext cx="4272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Хищная птица среднего размера, плотного сложения. Около 50–60 см в длину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снову питания канюка составляют мышевидные грызуны, также ловит птиц, змей, лягушек, жуков, саранч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а эта, в отличие от обычно молчаливых хищников, часто издает жалобный и не по росту тонкий протяжный крик: «хиээ-хиээ…». Предпочитает лесистые местности, перемежающиеся с открытыми пространствами. Оптимальная зона обитания — лесостепна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о сарыча находится обыкновенно высоко над землей, но иногда (в моховых болотах среди леса) оно расположено прямо на земле. Насиживание продолжается около меся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1612800" y="1233360"/>
            <a:ext cx="6283440" cy="4187880"/>
          </a:xfrm>
          <a:prstGeom prst="rect">
            <a:avLst/>
          </a:prstGeom>
          <a:ln w="0">
            <a:noFill/>
          </a:ln>
        </p:spPr>
      </p:pic>
      <p:pic>
        <p:nvPicPr>
          <p:cNvPr id="244" name="kanuk" descr=""/>
          <p:cNvPicPr/>
          <p:nvPr/>
        </p:nvPicPr>
        <p:blipFill>
          <a:blip r:embed="rId2"/>
          <a:stretch/>
        </p:blipFill>
        <p:spPr>
          <a:xfrm>
            <a:off x="9752040" y="390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1608120" y="40320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4967c"/>
                </a:solidFill>
                <a:latin typeface="Arial"/>
                <a:ea typeface="Arial"/>
              </a:rPr>
              <a:t>КУКУШКА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920000" y="1233360"/>
            <a:ext cx="4272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ют в лесах, кустарниках, по берегам оврагов и стоячих водоёмов, в степях, парках и сад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я обыкновенной кукушки характерен гнездовой паразитизм: яиц она не насиживает, а подкладывает их в гнезда мелких птиц: дубровника, горихвостки, чернушки, камышовок, зябликов и т. д. Кукушка наблюдает за строительством гнезда и кладкой, а потом откладывеют свои яйца одного с хозяевами цвета и одинакового размера, стараясь воспроизвести точную копию яиц хозяев. Зачастую трудно отличить яйцо кукушки от яиц хозяев гнезда — они могут незначительно отличаться только размерами (яйцо кукушки немного больше)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Рисунок 6" descr=""/>
          <p:cNvPicPr/>
          <p:nvPr/>
        </p:nvPicPr>
        <p:blipFill>
          <a:blip r:embed="rId1"/>
          <a:stretch/>
        </p:blipFill>
        <p:spPr>
          <a:xfrm>
            <a:off x="1595520" y="1233360"/>
            <a:ext cx="6300720" cy="43754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1595520" y="566100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Уничтожает огромное количество вредных насекомых, питается в основном ими. Особенно много поедает различных мохнатых гусениц, которых избегают многие насекомоядные птицы. Ест жуков, кобылок и птичьи яй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kukushka" descr=""/>
          <p:cNvPicPr/>
          <p:nvPr/>
        </p:nvPicPr>
        <p:blipFill>
          <a:blip r:embed="rId2"/>
          <a:stretch/>
        </p:blipFill>
        <p:spPr>
          <a:xfrm>
            <a:off x="9752040" y="303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ОРЛАН-БЕЛОХВОС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920000" y="1233360"/>
            <a:ext cx="42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На территории России находится на грани исчезновения и занесён в Красную книгу Росс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дна из самых крупных хищных птиц нашей фауны с размахом крыльев до 2,5 метра. Длина тела от 70 до 90 см, масса — от 4 до 7 кг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ет в прибрежных лесах вблизи богатых рыбой водоемов, выбирает малодоступные для человека мест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а — диаметром до 2 метров и высотой до 1 метра, располагаются на хвойных деревьях практически всегда в верхней части кроны сбоку от ствола или в его предвершинной развилке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етом питается главным образом рыбой, а также водоплавающими, околоводными и морскими птицами, зимой — гибнущими от холода и бескормицы мелкими млекопитающими. Поедает и падал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716720"/>
          </a:xfrm>
          <a:prstGeom prst="rect">
            <a:avLst/>
          </a:prstGeom>
          <a:ln w="0">
            <a:noFill/>
          </a:ln>
        </p:spPr>
      </p:pic>
      <p:pic>
        <p:nvPicPr>
          <p:cNvPr id="253" name="orlan-belohvost" descr=""/>
          <p:cNvPicPr/>
          <p:nvPr/>
        </p:nvPicPr>
        <p:blipFill>
          <a:blip r:embed="rId2"/>
          <a:stretch/>
        </p:blipFill>
        <p:spPr>
          <a:xfrm>
            <a:off x="9752040" y="293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ПЕВЧИЙ ДРОЗД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920000" y="1233360"/>
            <a:ext cx="4272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ет в лиственных и хвойных лесах, около которых есть влажные луга и вообще вода, а также и в рощах около пол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озвращается с зимовки примерно в конце марта и уже с первых дней насвистывеют свои звучные мелодии с вершины дерева или конька крыши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амка строит одно из самых прочных и странных птичьих гнезд. Выводит птенцов два раза в год с апреля по июнь. 4–5 небесно-голубых яиц насиживает в течение 13–14 дней только самка. Питается дрозд насекомыми, червями, улитками, ягодами, семенами, зелеными частями растени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Рисунок 5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419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1595520" y="5703840"/>
            <a:ext cx="84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осле вылета из гнезда в молодых певчих дроздах просыпается тяга к бросанию улитичьих ракушек на камни, пока те не разобьются. Их мягкое содержимое поедается. Дрозды выбирают определенную группу камней, где со временем накапливается целая куча обломк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pevchy_drozd" descr=""/>
          <p:cNvPicPr/>
          <p:nvPr/>
        </p:nvPicPr>
        <p:blipFill>
          <a:blip r:embed="rId2"/>
          <a:stretch/>
        </p:blipFill>
        <p:spPr>
          <a:xfrm>
            <a:off x="9752040" y="293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ЕРЫЙ ГУСЬ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7920000" y="1233360"/>
            <a:ext cx="42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Размеры довольно крупные, весят от 2 до 6 кг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едпочитает водоёмы со стоячей водой, окружённые тростниками — болота, озё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ёздо неаккуратное, устраивает его гусь в зарослях тростника или осоки из травы и мха, с выстилкой из пуха. В кладке 5–10 желтовато-белых яиц. Насиживает их самка, птенцов водят оба родител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ормятся гусь преимущественно на суше или мелководье. Пища главным образом растительная: стебли и листья, клубни, семен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210200"/>
          </a:xfrm>
          <a:prstGeom prst="rect">
            <a:avLst/>
          </a:prstGeom>
          <a:ln w="0">
            <a:noFill/>
          </a:ln>
        </p:spPr>
      </p:pic>
      <p:pic>
        <p:nvPicPr>
          <p:cNvPr id="262" name="seriy_gus" descr=""/>
          <p:cNvPicPr/>
          <p:nvPr/>
        </p:nvPicPr>
        <p:blipFill>
          <a:blip r:embed="rId2"/>
          <a:stretch/>
        </p:blipFill>
        <p:spPr>
          <a:xfrm>
            <a:off x="9752040" y="293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ИНИЦА БОЛЬШАЯ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7920000" y="1233360"/>
            <a:ext cx="42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итает в лесах и парках. Чаще других синиц поселяется рядом с человеком. Выискивает на ветках и стволах насекомых и пауков. Зимой питается семенами и другой растительной пищей. Обычный посетитель кормушек в городских парках. Кое-где к декабрю синицы уже приучаются брать корм с протянутой ладон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едпочитает гнездиться на участах не особенно густого лиственного леса, рощах, парках, старых фруктовых садах, уремных зарослях по берегам рек. Встречается в населенных пунктах с древесной растительностью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 кладке 9-13 (иногда до 15) яиц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асиживание длится 13 суток. Птенцы находятся в гнезде 16-17 суток. Распространена в Европейской части России, на Кавказе, юге Сибири и Приамурья. Зимовка. Оседлая пти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Рисунок 5" descr=""/>
          <p:cNvPicPr/>
          <p:nvPr/>
        </p:nvPicPr>
        <p:blipFill>
          <a:blip r:embed="rId1"/>
          <a:stretch/>
        </p:blipFill>
        <p:spPr>
          <a:xfrm>
            <a:off x="1550880" y="1233360"/>
            <a:ext cx="6345360" cy="4246560"/>
          </a:xfrm>
          <a:prstGeom prst="rect">
            <a:avLst/>
          </a:prstGeom>
          <a:ln w="0">
            <a:noFill/>
          </a:ln>
        </p:spPr>
      </p:pic>
      <p:pic>
        <p:nvPicPr>
          <p:cNvPr id="266" name="sinica_bolshaya" descr=""/>
          <p:cNvPicPr/>
          <p:nvPr/>
        </p:nvPicPr>
        <p:blipFill>
          <a:blip r:embed="rId2"/>
          <a:stretch/>
        </p:blipFill>
        <p:spPr>
          <a:xfrm>
            <a:off x="9752040" y="187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НЕГИРЬ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7920000" y="1182600"/>
            <a:ext cx="42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дна из наиболее широко известных перелётных птиц России. Снегирь-самец — красногрудая птичка с голубовато-серой спинкой и чёрной головкой, а у самок красный цвет замещен буровато-серым. Значительно крупнее воробья: весит 32–34 г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етом птица обитает как в густых лесах, так и в редколесьях на краях выгоревших лесов и вырубок, но поскольку держится он очень скрытно и редко попадается на глаза, его нечасто можно заметить в это время года. Зато зимой не встретить разноцветную стайку снегирей просто невозможн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снегирь семенами деревьев и трав, ягодами. Насекомые и пауки — только в качестве дополнительного корма. Птенцов родители кормят размягченными семенами. Зимой поедают поч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Рисунок 1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175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1608120" y="5459400"/>
            <a:ext cx="628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негирь — доверчивая и общительная птица. Если кто-нибудь из стаи попался в ловушку, остальные спешат на помощь. Часто содержится в клетках как красивая певчая пти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snegir" descr=""/>
          <p:cNvPicPr/>
          <p:nvPr/>
        </p:nvPicPr>
        <p:blipFill>
          <a:blip r:embed="rId2"/>
          <a:stretch/>
        </p:blipFill>
        <p:spPr>
          <a:xfrm>
            <a:off x="9752040" y="2379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3979800" y="1233360"/>
            <a:ext cx="3908520" cy="5634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3361320" y="40320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4967c"/>
                </a:solidFill>
                <a:latin typeface="Arial"/>
                <a:ea typeface="Arial"/>
              </a:rPr>
              <a:t>АИСТ БЕЛЫЙ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8010360" y="1233360"/>
            <a:ext cx="4181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стречается в Средней и Южной Европе, в Северо-Западной Африке, в Передней и Средней Азии, Японии, Корее; в России – в юго-западной части страны, в Средней Азии и Приморье. Обитает на открытых пространствах с обособленными деревьями, в горах и близ жилья человека. Гнёзда (1 - 2 м в диаметре) устраивает на деревьях, скалах, на крышах домов. В кладке 3–5 белых яиц; насиживают оба родителя около 30 дней. Пары постоянные. В Средней Европе численность несколько сокращаетс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лягушками, ящерицами, мышами, насекомыми и пр. Перелётная птица; зимует в Центральной и Южной Африке, Юго-Восточной Азии и Западном Кита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6" name="beliy_aist" descr=""/>
          <p:cNvPicPr/>
          <p:nvPr/>
        </p:nvPicPr>
        <p:blipFill>
          <a:blip r:embed="rId2"/>
          <a:stretch/>
        </p:blipFill>
        <p:spPr>
          <a:xfrm>
            <a:off x="9796320" y="512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ОЙКА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7920000" y="1182600"/>
            <a:ext cx="4443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еста обитания - Лиственные, смешанные и хвойные лес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есной самец тихо поет свою песню. Он настолько точно копирует козодоя и блеяние овец, что иногда, услышав имитацию сойки, пастухи отправляются на поиски потерявшейся овцы. В неволе птица может повторять мелодии и говорить слова. В конце апреля или начале мая строят гнездо из соломинок и корешков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ойки всеядны. Летом они поедают насекомых, но не брезгуют и чужими яйцами и птенцами, ящерицами и лягушками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ойки собирают по опушкам лесов зерновые, едят горох и бобы, всевозможные ягоды и, прежде всего, желуди. Их она закапывает в землю на зиму. Многие из желудей, о которых птица забыла, прорастают на следующий го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608120" y="5459400"/>
            <a:ext cx="628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опавших в молодом возрасте к человеку соек вырастить несложно, они становятся очень ручными. Их даже можно отпускать на волю, они не улетают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Рисунок 5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140360"/>
          </a:xfrm>
          <a:prstGeom prst="rect">
            <a:avLst/>
          </a:prstGeom>
          <a:ln w="0">
            <a:noFill/>
          </a:ln>
        </p:spPr>
      </p:pic>
      <p:pic>
        <p:nvPicPr>
          <p:cNvPr id="276" name="soika" descr=""/>
          <p:cNvPicPr/>
          <p:nvPr/>
        </p:nvPicPr>
        <p:blipFill>
          <a:blip r:embed="rId2"/>
          <a:stretch/>
        </p:blipFill>
        <p:spPr>
          <a:xfrm>
            <a:off x="9752040" y="187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ОЛОВЕЙ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920000" y="1182600"/>
            <a:ext cx="4272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нешне невзрачен — преобладает однотонный шоколадно-бурый цвет, снизу буровато-серый. Глаза большие, черны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лаголюбивая птица. Любимыми местами обитания соловьев являются поросшие ивовыми и другими кустами долины рек, полевые болота и всякого рода кустарники вблизи проточной или стоячей воды, а также большие сады и глухие пар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амка откладывает 5–б одноцветных серовато-зеленых яиц. Высиживает самка в течение 14–15 дней, делая перерывы для еды и куп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орм соловья — различные черви, гусеницы, личинки, небольшие жучки и другие насекомые. Осенью охотно поедают разные ягоды, особенно бузин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608120" y="5435640"/>
            <a:ext cx="64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о время пения соловей обычно сидит невысоко, всегда как бы сгорбившись, свесив крылышки и приподняв хвост. Каждый элемент песни (колено), число которых может достигать 12, повторяется несколько раз. Позыв — высокое «фью-фью», при тревоге издает отрывистое «фьють-прр..», особенно вблизи гнезд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0" name="Рисунок 1" descr=""/>
          <p:cNvPicPr/>
          <p:nvPr/>
        </p:nvPicPr>
        <p:blipFill>
          <a:blip r:embed="rId1"/>
          <a:stretch/>
        </p:blipFill>
        <p:spPr>
          <a:xfrm>
            <a:off x="1608120" y="1258920"/>
            <a:ext cx="6288120" cy="4240080"/>
          </a:xfrm>
          <a:prstGeom prst="rect">
            <a:avLst/>
          </a:prstGeom>
          <a:ln w="0">
            <a:noFill/>
          </a:ln>
        </p:spPr>
      </p:pic>
      <p:pic>
        <p:nvPicPr>
          <p:cNvPr id="281" name="solovey" descr=""/>
          <p:cNvPicPr/>
          <p:nvPr/>
        </p:nvPicPr>
        <p:blipFill>
          <a:blip r:embed="rId2"/>
          <a:stretch/>
        </p:blipFill>
        <p:spPr>
          <a:xfrm>
            <a:off x="9756720" y="303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СОРОКА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7920000" y="1220760"/>
            <a:ext cx="4272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ичи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й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 c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инным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би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 в 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c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ённы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к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x,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p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 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, 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 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ш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x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c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, 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c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cax,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я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 c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p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и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и 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p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и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 или г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p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и д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p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ь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.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B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 5-8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з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ы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иц, г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ыты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б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p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ыми пятныш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и.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р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и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ь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зд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чи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 в мар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. Ha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ижи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и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иц дли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 17-18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.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щё 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им м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e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ц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м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ы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p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ят в г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зд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B oc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-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зимний 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p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и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op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и к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ц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и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p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ю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я в н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c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ны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x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кт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ax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ороки всеядны. В их рацион входят как мелкие млекопитающие, так и насекомые. Также они часто разоряют птичьи гнёзда, съедая яйца и птенцов. Живущие по соседству с человеком сороки не боятся украсть какую-нибудь пищу и у нег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4" name="Рисунок 5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192560"/>
          </a:xfrm>
          <a:prstGeom prst="rect">
            <a:avLst/>
          </a:prstGeom>
          <a:ln w="0">
            <a:noFill/>
          </a:ln>
        </p:spPr>
      </p:pic>
      <p:pic>
        <p:nvPicPr>
          <p:cNvPr id="285" name="soroka" descr=""/>
          <p:cNvPicPr/>
          <p:nvPr/>
        </p:nvPicPr>
        <p:blipFill>
          <a:blip r:embed="rId2"/>
          <a:stretch/>
        </p:blipFill>
        <p:spPr>
          <a:xfrm>
            <a:off x="9752040" y="287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ФИЛИН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7920000" y="1220760"/>
            <a:ext cx="42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рупная хищная птица (размах крыльев — до 2 м, масса — более 4 кг), ведущая ночной образ жизни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Распространен широко по всей стране. В Забайкалье встречается в лесах, лесостепях, степях, но повсюду редок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 степях гнездится на выходах скал и среди крупных камн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ак и большинство других видов сов, филин вылетает на охоту после заката солнца. Добычу высматривает в полете, летает низко над полями или опушками леса, чаще внутри леса. Полет его бесшумный, и появляется филин всегда неожиданно. Заметив добычу, резко пикирует и хватает ее когтистыми лапами. Позволяет ему охотиться в сумерках очень хорошо развитое зрени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Филин — очень редкая птица, нуждается в охран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4005360" y="1220760"/>
            <a:ext cx="3890880" cy="5587920"/>
          </a:xfrm>
          <a:prstGeom prst="rect">
            <a:avLst/>
          </a:prstGeom>
          <a:ln w="0">
            <a:noFill/>
          </a:ln>
        </p:spPr>
      </p:pic>
      <p:pic>
        <p:nvPicPr>
          <p:cNvPr id="289" name="filin" descr=""/>
          <p:cNvPicPr/>
          <p:nvPr/>
        </p:nvPicPr>
        <p:blipFill>
          <a:blip r:embed="rId2"/>
          <a:stretch/>
        </p:blipFill>
        <p:spPr>
          <a:xfrm>
            <a:off x="9752040" y="287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ЧИБИС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7920000" y="1220760"/>
            <a:ext cx="4272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а семейства ржанковых подотряда кулик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ина тела 30 см, весит около 200 г. Спинная сторона и грудь зеленоватые с пурпурным блеском. Брюшко и бока головы белые. На затылке хохол из нескольких очень узких перьев. Клюв и радужина темные, ноги розоваты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Распространён в России от западных границ до Приморского края, в Сибири только на юге. Типичный обитатель приречных лугов, полей и болот без кочек и высокотравья в пределах степной и лесостепной зон, подтайги и южной тайги. Гнездится на травянистых болотах, пастбищах и полях. В кладке 4 яйца, насиживает в основном самка 27-29 суток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насекомыми и другими мелкими беспозвоночными, иногда семена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Рисунок 5" descr=""/>
          <p:cNvPicPr/>
          <p:nvPr/>
        </p:nvPicPr>
        <p:blipFill>
          <a:blip r:embed="rId1"/>
          <a:stretch/>
        </p:blipFill>
        <p:spPr>
          <a:xfrm>
            <a:off x="1608120" y="1233360"/>
            <a:ext cx="6288120" cy="4227480"/>
          </a:xfrm>
          <a:prstGeom prst="rect">
            <a:avLst/>
          </a:prstGeom>
          <a:ln w="0">
            <a:noFill/>
          </a:ln>
        </p:spPr>
      </p:pic>
      <p:pic>
        <p:nvPicPr>
          <p:cNvPr id="293" name="chibis" descr=""/>
          <p:cNvPicPr/>
          <p:nvPr/>
        </p:nvPicPr>
        <p:blipFill>
          <a:blip r:embed="rId2"/>
          <a:stretch/>
        </p:blipFill>
        <p:spPr>
          <a:xfrm>
            <a:off x="9752040" y="187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ЧИЖ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7920000" y="1220760"/>
            <a:ext cx="42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ина тела около 12 см, весит 12–14 г. Оперение желтовато-зелёное с тёмными пестринами. У самцов шапочка, горло, хвост и крылья черные, у самок же черный цвет в окраске отсутствует. Клюв серы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Зимой кочует стайками, особенно по долинам рек с зарослями лиственных деревьев. Держатся преимущественно на вершинах высоких деревьев, спускаясь только изредка на землю. Гнездится обычно на елях или соснах. В кладке 4–5 яиц беловато-голубого или бледного зеленовато-голубого цвета с ржаво-бурыми или бледно-красными крапинками и штрихами. Насиживает самка 12 суток. Иногда чиж гнездится дважды в лет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семенами хвойных и лиственных деревьев, в частности ольхи, поедает тлей и других мелких насекомых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Чижа часто содержат в клетк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1633680" y="1233360"/>
            <a:ext cx="6262560" cy="4175280"/>
          </a:xfrm>
          <a:prstGeom prst="rect">
            <a:avLst/>
          </a:prstGeom>
          <a:ln w="0">
            <a:noFill/>
          </a:ln>
        </p:spPr>
      </p:pic>
      <p:pic>
        <p:nvPicPr>
          <p:cNvPr id="297" name="chij" descr=""/>
          <p:cNvPicPr/>
          <p:nvPr/>
        </p:nvPicPr>
        <p:blipFill>
          <a:blip r:embed="rId2"/>
          <a:stretch/>
        </p:blipFill>
        <p:spPr>
          <a:xfrm>
            <a:off x="9752040" y="287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"/>
          <p:cNvSpPr/>
          <p:nvPr/>
        </p:nvSpPr>
        <p:spPr>
          <a:xfrm>
            <a:off x="1608120" y="412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ЩЕГОЛ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7920000" y="1220760"/>
            <a:ext cx="4272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а семейства вьюрковых отряда воробьины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ина тела 12 см., вес 20 г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аселяет лиственные рощи, вырубки, сады. Гнёзда строит на кустах или в кронах деревьев. В кладке 4-6 голубовато-зеленовато-белых яиц (скорлупа на тупом конце яйца имеет красные пятнышки). Насиживает их только самка, 12-13 суток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щегол семенами, в частности — конского щавеля, репейника, чертополоха и других сорняков; птенцов выкармливает насекомы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тицу часто содержат в клетке. Песня щегла — звонкие трели (свыше 20 вариантов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0" name="Рисунок 5" descr=""/>
          <p:cNvPicPr/>
          <p:nvPr/>
        </p:nvPicPr>
        <p:blipFill>
          <a:blip r:embed="rId1"/>
          <a:stretch/>
        </p:blipFill>
        <p:spPr>
          <a:xfrm>
            <a:off x="1593720" y="1233360"/>
            <a:ext cx="6302520" cy="4202280"/>
          </a:xfrm>
          <a:prstGeom prst="rect">
            <a:avLst/>
          </a:prstGeom>
          <a:ln w="0">
            <a:noFill/>
          </a:ln>
        </p:spPr>
      </p:pic>
      <p:pic>
        <p:nvPicPr>
          <p:cNvPr id="301" name="shegol" descr=""/>
          <p:cNvPicPr/>
          <p:nvPr/>
        </p:nvPicPr>
        <p:blipFill>
          <a:blip r:embed="rId2"/>
          <a:stretch/>
        </p:blipFill>
        <p:spPr>
          <a:xfrm>
            <a:off x="9752040" y="287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3348000" y="403200"/>
            <a:ext cx="454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4967c"/>
                </a:solidFill>
                <a:latin typeface="Arial"/>
                <a:ea typeface="Arial"/>
              </a:rPr>
              <a:t>БЕКАС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8010360" y="1233360"/>
            <a:ext cx="4181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Бекас — птица с очень длинным, прямым и острым клювом, буровато-ржавого окрас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Живут бекасы в сырых болотах, сырые лугах, по заболоченным берегам рек и озер в местах с мягкой влажной почвой, которую они могут буравить клювом в поискам пищ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Хорошо бегают, быстро летают, могут плавать и даже нырять. Гнездо обычно устраивает на возвышенных болотистых местах и в тростниках, откладывая по 4 яйца зеленовато-желтой или серо-зеленой окраски с красноватыми и черно-бурыми пятна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ются червями, насекомыми, мелкими моллюсками и тонкостенными раковина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бъект спортивной охоты. Мясо бекаса превосходит качеством мясо остальных кулик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Рисунок 6" descr=""/>
          <p:cNvPicPr/>
          <p:nvPr/>
        </p:nvPicPr>
        <p:blipFill>
          <a:blip r:embed="rId1"/>
          <a:stretch/>
        </p:blipFill>
        <p:spPr>
          <a:xfrm>
            <a:off x="1612800" y="1233360"/>
            <a:ext cx="6283440" cy="4187880"/>
          </a:xfrm>
          <a:prstGeom prst="rect">
            <a:avLst/>
          </a:prstGeom>
          <a:ln w="0">
            <a:noFill/>
          </a:ln>
        </p:spPr>
      </p:pic>
      <p:pic>
        <p:nvPicPr>
          <p:cNvPr id="200" name="bekas" descr=""/>
          <p:cNvPicPr/>
          <p:nvPr/>
        </p:nvPicPr>
        <p:blipFill>
          <a:blip r:embed="rId2"/>
          <a:stretch/>
        </p:blipFill>
        <p:spPr>
          <a:xfrm>
            <a:off x="9796320" y="208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1612800" y="25416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БЕЛАЯ ТРЯСОГУЗК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8010360" y="1233360"/>
            <a:ext cx="4181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Длина тела белой трясогузки 16,5–18 см, масса тела всего 20–23 г. Хвост длинный, постоянно покачивающийся вверх и вниз (отсюда название)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Живет в открытых ландшафтах разного типа, любит близость вод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Трясогузка белая гнездится в поймах рек, на берегах водоемов и в населенных пунктах. Гнездо строят самец и самка в углублениях: например, в трещинах стен, дуплах деревьев, под крышами зданий и складах брёвен. Материалом для их работ служат стебли, корешки, листья и кусочки мха. В кладке 5–6 белых яиц, покрытых слабо заметными светло-серыми пятнышками и точками. Яйца насиживает только самка, но выкармливают птенцов оба родителя в течение 14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1612800" y="1233360"/>
            <a:ext cx="6283440" cy="41878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1778040" y="5807160"/>
            <a:ext cx="61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дна из самых полезных птиц — она уничтожает насекомых-вредителей, которых ловит прямо в воздухе, или находит на земл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b_trjaso" descr=""/>
          <p:cNvPicPr/>
          <p:nvPr/>
        </p:nvPicPr>
        <p:blipFill>
          <a:blip r:embed="rId2"/>
          <a:stretch/>
        </p:blipFill>
        <p:spPr>
          <a:xfrm>
            <a:off x="9752040" y="254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1612800" y="25416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4967c"/>
                </a:solidFill>
                <a:latin typeface="Arial"/>
                <a:ea typeface="Arial"/>
              </a:rPr>
              <a:t>БЕРКУ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7920000" y="123336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амый крупный орёл — длина тела до 90 см, размах крыльев 180–240 см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Населяет обширные верховые болота и леса по их окраинам. Везде редок. Огромные гнёзда (в некоторые из них может вместиться лошадь) строит на деревьях, устраивая их в развилке крупных ветвей у ствола. Строительный материал — толстые сучья деревьев, внутри гнездо выстилается травой и шерстью. В кладке 1–3 яйца. Насиживание длится 45 дн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оводят в гнезде 2 месяца, после чего некоторое время держатся около гнезда, самостоятельными становятся спустя месяц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Беркут ведёт оседлый образ жизни, часть птиц в осенне-зимний период кочует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в основном грызунами и падалью. Иногда нападает на животных покрупнее — на сусликов, зайцев, хорьков, и даже лис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612800" y="566568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Часто охотится на птиц, догоняя их в воздухе. Подолгу летает за птицами, которые летают быстрее его, но менее выносливые, после чего с легкостью схватывает уставшую, загнанную птиц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9" name="Рисунок 6" descr=""/>
          <p:cNvPicPr/>
          <p:nvPr/>
        </p:nvPicPr>
        <p:blipFill>
          <a:blip r:embed="rId1"/>
          <a:stretch/>
        </p:blipFill>
        <p:spPr>
          <a:xfrm>
            <a:off x="1612800" y="1233360"/>
            <a:ext cx="6283440" cy="4327560"/>
          </a:xfrm>
          <a:prstGeom prst="rect">
            <a:avLst/>
          </a:prstGeom>
          <a:ln w="0">
            <a:noFill/>
          </a:ln>
        </p:spPr>
      </p:pic>
      <p:pic>
        <p:nvPicPr>
          <p:cNvPr id="210" name="berkut" descr=""/>
          <p:cNvPicPr/>
          <p:nvPr/>
        </p:nvPicPr>
        <p:blipFill>
          <a:blip r:embed="rId2"/>
          <a:stretch/>
        </p:blipFill>
        <p:spPr>
          <a:xfrm>
            <a:off x="975204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1608120" y="-792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БОЛЬШОЙ ПЕСТРЫЙ ДЯТЕЛ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7920000" y="123336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Это самый распространенный дятел, населяющий большую часть лесов страны, включая смешанные и лиственные лес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ится в пригодных для устройства дупел деревьях. Зачастую это высохшие и загнившие стволы осины, ольхи или березы. Гнездо устраивает на высоте 2–10 метров от земли, часто под шляпкой гриба-трутовика. Кладка дятла состоит из 5–7 блестяще-белых яиц. Насиживают самец и самка поочередно в течение 12–13 дней. Птенцы вылупляются слепые и беспомощные; первые дни жизни они сидят тихо; подросшие — громко кричат, требуя еду. Родители прилетают к гнезду с кормом (кашица из насекомых) каждые 2–4 мин, за день до 300 раз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Летом питается, в основном, древесными насекомыми. Зимой питается семенами сосны и ел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4467240" y="1284120"/>
            <a:ext cx="3429000" cy="5400720"/>
          </a:xfrm>
          <a:prstGeom prst="rect">
            <a:avLst/>
          </a:prstGeom>
          <a:ln w="0">
            <a:noFill/>
          </a:ln>
        </p:spPr>
      </p:pic>
      <p:pic>
        <p:nvPicPr>
          <p:cNvPr id="214" name="bolshoy_pestr_dyatel" descr=""/>
          <p:cNvPicPr/>
          <p:nvPr/>
        </p:nvPicPr>
        <p:blipFill>
          <a:blip r:embed="rId2"/>
          <a:stretch/>
        </p:blipFill>
        <p:spPr>
          <a:xfrm>
            <a:off x="9785520" y="200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1595520" y="4557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ВОРОН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7920000" y="123336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одолжительность жизни — рекордная для птиц — 50–75 лет, но есть данные и о еще больших срок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Часто встречается рядом с жильём человека, и на свалках. Ведёт оседлый образ жизн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ится в лесах, парках, пойменных насаждениях. Гнёзда располагает на деревьях, а при отсутствии их — на кустарнике и даже заломах тростник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Кладка ворона — 4–5 яиц голубовато-зеленого цвета с серовато-зелеными и бурыми крапинками. Высиживают их с конца марта до мая по одним данным, самец и самка поочерёдно, по другим сведениям — только самк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сеядны. Едят насекомых, семена, падаль, ловят грызунов и других мелких животных, рыбу. Разоряя гнезда других птиц, поедают яйца и птенц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1622520" y="1233360"/>
            <a:ext cx="6297480" cy="4356360"/>
          </a:xfrm>
          <a:prstGeom prst="rect">
            <a:avLst/>
          </a:prstGeom>
          <a:ln w="0">
            <a:noFill/>
          </a:ln>
        </p:spPr>
      </p:pic>
      <p:pic>
        <p:nvPicPr>
          <p:cNvPr id="218" name="voron" descr=""/>
          <p:cNvPicPr/>
          <p:nvPr/>
        </p:nvPicPr>
        <p:blipFill>
          <a:blip r:embed="rId2"/>
          <a:stretch/>
        </p:blipFill>
        <p:spPr>
          <a:xfrm>
            <a:off x="9752040" y="3031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7"/>
          <p:cNvSpPr/>
          <p:nvPr/>
        </p:nvSpPr>
        <p:spPr>
          <a:xfrm>
            <a:off x="1622520" y="5659560"/>
            <a:ext cx="627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чень осторожны, избегают человека. Однако в неволе легко приручается и даже способны имитировать человеческую реч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1595520" y="4557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ГРАЧ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7920000" y="1233360"/>
            <a:ext cx="434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о строит из сухих сучьев, выстилает сухой травой, иногда клочками шерсти, тоненькими ветками, а также использует различный мусор. Используется оно в течение ряда лет, ежегодно ремонтируется. Яйца в гнезде - 3-5 штук в кладке. Птенцы вылупляются голыми и самка долгое время (примерно до полутора недель) почти не покидает гнезда. В это время корм птенцам носит только самец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рачи питаются червями и личинками насекомых, которых они находят, копаясь в земле своим крепким клювом. Уничтожая разнообразных вредных насекомых, приносят большую пользу, но в период сева могут вредить посевам зерновых, бахчевых и огородных культур, выклёвывая семена и всходы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Рисунок 5" descr=""/>
          <p:cNvPicPr/>
          <p:nvPr/>
        </p:nvPicPr>
        <p:blipFill>
          <a:blip r:embed="rId1"/>
          <a:stretch/>
        </p:blipFill>
        <p:spPr>
          <a:xfrm>
            <a:off x="1612800" y="1233360"/>
            <a:ext cx="6283440" cy="4187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1635120" y="5452920"/>
            <a:ext cx="62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рач — «вестник весны», эти птицы первыми прилетают к нам весной — в начале марта. Покидают наши края поздно осенью, исчезая в конце октября или начале ноябр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рекрасно приручается, может имитировать человеческую реч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4" name="grach" descr=""/>
          <p:cNvPicPr/>
          <p:nvPr/>
        </p:nvPicPr>
        <p:blipFill>
          <a:blip r:embed="rId2"/>
          <a:stretch/>
        </p:blipFill>
        <p:spPr>
          <a:xfrm>
            <a:off x="9752040" y="423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1595520" y="4557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967c"/>
                </a:solidFill>
                <a:latin typeface="Arial"/>
                <a:ea typeface="Arial"/>
              </a:rPr>
              <a:t>ГОРОДСКОЙ ВОРОБЕ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7920000" y="123336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Одна из самых известных птиц страны, живущая по соседству с человеком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Встречается везде, где селятся люди и почва обработана под поля, сады и другие насаждения. В лесистых областях, вдали от людских поселений его нет — он селится только вблизи человеческого жиль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Гнезда воробей помещает в самых разнообразных местах — в щелях различных строений, в норах глинистых и меловых оврагов, в стенках гнезд крупных птиц , в дуплах деревьев, занимает скворечники, норы береговых ласточек. В кладке 5–6 яиц с буровато-желтыми пятнами и серовато-бурыми крапинкам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Питается всевозможными семенами, также ягодами и плодами, но не отказывается и от насекомых, в том числе и майских жуков. Птенцов кормит сначала гусеницами, а затем и крупными насекомы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1635120" y="1233360"/>
            <a:ext cx="6284880" cy="4243680"/>
          </a:xfrm>
          <a:prstGeom prst="rect">
            <a:avLst/>
          </a:prstGeom>
          <a:ln w="0">
            <a:noFill/>
          </a:ln>
        </p:spPr>
      </p:pic>
      <p:pic>
        <p:nvPicPr>
          <p:cNvPr id="228" name="vorobey_dimoviy" descr=""/>
          <p:cNvPicPr/>
          <p:nvPr/>
        </p:nvPicPr>
        <p:blipFill>
          <a:blip r:embed="rId2"/>
          <a:stretch/>
        </p:blipFill>
        <p:spPr>
          <a:xfrm>
            <a:off x="9785520" y="290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04:06Z</dcterms:created>
  <dc:creator>комп_2</dc:creator>
  <dc:description/>
  <dc:language>en-US</dc:language>
  <cp:lastModifiedBy>RePack by Diakov</cp:lastModifiedBy>
  <dcterms:modified xsi:type="dcterms:W3CDTF">2022-04-10T12:54:35Z</dcterms:modified>
  <cp:revision>26</cp:revision>
  <dc:subject/>
  <dc:title>ПТИЦЫ РОССИИ</dc:title>
</cp:coreProperties>
</file>