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AF9-065B-466A-B590-1078B588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39E-E503-4EF2-851C-DAEEDDA0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A52-96A5-41B4-BBB2-0BF23F2B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374-2FD8-487D-AD57-B32AEC1C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272D-E2C8-4192-ADBC-B7296729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3865-35B4-4C0F-AFE4-C65C75B9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697B-9956-4462-91EA-6A9CA878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A8FD-A5BD-478F-8B32-99F12BBB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BE56-0876-498F-B983-4ADDC9C9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2F36-5DB7-4F78-AD08-4E5A77D3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BFF8-0264-4F4B-8974-C1DE4D49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040-D21A-4891-87C7-61984544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542A-E359-4639-980F-858921F4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BD0E-8F86-494C-A44E-E8C44E58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5AF5-DEC2-4B78-9F45-C05127EB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729A-0CBC-4B0F-8585-FA093ED5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13D7-ED0C-4EFA-832F-FA5BBA9C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375-6D10-4188-87B5-FC6BDE47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326-E644-42C6-A929-70B56236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7EF-770D-4089-B812-26BA6F63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89C-8D6D-4007-B4A0-205137CF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C39-175E-4E38-8055-A619AE5C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417-1144-431F-B314-56E5372F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CF1-93E3-4E4D-B930-EF83E9D1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3396-CED0-4464-ABEE-61AF26281F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F7BE-A176-45BD-9EB2-A841BA45E73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рганизация развивающей предметно – пространственной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реды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 средней группе «Цветик-Семицветик»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F:\2015-02-10\188.JPG"/>
          <p:cNvPicPr/>
          <p:nvPr/>
        </p:nvPicPr>
        <p:blipFill>
          <a:blip r:embed="rId1"/>
          <a:stretch/>
        </p:blipFill>
        <p:spPr>
          <a:xfrm rot="21009600">
            <a:off x="395280" y="404280"/>
            <a:ext cx="2984400" cy="3025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F:\2015-02-10\229.JPG"/>
          <p:cNvPicPr/>
          <p:nvPr/>
        </p:nvPicPr>
        <p:blipFill>
          <a:blip r:embed="rId2"/>
          <a:stretch/>
        </p:blipFill>
        <p:spPr>
          <a:xfrm>
            <a:off x="2700360" y="2436840"/>
            <a:ext cx="6264360" cy="4321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3251160" y="691920"/>
            <a:ext cx="54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ш оркестр готов игр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нус» нам пора включ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F:\2015-02-10\189.JPG"/>
          <p:cNvPicPr/>
          <p:nvPr/>
        </p:nvPicPr>
        <p:blipFill>
          <a:blip r:embed="rId1"/>
          <a:srcRect l="0" t="0" r="-461" b="0"/>
          <a:stretch/>
        </p:blipFill>
        <p:spPr>
          <a:xfrm>
            <a:off x="755640" y="620640"/>
            <a:ext cx="7920000" cy="5913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394920" y="5805000"/>
            <a:ext cx="33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зучаем ПД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:\2015-02-10\190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44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976320" y="5300280"/>
            <a:ext cx="713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о удивительная террито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ша мини –лаборатор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179"/>
          <p:cNvPicPr/>
          <p:nvPr/>
        </p:nvPicPr>
        <p:blipFill>
          <a:blip r:embed="rId1"/>
          <a:stretch/>
        </p:blipFill>
        <p:spPr>
          <a:xfrm>
            <a:off x="395280" y="333360"/>
            <a:ext cx="7996320" cy="51786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 rot="19826400">
            <a:off x="2841840" y="4220280"/>
            <a:ext cx="6113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подробнее расскаж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, что есть у нас, покажем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035"/>
          <p:cNvPicPr/>
          <p:nvPr/>
        </p:nvPicPr>
        <p:blipFill>
          <a:blip r:embed="rId1"/>
          <a:stretch/>
        </p:blipFill>
        <p:spPr>
          <a:xfrm>
            <a:off x="395280" y="549360"/>
            <a:ext cx="4896000" cy="3670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041"/>
          <p:cNvPicPr/>
          <p:nvPr/>
        </p:nvPicPr>
        <p:blipFill>
          <a:blip r:embed="rId2"/>
          <a:stretch/>
        </p:blipFill>
        <p:spPr>
          <a:xfrm>
            <a:off x="3851280" y="2779560"/>
            <a:ext cx="4897440" cy="3675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393120" y="5372640"/>
            <a:ext cx="521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мы печем печень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пам, мамам угощень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47"/>
          <p:cNvPicPr/>
          <p:nvPr/>
        </p:nvPicPr>
        <p:blipFill>
          <a:blip r:embed="rId1"/>
          <a:stretch/>
        </p:blipFill>
        <p:spPr>
          <a:xfrm>
            <a:off x="468360" y="352440"/>
            <a:ext cx="838980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190"/>
          <p:cNvPicPr/>
          <p:nvPr/>
        </p:nvPicPr>
        <p:blipFill>
          <a:blip r:embed="rId1"/>
          <a:stretch/>
        </p:blipFill>
        <p:spPr>
          <a:xfrm>
            <a:off x="826920" y="765000"/>
            <a:ext cx="74930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F:\2015-02-10\175.JPG"/>
          <p:cNvPicPr/>
          <p:nvPr/>
        </p:nvPicPr>
        <p:blipFill>
          <a:blip r:embed="rId1"/>
          <a:stretch/>
        </p:blipFill>
        <p:spPr>
          <a:xfrm>
            <a:off x="539640" y="404640"/>
            <a:ext cx="6659640" cy="4249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853560" y="5239440"/>
            <a:ext cx="718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ы свойства материалов узнаем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асоль пересыпаем, воду ль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F:\2015-02-10\178.JPG"/>
          <p:cNvPicPr/>
          <p:nvPr/>
        </p:nvPicPr>
        <p:blipFill>
          <a:blip r:embed="rId1"/>
          <a:stretch/>
        </p:blipFill>
        <p:spPr>
          <a:xfrm>
            <a:off x="2916360" y="476280"/>
            <a:ext cx="5400720" cy="5689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822600" y="5515560"/>
            <a:ext cx="704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паука под лупою гляди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знать побольше про него хот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F:\2015-02-10\157.JPG"/>
          <p:cNvPicPr/>
          <p:nvPr/>
        </p:nvPicPr>
        <p:blipFill>
          <a:blip r:embed="rId1"/>
          <a:stretch/>
        </p:blipFill>
        <p:spPr>
          <a:xfrm>
            <a:off x="468360" y="189000"/>
            <a:ext cx="3889440" cy="4535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498920" y="1053000"/>
            <a:ext cx="4640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ивим мы вас сейчас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«живой» песок у н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жно строить что угодн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жно вырезать, ле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не пачкает вам ру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 рассыпаться спеш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F:\2015-02-10\162.JPG"/>
          <p:cNvPicPr/>
          <p:nvPr/>
        </p:nvPicPr>
        <p:blipFill>
          <a:blip r:embed="rId2"/>
          <a:stretch/>
        </p:blipFill>
        <p:spPr>
          <a:xfrm rot="20247000">
            <a:off x="2274480" y="3314880"/>
            <a:ext cx="2376360" cy="3222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4215600" y="5444640"/>
            <a:ext cx="470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 мы не нарушаем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собою убира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244"/>
          <p:cNvPicPr/>
          <p:nvPr/>
        </p:nvPicPr>
        <p:blipFill>
          <a:blip r:embed="rId1"/>
          <a:stretch/>
        </p:blipFill>
        <p:spPr>
          <a:xfrm>
            <a:off x="684360" y="54936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F:\2015-02-10\191.JPG"/>
          <p:cNvPicPr/>
          <p:nvPr/>
        </p:nvPicPr>
        <p:blipFill>
          <a:blip r:embed="rId1"/>
          <a:stretch/>
        </p:blipFill>
        <p:spPr>
          <a:xfrm>
            <a:off x="1187280" y="2133720"/>
            <a:ext cx="7380360" cy="4174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398160" y="260280"/>
            <a:ext cx="4618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на полочках стоя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алы для ребя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, кто за столом играе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ит, пазлы собир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F:\2015-02-10\163.JPG"/>
          <p:cNvPicPr/>
          <p:nvPr/>
        </p:nvPicPr>
        <p:blipFill>
          <a:blip r:embed="rId1"/>
          <a:stretch/>
        </p:blipFill>
        <p:spPr>
          <a:xfrm>
            <a:off x="539640" y="404640"/>
            <a:ext cx="3745080" cy="3395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F:\2015-02-10\183.JPG"/>
          <p:cNvPicPr/>
          <p:nvPr/>
        </p:nvPicPr>
        <p:blipFill>
          <a:blip r:embed="rId2"/>
          <a:stretch/>
        </p:blipFill>
        <p:spPr>
          <a:xfrm>
            <a:off x="4932360" y="1125360"/>
            <a:ext cx="3600360" cy="4176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399600" y="3933360"/>
            <a:ext cx="44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по правилам игра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их точно выполня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05760" y="5589360"/>
            <a:ext cx="41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я буквы изуча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я выложить мечта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F:\2015-02-10\192.JPG"/>
          <p:cNvPicPr/>
          <p:nvPr/>
        </p:nvPicPr>
        <p:blipFill>
          <a:blip r:embed="rId1"/>
          <a:stretch/>
        </p:blipFill>
        <p:spPr>
          <a:xfrm>
            <a:off x="395280" y="1197000"/>
            <a:ext cx="5040360" cy="355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F:\2015-02-10\173.JPG"/>
          <p:cNvPicPr/>
          <p:nvPr/>
        </p:nvPicPr>
        <p:blipFill>
          <a:blip r:embed="rId2"/>
          <a:stretch/>
        </p:blipFill>
        <p:spPr>
          <a:xfrm>
            <a:off x="5580000" y="2205000"/>
            <a:ext cx="3311640" cy="4321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3854520" y="259920"/>
            <a:ext cx="474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т сенсорный угол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нам стать умней помо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613800" y="5013000"/>
            <a:ext cx="458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актильные дощеч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омнят руки и глаз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го забыть уже нельзя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Из  макарон, пластилина бобов,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делать поделку каждый готов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Picture 4" descr="IMG_3484"/>
          <p:cNvPicPr/>
          <p:nvPr/>
        </p:nvPicPr>
        <p:blipFill>
          <a:blip r:embed="rId1"/>
          <a:stretch/>
        </p:blipFill>
        <p:spPr>
          <a:xfrm>
            <a:off x="539640" y="1844640"/>
            <a:ext cx="4889520" cy="3259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IMG_3487"/>
          <p:cNvPicPr/>
          <p:nvPr/>
        </p:nvPicPr>
        <p:blipFill>
          <a:blip r:embed="rId2"/>
          <a:stretch/>
        </p:blipFill>
        <p:spPr>
          <a:xfrm>
            <a:off x="4284720" y="3425760"/>
            <a:ext cx="4589280" cy="308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IMG_3497"/>
          <p:cNvPicPr/>
          <p:nvPr/>
        </p:nvPicPr>
        <p:blipFill>
          <a:blip r:embed="rId3"/>
          <a:stretch/>
        </p:blipFill>
        <p:spPr>
          <a:xfrm>
            <a:off x="7380360" y="404640"/>
            <a:ext cx="1479600" cy="1714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IMG_3495"/>
          <p:cNvPicPr/>
          <p:nvPr/>
        </p:nvPicPr>
        <p:blipFill>
          <a:blip r:embed="rId4"/>
          <a:stretch/>
        </p:blipFill>
        <p:spPr>
          <a:xfrm>
            <a:off x="324000" y="4251240"/>
            <a:ext cx="1223640" cy="1089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IMG_3499"/>
          <p:cNvPicPr/>
          <p:nvPr/>
        </p:nvPicPr>
        <p:blipFill>
          <a:blip r:embed="rId5"/>
          <a:stretch/>
        </p:blipFill>
        <p:spPr>
          <a:xfrm>
            <a:off x="5796000" y="1773360"/>
            <a:ext cx="1479600" cy="1492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IMG_3493"/>
          <p:cNvPicPr/>
          <p:nvPr/>
        </p:nvPicPr>
        <p:blipFill>
          <a:blip r:embed="rId6"/>
          <a:stretch/>
        </p:blipFill>
        <p:spPr>
          <a:xfrm>
            <a:off x="1403280" y="5013360"/>
            <a:ext cx="237672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Ракушки приклеивать так необычно, но выйдет подарок красивый, отличный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Picture 4" descr="IMG_3488"/>
          <p:cNvPicPr/>
          <p:nvPr/>
        </p:nvPicPr>
        <p:blipFill>
          <a:blip r:embed="rId1"/>
          <a:stretch/>
        </p:blipFill>
        <p:spPr>
          <a:xfrm>
            <a:off x="395280" y="1700280"/>
            <a:ext cx="6286680" cy="4190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IMG_3492"/>
          <p:cNvPicPr/>
          <p:nvPr/>
        </p:nvPicPr>
        <p:blipFill>
          <a:blip r:embed="rId2"/>
          <a:stretch/>
        </p:blipFill>
        <p:spPr>
          <a:xfrm>
            <a:off x="5651640" y="4460760"/>
            <a:ext cx="30956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F:\2015-02-10\193.JPG"/>
          <p:cNvPicPr/>
          <p:nvPr/>
        </p:nvPicPr>
        <p:blipFill>
          <a:blip r:embed="rId1"/>
          <a:stretch/>
        </p:blipFill>
        <p:spPr>
          <a:xfrm>
            <a:off x="468360" y="404640"/>
            <a:ext cx="604836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F:\2015-02-10\172.JPG"/>
          <p:cNvPicPr/>
          <p:nvPr/>
        </p:nvPicPr>
        <p:blipFill>
          <a:blip r:embed="rId2"/>
          <a:stretch/>
        </p:blipFill>
        <p:spPr>
          <a:xfrm>
            <a:off x="4788000" y="2492280"/>
            <a:ext cx="4076640" cy="41054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328680" y="4724280"/>
            <a:ext cx="578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здесь есть много книг чудес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иллюстраций интерес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нциклопедии здесь е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их интересного не сче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Рисование – наше призвание!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2" name="Picture 4" descr="IMG_3501"/>
          <p:cNvPicPr/>
          <p:nvPr/>
        </p:nvPicPr>
        <p:blipFill>
          <a:blip r:embed="rId1"/>
          <a:stretch/>
        </p:blipFill>
        <p:spPr>
          <a:xfrm>
            <a:off x="539640" y="1628640"/>
            <a:ext cx="6286680" cy="4191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IMG_3511"/>
          <p:cNvPicPr/>
          <p:nvPr/>
        </p:nvPicPr>
        <p:blipFill>
          <a:blip r:embed="rId2"/>
          <a:stretch/>
        </p:blipFill>
        <p:spPr>
          <a:xfrm rot="1578000">
            <a:off x="5810040" y="3796920"/>
            <a:ext cx="30524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F:\2015-02-10\159.JPG"/>
          <p:cNvPicPr/>
          <p:nvPr/>
        </p:nvPicPr>
        <p:blipFill>
          <a:blip r:embed="rId1"/>
          <a:stretch/>
        </p:blipFill>
        <p:spPr>
          <a:xfrm>
            <a:off x="611280" y="404640"/>
            <a:ext cx="6337080" cy="4680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3638520" y="5373360"/>
            <a:ext cx="505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ще есть схемы к ориг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пробуйте – сложите сами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F:\2015-02-10\194.JPG"/>
          <p:cNvPicPr/>
          <p:nvPr/>
        </p:nvPicPr>
        <p:blipFill>
          <a:blip r:embed="rId1"/>
          <a:stretch/>
        </p:blipFill>
        <p:spPr>
          <a:xfrm>
            <a:off x="2916360" y="333360"/>
            <a:ext cx="5616360" cy="421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F:\2015-02-10\200.JPG"/>
          <p:cNvPicPr/>
          <p:nvPr/>
        </p:nvPicPr>
        <p:blipFill>
          <a:blip r:embed="rId2"/>
          <a:stretch/>
        </p:blipFill>
        <p:spPr>
          <a:xfrm>
            <a:off x="324000" y="2781360"/>
            <a:ext cx="3744720" cy="3589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4431240" y="4581360"/>
            <a:ext cx="4395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, кто любит рисов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идется уныва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рисуй чем хочешь 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м, машины иль цв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:\2015-02-10\207.JPG"/>
          <p:cNvPicPr/>
          <p:nvPr/>
        </p:nvPicPr>
        <p:blipFill>
          <a:blip r:embed="rId1"/>
          <a:stretch/>
        </p:blipFill>
        <p:spPr>
          <a:xfrm>
            <a:off x="2195640" y="907920"/>
            <a:ext cx="6624360" cy="4969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3854520" y="4869000"/>
            <a:ext cx="498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друг – другу не меша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бе дело выбира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 в песочнице игр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кто спорт предпочит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" descr="F:\2015-02-10\195.JPG"/>
          <p:cNvPicPr/>
          <p:nvPr/>
        </p:nvPicPr>
        <p:blipFill>
          <a:blip r:embed="rId2"/>
          <a:stretch/>
        </p:blipFill>
        <p:spPr>
          <a:xfrm>
            <a:off x="539640" y="260280"/>
            <a:ext cx="23767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F:\2015-02-10\197.JPG"/>
          <p:cNvPicPr/>
          <p:nvPr/>
        </p:nvPicPr>
        <p:blipFill>
          <a:blip r:embed="rId1"/>
          <a:stretch/>
        </p:blipFill>
        <p:spPr>
          <a:xfrm>
            <a:off x="684360" y="404640"/>
            <a:ext cx="8135640" cy="6102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 rot="19440000">
            <a:off x="5651640" y="529956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комимся с групп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F:\2015-02-10\208.JPG"/>
          <p:cNvPicPr/>
          <p:nvPr/>
        </p:nvPicPr>
        <p:blipFill>
          <a:blip r:embed="rId1"/>
          <a:stretch/>
        </p:blipFill>
        <p:spPr>
          <a:xfrm>
            <a:off x="1692360" y="620640"/>
            <a:ext cx="6804000" cy="5751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401400" y="5229000"/>
            <a:ext cx="534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ли для него ст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уннелем небольшой длин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F:\2015-02-10\155.JPG"/>
          <p:cNvPicPr/>
          <p:nvPr/>
        </p:nvPicPr>
        <p:blipFill>
          <a:blip r:embed="rId1"/>
          <a:stretch/>
        </p:blipFill>
        <p:spPr>
          <a:xfrm>
            <a:off x="395280" y="0"/>
            <a:ext cx="6481800" cy="45370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3998880" y="4869000"/>
            <a:ext cx="433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еще столы быва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миком и сцен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рмарочною витри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мин день весен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F:\2015-02-10\170.JPG"/>
          <p:cNvPicPr/>
          <p:nvPr/>
        </p:nvPicPr>
        <p:blipFill>
          <a:blip r:embed="rId1"/>
          <a:stretch/>
        </p:blipFill>
        <p:spPr>
          <a:xfrm>
            <a:off x="3276720" y="2276640"/>
            <a:ext cx="5545080" cy="4159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F:\2015-02-10\243.JPG"/>
          <p:cNvPicPr/>
          <p:nvPr/>
        </p:nvPicPr>
        <p:blipFill>
          <a:blip r:embed="rId2"/>
          <a:stretch/>
        </p:blipFill>
        <p:spPr>
          <a:xfrm>
            <a:off x="324000" y="47628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255240" y="5816160"/>
            <a:ext cx="86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голок для тихих игр, для уедин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:\2015-02-10\149.JPG"/>
          <p:cNvPicPr/>
          <p:nvPr/>
        </p:nvPicPr>
        <p:blipFill>
          <a:blip r:embed="rId1"/>
          <a:stretch/>
        </p:blipFill>
        <p:spPr>
          <a:xfrm>
            <a:off x="611280" y="1628640"/>
            <a:ext cx="4968720" cy="4199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F:\2015-02-10\168.JPG"/>
          <p:cNvPicPr/>
          <p:nvPr/>
        </p:nvPicPr>
        <p:blipFill>
          <a:blip r:embed="rId2"/>
          <a:stretch/>
        </p:blipFill>
        <p:spPr>
          <a:xfrm>
            <a:off x="4572000" y="189000"/>
            <a:ext cx="4392720" cy="32954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477000" y="5516280"/>
            <a:ext cx="824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ле сна взрослым надо кроватки сложи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у а дети постели спешат застелить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:\2015-02-10\184.JPG"/>
          <p:cNvPicPr/>
          <p:nvPr/>
        </p:nvPicPr>
        <p:blipFill>
          <a:blip r:embed="rId1"/>
          <a:stretch/>
        </p:blipFill>
        <p:spPr>
          <a:xfrm>
            <a:off x="3995640" y="2997360"/>
            <a:ext cx="4824360" cy="3619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F:\2015-02-10\181.JPG"/>
          <p:cNvPicPr/>
          <p:nvPr/>
        </p:nvPicPr>
        <p:blipFill>
          <a:blip r:embed="rId2"/>
          <a:stretch/>
        </p:blipFill>
        <p:spPr>
          <a:xfrm>
            <a:off x="250920" y="260280"/>
            <a:ext cx="4176720" cy="4170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3022560" y="404640"/>
            <a:ext cx="61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юбят дети одежку для кукол стир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веревке сушить, аккуратно в шкаф класть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:\2015-02-10\216.JPG"/>
          <p:cNvPicPr/>
          <p:nvPr/>
        </p:nvPicPr>
        <p:blipFill>
          <a:blip r:embed="rId1"/>
          <a:stretch/>
        </p:blipFill>
        <p:spPr>
          <a:xfrm>
            <a:off x="1619280" y="1125360"/>
            <a:ext cx="7345440" cy="55105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395280" y="404640"/>
            <a:ext cx="841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круга утро начинаем, и  друг другу мы жела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ач в образовании, взаимопонима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оциализации,  в  делах активизации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237920" y="5198760"/>
            <a:ext cx="471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, в самом деле, говор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в круг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вас всех люблю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ши принцип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74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реда не только развивающая, но и развивающаяс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и любых обстоятельствах предметный мир, окружающий ребенка, необходимо пополнять и обновлять, приспосабливая к новым интересам детей и задачам, которые ставят педаго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езопасн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только та среда, где нет острых углов, а та в которой дети умеют обращаться с «опасными» предметами без вреда для себя и друг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же самая богатая среда предметов бессильна в оказании влияния на развитие без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огатства среды духовной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Человеческие отношения – вот та среда, которую нельзя купить ни в одном супермаркете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F:\2015-02-10\196.JPG"/>
          <p:cNvPicPr/>
          <p:nvPr/>
        </p:nvPicPr>
        <p:blipFill>
          <a:blip r:embed="rId1"/>
          <a:stretch/>
        </p:blipFill>
        <p:spPr>
          <a:xfrm>
            <a:off x="611280" y="584280"/>
            <a:ext cx="78850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F:\2015-02-10\185.JPG"/>
          <p:cNvPicPr/>
          <p:nvPr/>
        </p:nvPicPr>
        <p:blipFill>
          <a:blip r:embed="rId1"/>
          <a:stretch/>
        </p:blipFill>
        <p:spPr>
          <a:xfrm>
            <a:off x="250920" y="260280"/>
            <a:ext cx="8532720" cy="6399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 rot="19501800">
            <a:off x="368280" y="136692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мастерской крас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ляпы есть и есть ба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 rot="19780200">
            <a:off x="3923640" y="4651560"/>
            <a:ext cx="49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есь с помощью нарядов, б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прививаем детям вку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F:\2015-02-10\186.JPG"/>
          <p:cNvPicPr/>
          <p:nvPr/>
        </p:nvPicPr>
        <p:blipFill>
          <a:blip r:embed="rId1"/>
          <a:stretch/>
        </p:blipFill>
        <p:spPr>
          <a:xfrm>
            <a:off x="395280" y="476280"/>
            <a:ext cx="8101080" cy="607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 rot="19947000">
            <a:off x="393840" y="1411560"/>
            <a:ext cx="30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голок семь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:\2015-02-10\151.JPG"/>
          <p:cNvPicPr/>
          <p:nvPr/>
        </p:nvPicPr>
        <p:blipFill>
          <a:blip r:embed="rId1"/>
          <a:stretch/>
        </p:blipFill>
        <p:spPr>
          <a:xfrm>
            <a:off x="755640" y="620640"/>
            <a:ext cx="7812000" cy="5859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247680" y="5588640"/>
            <a:ext cx="523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епитие у н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глашаем в гости вас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F:\2015-02-10\187.JPG"/>
          <p:cNvPicPr/>
          <p:nvPr/>
        </p:nvPicPr>
        <p:blipFill>
          <a:blip r:embed="rId1"/>
          <a:stretch/>
        </p:blipFill>
        <p:spPr>
          <a:xfrm>
            <a:off x="5292720" y="1916280"/>
            <a:ext cx="3637080" cy="34686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11" name="Rectangle 4"/>
          <p:cNvSpPr/>
          <p:nvPr/>
        </p:nvSpPr>
        <p:spPr>
          <a:xfrm>
            <a:off x="248040" y="187920"/>
            <a:ext cx="639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витрина супер – магаз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двинуть её можн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нам совсем не сложн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F:\2015-02-10\152.JPG"/>
          <p:cNvPicPr/>
          <p:nvPr/>
        </p:nvPicPr>
        <p:blipFill>
          <a:blip r:embed="rId2"/>
          <a:stretch/>
        </p:blipFill>
        <p:spPr>
          <a:xfrm>
            <a:off x="324000" y="2421000"/>
            <a:ext cx="482436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F:\2015-02-10\167.JPG"/>
          <p:cNvPicPr/>
          <p:nvPr/>
        </p:nvPicPr>
        <p:blipFill>
          <a:blip r:embed="rId1"/>
          <a:stretch/>
        </p:blipFill>
        <p:spPr>
          <a:xfrm>
            <a:off x="468360" y="189000"/>
            <a:ext cx="4824360" cy="5337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762120" y="5592240"/>
            <a:ext cx="771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трина и катается и в театр превращ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имание! Внимание! Спектакль начинаетс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F:\2015-02-10\169.JPG"/>
          <p:cNvPicPr/>
          <p:nvPr/>
        </p:nvPicPr>
        <p:blipFill>
          <a:blip r:embed="rId2"/>
          <a:stretch/>
        </p:blipFill>
        <p:spPr>
          <a:xfrm rot="20653200">
            <a:off x="3995640" y="2060640"/>
            <a:ext cx="48960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0T11:52:31Z</dcterms:created>
  <dc:creator>Лёля</dc:creator>
  <dc:description/>
  <dc:language>en-US</dc:language>
  <cp:lastModifiedBy>User</cp:lastModifiedBy>
  <dcterms:modified xsi:type="dcterms:W3CDTF">2017-04-20T07:59:57Z</dcterms:modified>
  <cp:revision>29</cp:revision>
  <dc:subject/>
  <dc:title>Предметно-развивающая среда в средней группе «Цветик-Семицветик».</dc:title>
</cp:coreProperties>
</file>