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782-44EF-4581-B28B-A960DFE4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ED5-38A7-4DC0-B528-D6B79108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5EB-497C-4240-BE9C-4EDBB3C1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76E-5DBA-43E1-906A-B0F08748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D19-EE24-454B-8F4D-C078F3B8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E923-95A0-44E9-B0D3-16B73F2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FC30-3B3D-4D63-878E-FB021C2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97CA-1C58-484F-BBCA-984D5927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DB02-7006-4197-B296-DA09E2AA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D6FF-4C09-4A40-9E3D-26F59E81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35B-3091-4EC5-8E4A-02BE111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D8C-F5F2-4C74-9E83-E27CC2D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C91D-984B-439C-8786-FF0F845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9901-A0C0-470C-8BAC-2AB66E3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A6A-490E-4D1D-9D94-1DAB2AC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0704-289D-4B61-BCFD-A09A3D89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AC67-D2C9-4A82-8429-4791EC0B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9729-9EE4-4387-B298-73281489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2ED7-9C3C-477C-88E9-DA274728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EF40-899C-49DA-96EC-7CECA98B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245C-C736-4A57-83F9-AAADB81E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B989-2E74-4837-A5F2-A3B61154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F79-63A6-4478-B10A-8CCFFDF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136E-549B-48A4-93B2-C88ED7C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85BD-CCFE-4F60-B7D8-1D767C7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8D4B-9B1D-4B86-8519-3F274AD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95F7-BDCA-4A99-BA3A-AB28D07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91D8-2296-41E6-8B67-4C2A6DA5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773F-DCF2-4846-9F71-50F2F6A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A768-68F2-4902-A943-1807A51F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3AECD-838C-4C74-836A-1FF383BC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A78D-7361-4ED2-B74D-16B2553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417F-F434-492C-BE78-F6FFF748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EF3-CCF0-4E3C-8B04-D9E98FFE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7DAC-ED12-4B3B-8F0F-9C182E30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BE7D-6E82-434F-AD0D-5CDFB6F2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0765-2EA0-49B6-A93A-F845AB5E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4818-FE64-4318-AC09-8B2A7B7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130D-253C-4EFC-99EA-0B3D706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A46D-347D-48DF-BD34-BE1F85B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455F-CA5B-48AC-9E97-E68041BC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C348-B47C-40CF-A6A8-ED6292FD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112F-CC3F-4F88-AEEB-C2CDC638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A604-3CE4-4C66-8FF3-45D685D6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0FB-6164-42B0-A24A-42B0BE6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47FE-B86E-47CD-83B4-2FAF9EC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DD2E-1371-4FC0-A4A1-7AD58CD6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5301-380D-48B4-B384-68CF231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C4779-53C5-4A4E-B9E9-DE432E8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EB64-13B1-4044-8224-78FA6BB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0ADBB-294D-4D45-AAC1-10537B8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2DAE-DE78-4085-928A-F4E7298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179C-D5A3-40DB-B24C-2FAC76B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0686-65BA-4B93-87F3-F235A42A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99A61-AC44-4A04-808C-B84E4B59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824-C50F-444E-A9E6-98D70C3A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8672-A467-440C-BC26-CE66B2BE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21A-EED5-4DCD-B314-96E6EE2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49E-1C34-4A9E-922E-655E900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42F-EE83-42BB-B780-126D37D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8100360" y="32040"/>
            <a:ext cx="1043280" cy="228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ay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 hidden="1"/>
          <p:cNvSpPr/>
          <p:nvPr/>
        </p:nvSpPr>
        <p:spPr>
          <a:xfrm>
            <a:off x="179640" y="260640"/>
            <a:ext cx="8712720" cy="6221880"/>
          </a:xfrm>
          <a:prstGeom prst="roundRect">
            <a:avLst>
              <a:gd name="adj" fmla="val 16667"/>
            </a:avLst>
          </a:prstGeom>
          <a:solidFill>
            <a:schemeClr val="bg1">
              <a:alpha val="90000"/>
            </a:schemeClr>
          </a:solidFill>
          <a:ln w="76200"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475640" y="63687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924000" y="6381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32360" y="638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Рисунок 11" descr=""/>
          <p:cNvPicPr/>
          <p:nvPr/>
        </p:nvPicPr>
        <p:blipFill>
          <a:blip r:embed="rId3"/>
          <a:stretch/>
        </p:blipFill>
        <p:spPr>
          <a:xfrm>
            <a:off x="-7560" y="-34920"/>
            <a:ext cx="6235200" cy="45435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2" descr=""/>
          <p:cNvPicPr/>
          <p:nvPr/>
        </p:nvPicPr>
        <p:blipFill>
          <a:blip r:embed="rId4"/>
          <a:stretch/>
        </p:blipFill>
        <p:spPr>
          <a:xfrm>
            <a:off x="6575760" y="764640"/>
            <a:ext cx="2460240" cy="6281640"/>
          </a:xfrm>
          <a:prstGeom prst="rect">
            <a:avLst/>
          </a:prstGeom>
          <a:ln w="0">
            <a:noFill/>
          </a:ln>
        </p:spPr>
      </p:pic>
      <p:sp>
        <p:nvSpPr>
          <p:cNvPr id="8" name="Прямоугольник 13"/>
          <p:cNvSpPr/>
          <p:nvPr/>
        </p:nvSpPr>
        <p:spPr>
          <a:xfrm>
            <a:off x="8181000" y="-34920"/>
            <a:ext cx="95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ay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14" descr=""/>
          <p:cNvPicPr/>
          <p:nvPr/>
        </p:nvPicPr>
        <p:blipFill>
          <a:blip r:embed="rId5"/>
          <a:stretch/>
        </p:blipFill>
        <p:spPr>
          <a:xfrm>
            <a:off x="35640" y="3717000"/>
            <a:ext cx="1533960" cy="31813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8100360" y="32040"/>
            <a:ext cx="1043280" cy="228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ay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179640" y="260640"/>
            <a:ext cx="8712720" cy="6221880"/>
          </a:xfrm>
          <a:prstGeom prst="roundRect">
            <a:avLst>
              <a:gd name="adj" fmla="val 16667"/>
            </a:avLst>
          </a:prstGeom>
          <a:solidFill>
            <a:schemeClr val="bg1">
              <a:alpha val="90000"/>
            </a:schemeClr>
          </a:solidFill>
          <a:ln w="76200"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475640" y="63687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25480" y="630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34800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D2F9E4-1915-4296-95B0-C97EB882B8D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6" descr=""/>
          <p:cNvPicPr/>
          <p:nvPr/>
        </p:nvPicPr>
        <p:blipFill>
          <a:blip r:embed="rId3"/>
          <a:stretch/>
        </p:blipFill>
        <p:spPr>
          <a:xfrm>
            <a:off x="323640" y="4392360"/>
            <a:ext cx="2000520" cy="256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8100360" y="32040"/>
            <a:ext cx="1043280" cy="228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ay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179640" y="260640"/>
            <a:ext cx="8712720" cy="6221880"/>
          </a:xfrm>
          <a:prstGeom prst="roundRect">
            <a:avLst>
              <a:gd name="adj" fmla="val 16667"/>
            </a:avLst>
          </a:prstGeom>
          <a:solidFill>
            <a:schemeClr val="bg1">
              <a:alpha val="90000"/>
            </a:schemeClr>
          </a:solidFill>
          <a:ln w="76200"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475640" y="63687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6225480" y="630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34800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C55B86-2E37-4E06-B958-998CF6C9365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8" descr=""/>
          <p:cNvPicPr/>
          <p:nvPr/>
        </p:nvPicPr>
        <p:blipFill>
          <a:blip r:embed="rId3"/>
          <a:stretch/>
        </p:blipFill>
        <p:spPr>
          <a:xfrm>
            <a:off x="7092360" y="3501000"/>
            <a:ext cx="2051280" cy="3237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8100360" y="32040"/>
            <a:ext cx="1043280" cy="228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ay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7"/>
          <p:cNvSpPr/>
          <p:nvPr/>
        </p:nvSpPr>
        <p:spPr>
          <a:xfrm>
            <a:off x="179640" y="260640"/>
            <a:ext cx="8712720" cy="6221880"/>
          </a:xfrm>
          <a:prstGeom prst="roundRect">
            <a:avLst>
              <a:gd name="adj" fmla="val 16667"/>
            </a:avLst>
          </a:prstGeom>
          <a:solidFill>
            <a:schemeClr val="bg1">
              <a:alpha val="90000"/>
            </a:schemeClr>
          </a:solidFill>
          <a:ln w="76200"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dt" idx="10"/>
          </p:nvPr>
        </p:nvSpPr>
        <p:spPr>
          <a:xfrm>
            <a:off x="1475640" y="63687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11"/>
          </p:nvPr>
        </p:nvSpPr>
        <p:spPr>
          <a:xfrm>
            <a:off x="6225480" y="630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2"/>
          </p:nvPr>
        </p:nvSpPr>
        <p:spPr>
          <a:xfrm>
            <a:off x="334800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A6A6C-E2CF-46A5-BCD0-4CB3D9EEAE4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4" descr=""/>
          <p:cNvPicPr/>
          <p:nvPr/>
        </p:nvPicPr>
        <p:blipFill>
          <a:blip r:embed="rId3"/>
          <a:stretch/>
        </p:blipFill>
        <p:spPr>
          <a:xfrm flipH="1">
            <a:off x="-180360" y="3213000"/>
            <a:ext cx="3103920" cy="3779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6"/>
          <p:cNvSpPr/>
          <p:nvPr/>
        </p:nvSpPr>
        <p:spPr>
          <a:xfrm>
            <a:off x="8100360" y="32040"/>
            <a:ext cx="1043280" cy="228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ay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7"/>
          <p:cNvSpPr/>
          <p:nvPr/>
        </p:nvSpPr>
        <p:spPr>
          <a:xfrm>
            <a:off x="179640" y="260640"/>
            <a:ext cx="8712720" cy="6221880"/>
          </a:xfrm>
          <a:prstGeom prst="roundRect">
            <a:avLst>
              <a:gd name="adj" fmla="val 16667"/>
            </a:avLst>
          </a:prstGeom>
          <a:solidFill>
            <a:schemeClr val="bg1">
              <a:alpha val="90000"/>
            </a:schemeClr>
          </a:solidFill>
          <a:ln w="76200"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1475640" y="63687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6225480" y="630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34800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576C4C-49FF-4371-BB87-6CDE25F679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640" y="1990440"/>
            <a:ext cx="4752000" cy="125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BY" sz="3600" spc="-1" strike="noStrike">
                <a:solidFill>
                  <a:srgbClr val="ffffff"/>
                </a:solidFill>
                <a:latin typeface="Times New Roman"/>
              </a:rPr>
              <a:t>Библиотерапия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как здоровьесберегающая технология в работе с дошкольникам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113520" y="476640"/>
            <a:ext cx="1050480" cy="1242000"/>
          </a:xfrm>
          <a:prstGeom prst="rect">
            <a:avLst/>
          </a:prstGeom>
          <a:ln w="0">
            <a:noFill/>
          </a:ln>
        </p:spPr>
      </p:pic>
      <p:sp>
        <p:nvSpPr>
          <p:cNvPr id="225" name="Заголовок 1"/>
          <p:cNvSpPr/>
          <p:nvPr/>
        </p:nvSpPr>
        <p:spPr>
          <a:xfrm>
            <a:off x="395640" y="620640"/>
            <a:ext cx="5328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1619640" y="620640"/>
            <a:ext cx="324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BY" sz="1800" spc="-1" strike="noStrike">
                <a:solidFill>
                  <a:srgbClr val="ffffff"/>
                </a:solidFill>
                <a:latin typeface="Times New Roman"/>
              </a:rPr>
              <a:t>МАДОУ ЦРР №23 “Родничок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032000" y="5805360"/>
            <a:ext cx="1656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BY" sz="1600" spc="-1" strike="noStrike">
                <a:solidFill>
                  <a:srgbClr val="000000"/>
                </a:solidFill>
                <a:latin typeface="Times New Roman"/>
              </a:rPr>
              <a:t>г.о.г. Бор, 202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827640" y="692640"/>
            <a:ext cx="6264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ьга Васильевна Чиндилова  выделяет 4 этапа совместного чтения детей взросл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ссматривание книг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вная задача взрослого – вызвать у ребёнка желание, мотивацию прочитать книгу. Дети от взрослого узнают имя автора, название книги, листают, рассматривают книгу, задают вопросы взрослому; рассматривают иллюстрацию, которая предшествует тексту, затем высказывают свои предположения о героях, теме, содержании – произведение веселое или груст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ение текста в режиме медленного чт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 остановками, комментариями). Главная задача взрослого – обеспечить восприятие текста. Необходимо помочь ребёнку «войти» в текст. Проводится словарная работа (объяснение и уточнение значений с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2411640" y="476640"/>
            <a:ext cx="5760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Обсуждение прочитанн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есказ, ответы на вопросы, рассказ от героя сказки, работа с текстом,«Правда-неправда», выражение эмоций с помощью жестов и мимики, пиктограм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ышления детей о конкретном произведении активизируются обычно умелой постановкой вопросов со стороны педагога. Например:</a:t>
            </a:r>
            <a:r>
              <a:rPr b="0" lang="ru-BY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прочитала вам рассказ, каким оказался этот рассказ по настрое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просы касаются как самих произведений, поведения и состояния персонажей, так и реальных жизненных ситуаций. Разговор о книге сливается воедино с разговором о жизни. Этот метод получил названи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“метод дельфина”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уждение книги устремляется то в глубину произведения, то выныривает на поверхность, к жизненным реал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. Воспроизведение и осмысление прочитанного с помощью специальных задани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ение заданий, усиливающих эмоциональное и смысловое восприятие текста, творческие задания. Завершаются такие встречи ритуалом выхода из сюжета книги и добрым, созидательным упражн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971640" y="1772640"/>
            <a:ext cx="712836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BY" sz="2400" spc="-1" strike="noStrike">
                <a:solidFill>
                  <a:srgbClr val="000000"/>
                </a:solidFill>
                <a:latin typeface="Times New Roman"/>
              </a:rPr>
              <a:t>Труд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ный словарный запас</a:t>
            </a: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льшой жизненный опыт</a:t>
            </a: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умение устного выражения чувств от прочитанного</a:t>
            </a: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е внимание</a:t>
            </a:r>
            <a:r>
              <a:rPr b="0" lang="ru-BY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1403640" y="1484640"/>
            <a:ext cx="5976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блиотерап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четании с музыкой, с арт-терапией  удерживает интерес и внимание детей продуктивней, чем обычное зачитывание текста. Музыка эмоционально окрашивает произведение. А рисование деталей произведения, своих эмоций от прочитывания закрепляет положите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блиотерапевтический эфф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6"/>
          <p:cNvSpPr/>
          <p:nvPr/>
        </p:nvSpPr>
        <p:spPr>
          <a:xfrm>
            <a:off x="2915640" y="1989000"/>
            <a:ext cx="4571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бес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чтени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комментирование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инсцен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прослушивание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Рис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этю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другие виды творче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043640" y="1268640"/>
            <a:ext cx="669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иды методов, используемых на занятиях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7"/>
          <p:cNvSpPr/>
          <p:nvPr/>
        </p:nvSpPr>
        <p:spPr>
          <a:xfrm>
            <a:off x="755640" y="1412640"/>
            <a:ext cx="76323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336600"/>
                </a:solidFill>
                <a:latin typeface="Times New Roman"/>
              </a:rPr>
              <a:t>Напрасен ум, если нет пищи мудрости, какую доставляют добрые книги, полные благих наставлений, примеров, нравственных  заветов, законов и благочестивых правил. Словно задушевные друзья  они охотно беседуют с нами… учат нас, ободряют, утешают и так зримо являют нам самые далекие от наших глаз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н Амос Ком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5"/>
          <p:cNvSpPr/>
          <p:nvPr/>
        </p:nvSpPr>
        <p:spPr>
          <a:xfrm>
            <a:off x="2555640" y="2565000"/>
            <a:ext cx="468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BY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Заголовок 1"/>
          <p:cNvSpPr/>
          <p:nvPr/>
        </p:nvSpPr>
        <p:spPr>
          <a:xfrm>
            <a:off x="2915640" y="404640"/>
            <a:ext cx="3456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4000" spc="49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1187640" y="1268640"/>
            <a:ext cx="6480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блиотерап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лат. biblio – книга и греч. therapia – лечение, уход за больным) – разновидность психотерапии, использующая художественную книгу как одну из форм лечения словом, заключенным в художественную фор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2"/>
          <p:cNvSpPr/>
          <p:nvPr/>
        </p:nvSpPr>
        <p:spPr>
          <a:xfrm>
            <a:off x="1403640" y="720360"/>
            <a:ext cx="556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нига – это есть мир, видимый через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саак Ба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899640" y="1989000"/>
            <a:ext cx="7488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рапия появилась много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ходе в библиотеку египет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раона Рамзеса II висела таблич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Аптека для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043640" y="1556640"/>
            <a:ext cx="6840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телем мето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блиотера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жно счит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лая Александровича Рубак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й ввел понятие библиопсихология (1916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ссии только в 1967 году  был открыт первый в СССР кабинет библи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руководителем  стала библиограф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несса Михайловна Мил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2"/>
          <p:cNvSpPr/>
          <p:nvPr/>
        </p:nvSpPr>
        <p:spPr>
          <a:xfrm>
            <a:off x="1115640" y="1700640"/>
            <a:ext cx="6768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BY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ть эмоциональную отзывчивость на состояние другого человека</a:t>
            </a: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апливать благоприятный опыт добрых чувств, поступков, взаимоотношений людей</a:t>
            </a: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ь творческое самовыражение личности</a:t>
            </a: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ть культуру чтения</a:t>
            </a:r>
            <a:r>
              <a:rPr b="0" lang="ru-BY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187640" y="1412640"/>
            <a:ext cx="6408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М.Миллер выделя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 принципа использования книг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иблиотерапевтически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степень доступности изложения (степень сложности книг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герой книги должен быть читателю «по плечу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максимальное сходство ситуации в книге и ситуации, в которой находится чит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683640" y="980640"/>
            <a:ext cx="6480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иблиотерапии применительно к дошкольникам специалисты выделяют несколько напра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цептурное» на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гда книга применяется узко целенаправленно для ликвидации определенного заболевания, проблемы  или де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Мотивационное» на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целенное на мобилизацию духовных сил ребенка, на успокаивающий и отвлекающий эффект (психогигие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цель: гармонизация личности ребенка через чтение художественн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971640" y="491400"/>
            <a:ext cx="734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 выделя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а типа отношения к художественному миру произ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2267640" y="1412640"/>
            <a:ext cx="28616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моционально-образ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представляет собой непосредственную эмоциональную реакцию ребёнка на образы, стоящие в центре произведения. Особенность познавательной деятельности дошкольника в том, что ведущим является эмоциональный компонент. Поэтому при знакомстве с художественной литературой важна, в первую очередь, эмоциональная реакция ребёнка на произведение (радость, удивление, интерес и др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5580000" y="1412640"/>
            <a:ext cx="23760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ллектуально-оценоч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зависит от житейского и читательского опыта ребенка, в котором присутствуют элементы анализа. Общаясь с книгой, ребенок не только познает прошлое, настоящее и будущее мира, но и учится думать, анализировать, развивается твор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971640" y="620640"/>
            <a:ext cx="6984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BY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хнологи</a:t>
            </a:r>
            <a:r>
              <a:rPr b="1" lang="ru-BY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дуктивного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ехнология, обеспечивающая полноценное воспри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а читателем, активную читательскую пози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тношению к тексту и его авт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  <Words>817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4:34:15Z</dcterms:created>
  <dc:creator>007</dc:creator>
  <dc:description/>
  <dc:language>en-US</dc:language>
  <cp:lastModifiedBy>Home</cp:lastModifiedBy>
  <dcterms:modified xsi:type="dcterms:W3CDTF">2022-03-16T17:05:14Z</dcterms:modified>
  <cp:revision>24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