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0DF-92BD-4FE6-8746-BB6E7BA3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DA0-DB9B-477A-A364-EE6B0274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F26-BDCA-4DCB-8936-57230296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123-5C17-480A-98AB-9FB0EFE7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84B-65EA-4469-B396-286CF7F4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484-D3FD-4AB4-AE22-06E0081D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5B4-3A4C-425B-8303-1794C565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5F1-E1A1-4F97-80B8-79C712A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583-098C-48A1-9E56-FE1FCE80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C62-D9B0-47F9-B28C-55BFBBA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8F1-A1B0-4E3C-821F-0DD80CC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37E-87BB-4C53-A5AA-9A41D0FA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D6E-CB3D-4B4D-BDC5-2B866ED2E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1600200"/>
            <a:ext cx="7867800" cy="209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59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00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Где живет Дед Мор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00ff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391464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1600200" cy="120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952880"/>
            <a:ext cx="3276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рская Е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81080" cy="149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95280" y="15238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ед Мороз работает в своем кабинете, почту разбирает, письма чит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38862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Принимает многочисленные поздравления от всех детей разных ст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4033800" cy="268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343400" y="990720"/>
            <a:ext cx="3886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925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925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4191120"/>
            <a:ext cx="284508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2210040" cy="183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523880" y="1447920"/>
            <a:ext cx="5791320" cy="259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1676520" cy="126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98760" y="569880"/>
            <a:ext cx="51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На территории резиденции можно побродить по «Тропе сказо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75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775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775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6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657600" y="380880"/>
            <a:ext cx="3835440" cy="2616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2286000" cy="1722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038480" y="335268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Перед наступлением Нового года везде царит волшебная атмосфера приближения праздника, который одинаково любят дети и взросл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250"/>
                            </p:stCondLst>
                            <p:childTnLst>
                              <p:par>
                                <p:cTn id="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057400" cy="155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72216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В конце декабря Дед Мороз торжественно выезжает из своей резиденции, чтобы зажечь главную новогоднюю елку в столице России, в Москв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81080" cy="149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7010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914400" y="1905120"/>
            <a:ext cx="7238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С Новым Годом!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43828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019920" y="609480"/>
            <a:ext cx="128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523880" y="44956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Родиной Деда Мороза является </a:t>
            </a:r>
            <a:r>
              <a:rPr b="1" i="1" lang="en-US" sz="1600" spc="-1" strike="noStrike">
                <a:solidFill>
                  <a:srgbClr val="ff0066"/>
                </a:solidFill>
                <a:latin typeface="Times New Roman"/>
              </a:rPr>
              <a:t>Великий Устюг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 – древнейший город Вологод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752840" cy="1320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00200" y="990720"/>
            <a:ext cx="518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19720" y="685800"/>
            <a:ext cx="373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А вы хотите побывать в гостях у Дедушки Мороз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Устраивайтесь поудобнее, мы отправляемся в сказ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2244960" cy="35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1447920" cy="1090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rot="680400">
            <a:off x="3580920" y="2209320"/>
            <a:ext cx="4496040" cy="192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962520" y="4191120"/>
            <a:ext cx="12412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200400" y="2971800"/>
            <a:ext cx="109872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5857920" y="4419720"/>
            <a:ext cx="1050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114800"/>
            <a:ext cx="466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Непросто добраться до тер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еда Моро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Он стоит далеко в глухом лесу, окружен величественными лесами. Но Дед Мороз знает, что делать. Он расставил по всему лесу указ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327672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38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6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15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495324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86400" y="533520"/>
            <a:ext cx="2819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Путешествие в сказку начинается от резных ворот, ведущих во владения сказочного волшеб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ед Мороз со своей внучкой Снегурочкой встречает г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19920" y="3048120"/>
            <a:ext cx="2466720" cy="215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80880" y="152280"/>
            <a:ext cx="13716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70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43000" y="525780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И вот перед нами терем Деда Мороза, большой деревянный, с широким крыльцом, резными ставнями и снежинками на башенках. Как в сказ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47920" cy="10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60195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743200" y="45720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952880" y="2438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791320" y="457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85800" y="457200"/>
            <a:ext cx="1828800" cy="137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36640" y="4913280"/>
            <a:ext cx="504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У Деда Мороза есть помощники – сказочные герои, которые развлекают путешественников веселыми конкурсами и испыт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305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5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5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10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1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990720"/>
            <a:ext cx="335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Давайте заглянем внутрь, в его широкие палаты. Это главный зал, в котором стоит трон Деда Мороза, и украшена самая главная новогодняя ел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426744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4267080" cy="330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447560" cy="1090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76920" y="426708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Существует поверье – кто сядет на трон и загадает желание, оно сбудется в течении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4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40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52880" y="533520"/>
            <a:ext cx="3657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Есть в густом лесу изба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В ней с узорами резьба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И пуховая кровать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На которой колко спать: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Вместо пуха в той перинке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Только звёздочки-снежинки,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Ледяное покрывало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Заменяет одеяло.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А живёт в избе Мороз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И зовётся - Красный Н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5720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А это волшебная столовая, в которой Дедушка со своей свитой обедает и гостей потчует, а на столе скатерть самобр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279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1524240" cy="1149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5105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40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4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17:41:26Z</dcterms:created>
  <dc:creator>User</dc:creator>
  <dc:description/>
  <dc:language>en-US</dc:language>
  <cp:lastModifiedBy>Алекс</cp:lastModifiedBy>
  <dcterms:modified xsi:type="dcterms:W3CDTF">2022-04-11T05:29:4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