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528-359D-4FD2-A839-97953D3A06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метрия 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EE0-EBBA-4E89-B5DA-3D5DE070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610-3780-4CE0-8BF9-7F65014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C72-7620-423C-A325-F14497D4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275-9C50-4EF3-9380-A8E725B8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5D0B-2516-40A4-8871-DAFDDFA2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4AF2-D378-46EC-957E-D4924A86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C3A-D1FB-4A77-AC12-76037A1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022F-8094-4C4C-AC8C-31B3BCBC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2B39-E5F5-4319-BC34-216304E5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C11C-9339-461D-B812-9D805848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8372-83C8-449D-82D1-98A7A71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A0A-C17A-4993-83E6-D95523C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3F56-83EB-4660-B429-B403EBF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B39-AC05-48DF-9594-A91DF79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BE0-DA41-4231-953A-638311D1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ADE-51E4-49F7-B2B6-4D6F69AD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117-3DFB-43F0-94E2-8AEFDC02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65-2AFB-448B-9666-457031F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343-4E87-483C-900B-0C8040D2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524-6E4A-4B9D-8F9D-7BAB79A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566-146F-4869-AF78-55697FF3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153-D512-4CBE-8C35-904AC45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C8C-8234-4B5B-836A-6A2A587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32F-75E4-4BE2-A63E-F6ED32B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B61-30E6-4741-B762-2A8BD618EE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94D-5CF3-430C-910E-334ECAE5E9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МАТЕМАТИЧЕСКИЙ ТУРНИР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Думай. Смекай. Отгадыва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2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6003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845720" y="187200"/>
            <a:ext cx="47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Arial Black"/>
              </a:rPr>
              <a:t>Задачи </a:t>
            </a:r>
            <a:r>
              <a:rPr b="0" lang="en-US" sz="4000" spc="-1" strike="noStrike">
                <a:solidFill>
                  <a:srgbClr val="703dff"/>
                </a:solidFill>
                <a:latin typeface="Arial Black"/>
              </a:rPr>
              <a:t>- </a:t>
            </a:r>
            <a:r>
              <a:rPr b="0" lang="ru-RU" sz="4000" spc="-1" strike="noStrike">
                <a:solidFill>
                  <a:srgbClr val="703dff"/>
                </a:solidFill>
                <a:latin typeface="Arial Black"/>
              </a:rPr>
              <a:t>смека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500720" y="2708280"/>
            <a:ext cx="1187280" cy="1471680"/>
            <a:chOff x="4500720" y="2708280"/>
            <a:chExt cx="1187280" cy="1471680"/>
          </a:xfrm>
        </p:grpSpPr>
        <p:sp>
          <p:nvSpPr>
            <p:cNvPr id="506" name=""/>
            <p:cNvSpPr/>
            <p:nvPr/>
          </p:nvSpPr>
          <p:spPr>
            <a:xfrm>
              <a:off x="4500720" y="2897280"/>
              <a:ext cx="1187280" cy="1141200"/>
            </a:xfrm>
            <a:custGeom>
              <a:avLst/>
              <a:gdLst>
                <a:gd name="textAreaLeft" fmla="*/ 176400 w 1187280"/>
                <a:gd name="textAreaRight" fmla="*/ 1010880 w 1187280"/>
                <a:gd name="textAreaTop" fmla="*/ 169560 h 1141200"/>
                <a:gd name="textAreaBottom" fmla="*/ 971640 h 11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00720" y="2708280"/>
              <a:ext cx="11872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43280" y="3895560"/>
              <a:ext cx="901800" cy="284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763640" y="2708280"/>
            <a:ext cx="1190520" cy="1473120"/>
            <a:chOff x="1763640" y="2708280"/>
            <a:chExt cx="1190520" cy="1473120"/>
          </a:xfrm>
        </p:grpSpPr>
        <p:sp>
          <p:nvSpPr>
            <p:cNvPr id="510" name=""/>
            <p:cNvSpPr/>
            <p:nvPr/>
          </p:nvSpPr>
          <p:spPr>
            <a:xfrm>
              <a:off x="1906200" y="3897360"/>
              <a:ext cx="904680" cy="28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63640" y="2898000"/>
              <a:ext cx="1190520" cy="1141560"/>
            </a:xfrm>
            <a:custGeom>
              <a:avLst/>
              <a:gdLst>
                <a:gd name="textAreaLeft" fmla="*/ 176760 w 1190520"/>
                <a:gd name="textAreaRight" fmla="*/ 1013760 w 1190520"/>
                <a:gd name="textAreaTop" fmla="*/ 169560 h 1141560"/>
                <a:gd name="textAreaBottom" fmla="*/ 972000 h 11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63640" y="2708280"/>
              <a:ext cx="1190520" cy="380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31680" y="3422160"/>
              <a:ext cx="1056960" cy="617400"/>
            </a:xfrm>
            <a:custGeom>
              <a:avLst/>
              <a:gdLst>
                <a:gd name="textAreaLeft" fmla="*/ 127440 w 1056960"/>
                <a:gd name="textAreaRight" fmla="*/ 929520 w 1056960"/>
                <a:gd name="textAreaTop" fmla="*/ 74520 h 617400"/>
                <a:gd name="textAreaBottom" fmla="*/ 5428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6" y="21600"/>
                  </a:lnTo>
                  <a:lnTo>
                    <a:pt x="1544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06200" y="3897360"/>
              <a:ext cx="904680" cy="2840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6000" y="3278520"/>
              <a:ext cx="1047600" cy="284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236000" y="2708280"/>
            <a:ext cx="1187280" cy="1471320"/>
            <a:chOff x="7236000" y="2708280"/>
            <a:chExt cx="1187280" cy="1471320"/>
          </a:xfrm>
        </p:grpSpPr>
        <p:sp>
          <p:nvSpPr>
            <p:cNvPr id="517" name=""/>
            <p:cNvSpPr/>
            <p:nvPr/>
          </p:nvSpPr>
          <p:spPr>
            <a:xfrm>
              <a:off x="7236000" y="2897640"/>
              <a:ext cx="1187280" cy="1140840"/>
            </a:xfrm>
            <a:custGeom>
              <a:avLst/>
              <a:gdLst>
                <a:gd name="textAreaLeft" fmla="*/ 176400 w 1187280"/>
                <a:gd name="textAreaRight" fmla="*/ 1010880 w 1187280"/>
                <a:gd name="textAreaTop" fmla="*/ 169560 h 1140840"/>
                <a:gd name="textAreaBottom" fmla="*/ 971280 h 114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36000" y="2708280"/>
              <a:ext cx="1187280" cy="379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78200" y="3895920"/>
              <a:ext cx="902880" cy="283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95280" y="2708280"/>
            <a:ext cx="1190520" cy="1473120"/>
            <a:chOff x="395280" y="2708280"/>
            <a:chExt cx="1190520" cy="1473120"/>
          </a:xfrm>
        </p:grpSpPr>
        <p:sp>
          <p:nvSpPr>
            <p:cNvPr id="521" name=""/>
            <p:cNvSpPr/>
            <p:nvPr/>
          </p:nvSpPr>
          <p:spPr>
            <a:xfrm>
              <a:off x="538200" y="3897360"/>
              <a:ext cx="904680" cy="28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5280" y="2898720"/>
              <a:ext cx="1190520" cy="1141560"/>
            </a:xfrm>
            <a:custGeom>
              <a:avLst/>
              <a:gdLst>
                <a:gd name="textAreaLeft" fmla="*/ 176760 w 1190520"/>
                <a:gd name="textAreaRight" fmla="*/ 1013760 w 1190520"/>
                <a:gd name="textAreaTop" fmla="*/ 169560 h 1141560"/>
                <a:gd name="textAreaBottom" fmla="*/ 972000 h 11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5280" y="2708280"/>
              <a:ext cx="119052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3680" y="3422520"/>
              <a:ext cx="1057320" cy="617760"/>
            </a:xfrm>
            <a:custGeom>
              <a:avLst/>
              <a:gdLst>
                <a:gd name="textAreaLeft" fmla="*/ 127440 w 1057320"/>
                <a:gd name="textAreaRight" fmla="*/ 929880 w 1057320"/>
                <a:gd name="textAreaTop" fmla="*/ 74520 h 617760"/>
                <a:gd name="textAreaBottom" fmla="*/ 543240 h 6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6" y="21600"/>
                  </a:lnTo>
                  <a:lnTo>
                    <a:pt x="1544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8200" y="3897360"/>
              <a:ext cx="904680" cy="2840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360" y="3278160"/>
              <a:ext cx="1047600" cy="284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867280" y="2708280"/>
            <a:ext cx="1187640" cy="1471320"/>
            <a:chOff x="5867280" y="2708280"/>
            <a:chExt cx="1187640" cy="1471320"/>
          </a:xfrm>
        </p:grpSpPr>
        <p:sp>
          <p:nvSpPr>
            <p:cNvPr id="528" name=""/>
            <p:cNvSpPr/>
            <p:nvPr/>
          </p:nvSpPr>
          <p:spPr>
            <a:xfrm>
              <a:off x="5867280" y="2897640"/>
              <a:ext cx="1187640" cy="1140840"/>
            </a:xfrm>
            <a:custGeom>
              <a:avLst/>
              <a:gdLst>
                <a:gd name="textAreaLeft" fmla="*/ 176400 w 1187640"/>
                <a:gd name="textAreaRight" fmla="*/ 1011240 w 1187640"/>
                <a:gd name="textAreaTop" fmla="*/ 169560 h 1140840"/>
                <a:gd name="textAreaBottom" fmla="*/ 971280 h 114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7280" y="2708280"/>
              <a:ext cx="1187640" cy="379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09480" y="3895920"/>
              <a:ext cx="902880" cy="283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132000" y="2708280"/>
            <a:ext cx="1190880" cy="1473120"/>
            <a:chOff x="3132000" y="2708280"/>
            <a:chExt cx="1190880" cy="1473120"/>
          </a:xfrm>
        </p:grpSpPr>
        <p:sp>
          <p:nvSpPr>
            <p:cNvPr id="532" name=""/>
            <p:cNvSpPr/>
            <p:nvPr/>
          </p:nvSpPr>
          <p:spPr>
            <a:xfrm>
              <a:off x="3274560" y="3897360"/>
              <a:ext cx="905040" cy="28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32000" y="2898000"/>
              <a:ext cx="1190880" cy="1141560"/>
            </a:xfrm>
            <a:custGeom>
              <a:avLst/>
              <a:gdLst>
                <a:gd name="textAreaLeft" fmla="*/ 176760 w 1190880"/>
                <a:gd name="textAreaRight" fmla="*/ 1014120 w 1190880"/>
                <a:gd name="textAreaTop" fmla="*/ 169560 h 1141560"/>
                <a:gd name="textAreaBottom" fmla="*/ 972000 h 11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1" y="21600"/>
                  </a:lnTo>
                  <a:lnTo>
                    <a:pt x="262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32000" y="2708280"/>
              <a:ext cx="1190880" cy="380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00040" y="3422160"/>
              <a:ext cx="1057320" cy="617400"/>
            </a:xfrm>
            <a:custGeom>
              <a:avLst/>
              <a:gdLst>
                <a:gd name="textAreaLeft" fmla="*/ 127440 w 1057320"/>
                <a:gd name="textAreaRight" fmla="*/ 929880 w 1057320"/>
                <a:gd name="textAreaTop" fmla="*/ 74520 h 617400"/>
                <a:gd name="textAreaBottom" fmla="*/ 5428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6" y="21600"/>
                  </a:lnTo>
                  <a:lnTo>
                    <a:pt x="1544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4560" y="3897360"/>
              <a:ext cx="905040" cy="2840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04360" y="3278520"/>
              <a:ext cx="1047960" cy="284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конкурс</a:t>
            </a:r>
            <a:br>
              <a:rPr sz="3600"/>
            </a:b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«Составь пословицу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877080" y="2852640"/>
            <a:ext cx="1215720" cy="599760"/>
            <a:chOff x="6877080" y="2852640"/>
            <a:chExt cx="1215720" cy="599760"/>
          </a:xfrm>
        </p:grpSpPr>
        <p:sp>
          <p:nvSpPr>
            <p:cNvPr id="540" name=""/>
            <p:cNvSpPr/>
            <p:nvPr/>
          </p:nvSpPr>
          <p:spPr>
            <a:xfrm>
              <a:off x="6877080" y="2852640"/>
              <a:ext cx="1215720" cy="599760"/>
            </a:xfrm>
            <a:custGeom>
              <a:avLst/>
              <a:gdLst>
                <a:gd name="textAreaLeft" fmla="*/ 303840 w 1215720"/>
                <a:gd name="textAreaRight" fmla="*/ 911880 w 121572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7080" y="2911320"/>
              <a:ext cx="1215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ем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140360" y="3860640"/>
            <a:ext cx="1217160" cy="599760"/>
            <a:chOff x="4140360" y="3860640"/>
            <a:chExt cx="1217160" cy="599760"/>
          </a:xfrm>
        </p:grpSpPr>
        <p:sp>
          <p:nvSpPr>
            <p:cNvPr id="543" name=""/>
            <p:cNvSpPr/>
            <p:nvPr/>
          </p:nvSpPr>
          <p:spPr>
            <a:xfrm>
              <a:off x="4140360" y="3860640"/>
              <a:ext cx="1217160" cy="599760"/>
            </a:xfrm>
            <a:custGeom>
              <a:avLst/>
              <a:gdLst>
                <a:gd name="textAreaLeft" fmla="*/ 304200 w 1217160"/>
                <a:gd name="textAreaRight" fmla="*/ 912960 w 121716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40360" y="3919320"/>
              <a:ext cx="1217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а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924360" y="1989000"/>
            <a:ext cx="1620360" cy="599760"/>
            <a:chOff x="3924360" y="1989000"/>
            <a:chExt cx="1620360" cy="599760"/>
          </a:xfrm>
        </p:grpSpPr>
        <p:sp>
          <p:nvSpPr>
            <p:cNvPr id="546" name=""/>
            <p:cNvSpPr/>
            <p:nvPr/>
          </p:nvSpPr>
          <p:spPr>
            <a:xfrm>
              <a:off x="3924360" y="1989000"/>
              <a:ext cx="1620360" cy="599760"/>
            </a:xfrm>
            <a:custGeom>
              <a:avLst/>
              <a:gdLst>
                <a:gd name="textAreaLeft" fmla="*/ 405000 w 1620360"/>
                <a:gd name="textAreaRight" fmla="*/ 1215360 w 162036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24360" y="2047680"/>
              <a:ext cx="162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тмер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084720" y="4797360"/>
            <a:ext cx="1217520" cy="599760"/>
            <a:chOff x="6084720" y="4797360"/>
            <a:chExt cx="1217520" cy="599760"/>
          </a:xfrm>
        </p:grpSpPr>
        <p:sp>
          <p:nvSpPr>
            <p:cNvPr id="549" name=""/>
            <p:cNvSpPr/>
            <p:nvPr/>
          </p:nvSpPr>
          <p:spPr>
            <a:xfrm>
              <a:off x="6084720" y="4797360"/>
              <a:ext cx="1217520" cy="599760"/>
            </a:xfrm>
            <a:custGeom>
              <a:avLst/>
              <a:gdLst>
                <a:gd name="textAreaLeft" fmla="*/ 304200 w 1217520"/>
                <a:gd name="textAreaRight" fmla="*/ 913320 w 121752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84720" y="4856040"/>
              <a:ext cx="121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ди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042920" y="3068640"/>
            <a:ext cx="1622160" cy="599760"/>
            <a:chOff x="1042920" y="3068640"/>
            <a:chExt cx="1622160" cy="599760"/>
          </a:xfrm>
        </p:grpSpPr>
        <p:sp>
          <p:nvSpPr>
            <p:cNvPr id="552" name=""/>
            <p:cNvSpPr/>
            <p:nvPr/>
          </p:nvSpPr>
          <p:spPr>
            <a:xfrm>
              <a:off x="1042920" y="3068640"/>
              <a:ext cx="1622160" cy="599760"/>
            </a:xfrm>
            <a:custGeom>
              <a:avLst/>
              <a:gdLst>
                <a:gd name="textAreaLeft" fmla="*/ 405360 w 1622160"/>
                <a:gd name="textAreaRight" fmla="*/ 1216800 w 162216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42920" y="3127320"/>
              <a:ext cx="1622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треж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700360" y="5157720"/>
            <a:ext cx="1217160" cy="599760"/>
            <a:chOff x="2700360" y="5157720"/>
            <a:chExt cx="1217160" cy="599760"/>
          </a:xfrm>
        </p:grpSpPr>
        <p:sp>
          <p:nvSpPr>
            <p:cNvPr id="555" name=""/>
            <p:cNvSpPr/>
            <p:nvPr/>
          </p:nvSpPr>
          <p:spPr>
            <a:xfrm>
              <a:off x="2700360" y="5157720"/>
              <a:ext cx="1217160" cy="599760"/>
            </a:xfrm>
            <a:custGeom>
              <a:avLst/>
              <a:gdLst>
                <a:gd name="textAreaLeft" fmla="*/ 304200 w 1217160"/>
                <a:gd name="textAreaRight" fmla="*/ 912960 w 1217160"/>
                <a:gd name="textAreaTop" fmla="*/ 17640 h 599760"/>
                <a:gd name="textAreaBottom" fmla="*/ 45000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00360" y="5216400"/>
              <a:ext cx="1217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а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C -0.05209 -0.2287 -0.104 -0.45694 -0.16632 -0.39513 C -0.22865 -0.33333 -0.28125 0.30579 -0.37448 0.37061 C -0.46771 0.43542 -0.66285 0.06968 -0.7257 -0.00601 E">
                                      <p:cBhvr>
                                        <p:cTn id="178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C 0.13073 0.04398 0.26163 0.08912 0.35694 0.05579 C 0.45226 0.02245 0.54358 -0.09491 0.57205 -0.2 C 0.60052 -0.30509 0.59844 -0.49583 0.52795 -0.57523 C 0.45747 -0.65463 0.25799 -0.71528 0.14896 -0.67593 C 0.03993 -0.63657 -0.06962 -0.41852 -0.12674 -0.33958 E">
                                      <p:cBhvr>
                                        <p:cTn id="180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17986 0.09005 0.3599 0.1801 0.34653 0.26968 C 0.33316 0.35926 0.03108 0.53403 -0.08021 0.53797 C -0.19149 0.5419 -0.32934 0.34607 -0.32083 0.29306 C -0.31233 0.24005 -0.06285 0.24931 -0.02899 0.22014 C 0.00486 0.19098 -0.08854 0.1544 -0.11736 0.11783 E">
                                      <p:cBhvr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-0.14219 -0.01922 -0.2842 -0.03843 -0.33941 -0.11019 C -0.39462 -0.18195 -0.35938 -0.40023 -0.33125 -0.43102 C -0.30313 -0.46181 -0.20625 -0.32292 -0.17084 -0.29468 E">
                                      <p:cBhvr>
                                        <p:cTn id="184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44444E-006 C -0.09271 -0.08287 -0.18541 -0.16574 -0.21979 -0.25115 C -0.25416 -0.33657 -0.25069 -0.45879 -0.20573 -0.5118 C -0.16076 -0.56481 -0.0243 -0.60069 0.05 -0.56898 C 0.12431 -0.53726 0.21702 -0.39027 0.23959 -0.32106 C 0.26215 -0.25185 0.20434 -0.1956 0.1849 -0.15347 E">
                                      <p:cBhvr>
                                        <p:cTn id="18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C -0.02673 0.06574 -0.05347 0.13148 -0.03385 0.19375 C -0.01423 0.25602 0.06927 0.43981 0.11736 0.37361 C 0.16545 0.30741 0.18247 -0.11157 0.25452 -0.20324 C 0.32656 -0.29491 0.48177 -0.20486 0.55 -0.17685 C 0.61823 -0.14884 0.61945 -0.06366 0.66389 -0.03565 E">
                                      <p:cBhvr>
                                        <p:cTn id="188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f66"/>
                </a:solidFill>
                <a:latin typeface="Arial Black"/>
              </a:rPr>
              <a:t>Подведение итог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 конкурс</a:t>
            </a:r>
            <a:br>
              <a:rPr sz="4400"/>
            </a:br>
            <a:r>
              <a:rPr b="0" lang="en-US" sz="3600" spc="-1" strike="noStrike">
                <a:solidFill>
                  <a:srgbClr val="703dff"/>
                </a:solidFill>
                <a:latin typeface="Arial Black"/>
              </a:rPr>
              <a:t>Задачи-шут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колько рогов у двух ко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Двое ребят решали задачу 20 минут. Сколько минут решал задачу кажды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дно яйцо варится 10 минут. Сколько минут будут вариться 5 яиц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алка имеет два конца. Сколько концов у половины пал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столе стояло 3 стакана с малиной. Вова один стакан малины съел. Сколько стаканов осталос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948360" y="5105520"/>
            <a:ext cx="17640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 конкурс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Arial Black"/>
              </a:rPr>
              <a:t>В гостях у Карандаша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графический дикт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67694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9564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292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292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292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292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292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292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292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292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292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292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292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8292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292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292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292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765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1054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163044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134136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19177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2205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249408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3070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278136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3357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364500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39337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4510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1640" y="4221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479736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508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5373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5661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5928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5928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4800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4800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4800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4800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4800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800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528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528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2436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436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2436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2436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2436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2436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2436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164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1164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1164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164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164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164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1164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1164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1164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1164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892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892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892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892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9892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892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9892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9892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9892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892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892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892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892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9892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9892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9892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9892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9892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620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620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620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8620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8620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8620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8620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620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8620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8620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8620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620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8620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620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8620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620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8620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8620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528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528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7528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528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528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528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7528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528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7528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528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7528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7528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7528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7528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528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528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7528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256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6256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6256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6256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256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6256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6256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256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256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256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6256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6256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6256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6256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6256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6256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256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6256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5164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5164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5164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5164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5164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5164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5164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5164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3892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3892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3892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3892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3892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3892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3892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3892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3892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3892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3892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3892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3892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3892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3892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93892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3892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3892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27640" y="765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27640" y="1054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27640" y="163044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27640" y="134136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27640" y="19177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27640" y="2205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27640" y="249408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27640" y="3070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27640" y="278136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7640" y="3357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27640" y="364500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7640" y="39337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27640" y="451008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27640" y="4221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479736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27640" y="508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27640" y="5373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27640" y="566100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15280" y="76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15280" y="1054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15280" y="16304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15280" y="1341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15280" y="1917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15280" y="2205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15280" y="249408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15280" y="307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5280" y="278136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15280" y="3357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15280" y="364500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15280" y="393372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15280" y="4510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15280" y="422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15280" y="47973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15280" y="508464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15280" y="5373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15280" y="566100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82920" y="1054080"/>
            <a:ext cx="4032360" cy="4608360"/>
          </a:xfrm>
          <a:custGeom>
            <a:avLst/>
            <a:gdLst/>
            <a:ahLst/>
            <a:rect l="l" t="t" r="r" b="b"/>
            <a:pathLst>
              <a:path w="2540" h="2903">
                <a:moveTo>
                  <a:pt x="0" y="544"/>
                </a:moveTo>
                <a:lnTo>
                  <a:pt x="0" y="363"/>
                </a:lnTo>
                <a:lnTo>
                  <a:pt x="182" y="363"/>
                </a:lnTo>
                <a:lnTo>
                  <a:pt x="182" y="181"/>
                </a:lnTo>
                <a:lnTo>
                  <a:pt x="363" y="181"/>
                </a:lnTo>
                <a:lnTo>
                  <a:pt x="363" y="0"/>
                </a:lnTo>
                <a:lnTo>
                  <a:pt x="545" y="0"/>
                </a:lnTo>
                <a:lnTo>
                  <a:pt x="545" y="181"/>
                </a:lnTo>
                <a:lnTo>
                  <a:pt x="726" y="181"/>
                </a:lnTo>
                <a:lnTo>
                  <a:pt x="726" y="363"/>
                </a:lnTo>
                <a:lnTo>
                  <a:pt x="907" y="363"/>
                </a:lnTo>
                <a:lnTo>
                  <a:pt x="907" y="544"/>
                </a:lnTo>
                <a:lnTo>
                  <a:pt x="1089" y="544"/>
                </a:lnTo>
                <a:lnTo>
                  <a:pt x="1089" y="725"/>
                </a:lnTo>
                <a:lnTo>
                  <a:pt x="726" y="725"/>
                </a:lnTo>
                <a:lnTo>
                  <a:pt x="726" y="1270"/>
                </a:lnTo>
                <a:lnTo>
                  <a:pt x="1089" y="1270"/>
                </a:lnTo>
                <a:lnTo>
                  <a:pt x="1089" y="1088"/>
                </a:lnTo>
                <a:lnTo>
                  <a:pt x="1815" y="1088"/>
                </a:lnTo>
                <a:lnTo>
                  <a:pt x="1815" y="725"/>
                </a:lnTo>
                <a:lnTo>
                  <a:pt x="2359" y="725"/>
                </a:lnTo>
                <a:lnTo>
                  <a:pt x="2359" y="907"/>
                </a:lnTo>
                <a:lnTo>
                  <a:pt x="2540" y="907"/>
                </a:lnTo>
                <a:lnTo>
                  <a:pt x="2540" y="1270"/>
                </a:lnTo>
                <a:lnTo>
                  <a:pt x="2359" y="1270"/>
                </a:lnTo>
                <a:lnTo>
                  <a:pt x="2359" y="1088"/>
                </a:lnTo>
                <a:lnTo>
                  <a:pt x="2177" y="1088"/>
                </a:lnTo>
                <a:lnTo>
                  <a:pt x="2177" y="1270"/>
                </a:lnTo>
                <a:lnTo>
                  <a:pt x="1996" y="1270"/>
                </a:lnTo>
                <a:lnTo>
                  <a:pt x="1996" y="1451"/>
                </a:lnTo>
                <a:lnTo>
                  <a:pt x="1815" y="1451"/>
                </a:lnTo>
                <a:lnTo>
                  <a:pt x="1815" y="1814"/>
                </a:lnTo>
                <a:lnTo>
                  <a:pt x="1633" y="1814"/>
                </a:lnTo>
                <a:lnTo>
                  <a:pt x="1633" y="2177"/>
                </a:lnTo>
                <a:lnTo>
                  <a:pt x="1270" y="2177"/>
                </a:lnTo>
                <a:lnTo>
                  <a:pt x="1270" y="2903"/>
                </a:lnTo>
                <a:lnTo>
                  <a:pt x="907" y="2903"/>
                </a:lnTo>
                <a:lnTo>
                  <a:pt x="907" y="2721"/>
                </a:lnTo>
                <a:lnTo>
                  <a:pt x="1089" y="2721"/>
                </a:lnTo>
                <a:lnTo>
                  <a:pt x="1089" y="2358"/>
                </a:lnTo>
                <a:lnTo>
                  <a:pt x="907" y="2358"/>
                </a:lnTo>
                <a:lnTo>
                  <a:pt x="907" y="2177"/>
                </a:lnTo>
                <a:lnTo>
                  <a:pt x="726" y="2177"/>
                </a:lnTo>
                <a:lnTo>
                  <a:pt x="726" y="1995"/>
                </a:lnTo>
                <a:lnTo>
                  <a:pt x="545" y="1995"/>
                </a:lnTo>
                <a:lnTo>
                  <a:pt x="545" y="1814"/>
                </a:lnTo>
                <a:lnTo>
                  <a:pt x="363" y="1814"/>
                </a:lnTo>
                <a:lnTo>
                  <a:pt x="363" y="725"/>
                </a:lnTo>
                <a:lnTo>
                  <a:pt x="182" y="725"/>
                </a:lnTo>
                <a:lnTo>
                  <a:pt x="182" y="544"/>
                </a:lnTo>
                <a:lnTo>
                  <a:pt x="0" y="544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4360" y="404640"/>
            <a:ext cx="7272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конкурс</a:t>
            </a:r>
            <a:br>
              <a:rPr sz="4400"/>
            </a:b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33736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84360" y="404640"/>
            <a:ext cx="7272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конкурс</a:t>
            </a:r>
            <a:br>
              <a:rPr sz="4400"/>
            </a:b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1655640" cy="2016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124000" y="2781360"/>
            <a:ext cx="1586160" cy="1585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-181080" y="1413000"/>
            <a:ext cx="163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108000" y="333360"/>
            <a:ext cx="2305080" cy="982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484360" cy="39337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7120080" y="4005360"/>
            <a:ext cx="1860480" cy="2852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rcRect l="3845" t="5064" r="2532" b="8909"/>
          <a:stretch/>
        </p:blipFill>
        <p:spPr>
          <a:xfrm>
            <a:off x="6084720" y="-171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5076720" y="1700280"/>
            <a:ext cx="2089080" cy="2232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0"/>
          <a:stretch/>
        </p:blipFill>
        <p:spPr>
          <a:xfrm>
            <a:off x="1476360" y="4508640"/>
            <a:ext cx="6048360" cy="34909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2484360" y="4221000"/>
            <a:ext cx="2340000" cy="18018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rcRect l="0" t="0" r="0" b="7362"/>
          <a:stretch/>
        </p:blipFill>
        <p:spPr>
          <a:xfrm>
            <a:off x="4932360" y="3573360"/>
            <a:ext cx="19065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 конкурс</a:t>
            </a:r>
            <a:br>
              <a:rPr sz="4000"/>
            </a:br>
            <a:r>
              <a:rPr b="0" lang="en-US" sz="3600" spc="-1" strike="noStrike">
                <a:solidFill>
                  <a:srgbClr val="703dff"/>
                </a:solidFill>
                <a:latin typeface="Arial Black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178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 1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3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 1 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 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4716360" y="1716840"/>
            <a:ext cx="27352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2 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 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 </a:t>
            </a:r>
            <a:r>
              <a:rPr b="1" lang="ru-RU" sz="4800" spc="-1" strike="noStrike" baseline="36000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2637000"/>
            <a:ext cx="43344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4653000"/>
            <a:ext cx="288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11640" y="4653000"/>
            <a:ext cx="2905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411280" y="20588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тес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68360" y="47955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11280" y="385920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3066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Пари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88000" y="21319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под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00720" y="29224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во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88000" y="37144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три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16720" y="47224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Times New Roman"/>
              </a:rPr>
              <a:t>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конкурс</a:t>
            </a:r>
            <a:br>
              <a:rPr sz="3600"/>
            </a:b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Геометрия вокруг н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0160" y="2013120"/>
            <a:ext cx="726624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читайте, сколько треугольников на рисунке. Укажи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2268360" y="3213000"/>
            <a:ext cx="3529080" cy="26654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3800" y="4581360"/>
            <a:ext cx="2663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060360" y="3862440"/>
            <a:ext cx="1368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924000" y="4437000"/>
            <a:ext cx="8650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4076640"/>
            <a:ext cx="936360" cy="944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62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конкурс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Задачи - </a:t>
            </a:r>
            <a:r>
              <a:rPr b="0" lang="en-US" sz="3600" spc="-1" strike="noStrike">
                <a:solidFill>
                  <a:srgbClr val="703dff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703dff"/>
                </a:solidFill>
                <a:latin typeface="Arial Black"/>
              </a:rPr>
              <a:t>смекал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11694" r="0" b="4483"/>
          <a:stretch/>
        </p:blipFill>
        <p:spPr>
          <a:xfrm rot="21460800">
            <a:off x="1907640" y="1771560"/>
            <a:ext cx="5905800" cy="49514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66920" y="1847880"/>
            <a:ext cx="5184720" cy="2663640"/>
          </a:xfrm>
          <a:prstGeom prst="ellipse">
            <a:avLst/>
          </a:prstGeom>
          <a:solidFill>
            <a:srgbClr val="ffb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268360" y="2781360"/>
            <a:ext cx="862200" cy="11523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2268360" y="1557360"/>
            <a:ext cx="862200" cy="1152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6516720" y="2852640"/>
            <a:ext cx="861840" cy="11527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443640" y="1484280"/>
            <a:ext cx="862200" cy="11527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flipV="1">
            <a:off x="3884760" y="2089080"/>
            <a:ext cx="2460600" cy="23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395440" y="2708280"/>
            <a:ext cx="4913280" cy="6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65400" y="2217600"/>
            <a:ext cx="2889360" cy="217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4427640" y="3429000"/>
            <a:ext cx="861840" cy="1152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7"/>
          <a:stretch/>
        </p:blipFill>
        <p:spPr>
          <a:xfrm>
            <a:off x="4427640" y="907920"/>
            <a:ext cx="861840" cy="1152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8"/>
          <a:stretch/>
        </p:blipFill>
        <p:spPr>
          <a:xfrm>
            <a:off x="4427640" y="2133720"/>
            <a:ext cx="86184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1:00:19Z</dcterms:created>
  <dc:creator>Андрей</dc:creator>
  <dc:description/>
  <dc:language>en-US</dc:language>
  <cp:lastModifiedBy>Андрей</cp:lastModifiedBy>
  <dcterms:modified xsi:type="dcterms:W3CDTF">2022-04-11T19:19:24Z</dcterms:modified>
  <cp:revision>19</cp:revision>
  <dc:subject/>
  <dc:title>Слайд 1</dc:title>
</cp:coreProperties>
</file>