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8B3-BFBA-4BE4-B7B6-C0B3ADDD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936-58FD-4F7E-AE85-297612B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68A-5CBF-439D-A1FA-30C0B57B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7C2-0CEB-4197-9599-F75AC45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12D-AC6A-4984-B9F3-F90F51A6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A1A-5948-4288-AC7A-C79339E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557-4A1B-4164-BB98-686757CA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3B8-E5BD-427C-B718-E3A897C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0ED-8B55-44A1-92F2-3860C68E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0C9-7818-424E-92F9-8811270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A7F-1F64-43B3-ADAE-202B057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675-73E0-4A1C-B739-3C3B3EB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3F79D6-1A8B-44E0-923F-F5540008D1C6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1789920" y="1263600"/>
            <a:ext cx="10005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Методика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решения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практико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689480">
              <a:lnSpc>
                <a:spcPts val="5627"/>
              </a:lnSpc>
              <a:spcBef>
                <a:spcPts val="255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ориентирован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4085640" y="2745000"/>
            <a:ext cx="50745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задач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ГИА-9</a:t>
            </a:r>
            <a:r>
              <a:rPr b="0" lang="hi-IN" sz="5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5400" spc="-1" strike="noStrike">
                <a:solidFill>
                  <a:srgbClr val="000000"/>
                </a:solidFill>
                <a:latin typeface="WJEUDC+TimesNewRomanPSMT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5"/>
          <p:cNvSpPr/>
          <p:nvPr/>
        </p:nvSpPr>
        <p:spPr>
          <a:xfrm>
            <a:off x="3060360" y="4113360"/>
            <a:ext cx="7035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ЧИТЕЛ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БОУ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Ш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№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42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ЛАНОВ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А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3"/>
          <p:cNvSpPr/>
          <p:nvPr/>
        </p:nvSpPr>
        <p:spPr>
          <a:xfrm>
            <a:off x="7844760" y="1533960"/>
            <a:ext cx="520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b</a:t>
            </a:r>
            <a:r>
              <a:rPr b="1" lang="en-US" sz="14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4"/>
          <p:cNvSpPr/>
          <p:nvPr/>
        </p:nvSpPr>
        <p:spPr>
          <a:xfrm>
            <a:off x="8527320" y="2549880"/>
            <a:ext cx="5076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QKCQVO+TimesNewRomanPS-BoldMT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5"/>
          <p:cNvSpPr/>
          <p:nvPr/>
        </p:nvSpPr>
        <p:spPr>
          <a:xfrm>
            <a:off x="8654400" y="2645640"/>
            <a:ext cx="2790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45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6"/>
          <p:cNvSpPr/>
          <p:nvPr/>
        </p:nvSpPr>
        <p:spPr>
          <a:xfrm>
            <a:off x="537480" y="3765600"/>
            <a:ext cx="3996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hi-IN" sz="1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7"/>
          <p:cNvSpPr/>
          <p:nvPr/>
        </p:nvSpPr>
        <p:spPr>
          <a:xfrm>
            <a:off x="537480" y="4205160"/>
            <a:ext cx="117910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3.Найдите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длину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стороны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822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А2.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миллиметр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8"/>
          <p:cNvSpPr/>
          <p:nvPr/>
        </p:nvSpPr>
        <p:spPr>
          <a:xfrm>
            <a:off x="2125080" y="5400000"/>
            <a:ext cx="1785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r>
              <a:rPr b="1" lang="en-US" sz="3600" spc="73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9</a:t>
            </a:r>
            <a:r>
              <a:rPr b="1" lang="en-US" sz="3600" spc="7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9"/>
          <p:cNvSpPr/>
          <p:nvPr/>
        </p:nvSpPr>
        <p:spPr>
          <a:xfrm>
            <a:off x="537480" y="5481000"/>
            <a:ext cx="220644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3"/>
          <p:cNvSpPr/>
          <p:nvPr/>
        </p:nvSpPr>
        <p:spPr>
          <a:xfrm>
            <a:off x="8804520" y="149688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4"/>
          <p:cNvSpPr/>
          <p:nvPr/>
        </p:nvSpPr>
        <p:spPr>
          <a:xfrm>
            <a:off x="9142560" y="149688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5"/>
          <p:cNvSpPr/>
          <p:nvPr/>
        </p:nvSpPr>
        <p:spPr>
          <a:xfrm>
            <a:off x="9480960" y="149688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6"/>
          <p:cNvSpPr/>
          <p:nvPr/>
        </p:nvSpPr>
        <p:spPr>
          <a:xfrm>
            <a:off x="9820440" y="1496880"/>
            <a:ext cx="35532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7"/>
          <p:cNvSpPr/>
          <p:nvPr/>
        </p:nvSpPr>
        <p:spPr>
          <a:xfrm>
            <a:off x="10158840" y="1496880"/>
            <a:ext cx="355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8"/>
          <p:cNvSpPr/>
          <p:nvPr/>
        </p:nvSpPr>
        <p:spPr>
          <a:xfrm>
            <a:off x="10496880" y="149688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9"/>
          <p:cNvSpPr/>
          <p:nvPr/>
        </p:nvSpPr>
        <p:spPr>
          <a:xfrm>
            <a:off x="8804520" y="177156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10"/>
          <p:cNvSpPr/>
          <p:nvPr/>
        </p:nvSpPr>
        <p:spPr>
          <a:xfrm>
            <a:off x="9142560" y="177156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11"/>
          <p:cNvSpPr/>
          <p:nvPr/>
        </p:nvSpPr>
        <p:spPr>
          <a:xfrm>
            <a:off x="10496880" y="177156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12"/>
          <p:cNvSpPr/>
          <p:nvPr/>
        </p:nvSpPr>
        <p:spPr>
          <a:xfrm>
            <a:off x="8804520" y="204624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13"/>
          <p:cNvSpPr/>
          <p:nvPr/>
        </p:nvSpPr>
        <p:spPr>
          <a:xfrm>
            <a:off x="9480960" y="2046240"/>
            <a:ext cx="355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4"/>
          <p:cNvSpPr/>
          <p:nvPr/>
        </p:nvSpPr>
        <p:spPr>
          <a:xfrm>
            <a:off x="8804520" y="2320560"/>
            <a:ext cx="355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15"/>
          <p:cNvSpPr/>
          <p:nvPr/>
        </p:nvSpPr>
        <p:spPr>
          <a:xfrm>
            <a:off x="9142560" y="2320560"/>
            <a:ext cx="355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703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16"/>
          <p:cNvSpPr/>
          <p:nvPr/>
        </p:nvSpPr>
        <p:spPr>
          <a:xfrm>
            <a:off x="10496880" y="2320560"/>
            <a:ext cx="31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17"/>
          <p:cNvSpPr/>
          <p:nvPr/>
        </p:nvSpPr>
        <p:spPr>
          <a:xfrm>
            <a:off x="10158840" y="259524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18"/>
          <p:cNvSpPr/>
          <p:nvPr/>
        </p:nvSpPr>
        <p:spPr>
          <a:xfrm>
            <a:off x="10496880" y="2595240"/>
            <a:ext cx="355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57"/>
              </a:lnSpc>
              <a:spcBef>
                <a:spcPts val="652"/>
              </a:spcBef>
            </a:pPr>
            <a:r>
              <a:rPr b="1" lang="hi-IN" sz="1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19"/>
          <p:cNvSpPr/>
          <p:nvPr/>
        </p:nvSpPr>
        <p:spPr>
          <a:xfrm>
            <a:off x="605880" y="3647880"/>
            <a:ext cx="126532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4.Найди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площадь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3.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774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квадратных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антиме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20"/>
          <p:cNvSpPr/>
          <p:nvPr/>
        </p:nvSpPr>
        <p:spPr>
          <a:xfrm>
            <a:off x="605880" y="5223600"/>
            <a:ext cx="41778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50880"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51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3200" spc="522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r>
              <a:rPr b="1" lang="en-US" sz="3200" spc="51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7</a:t>
            </a:r>
            <a:r>
              <a:rPr b="1" lang="en-US" sz="3200" spc="51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1322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51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ꢀꢀ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3"/>
          <p:cNvSpPr/>
          <p:nvPr/>
        </p:nvSpPr>
        <p:spPr>
          <a:xfrm>
            <a:off x="808920" y="382680"/>
            <a:ext cx="30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57"/>
              </a:lnSpc>
            </a:pPr>
            <a:r>
              <a:rPr b="0" lang="hi-IN" sz="1400" spc="-1" strike="noStrike">
                <a:solidFill>
                  <a:srgbClr val="000000"/>
                </a:solidFill>
                <a:latin typeface="FMPFDV+Calibri"/>
                <a:cs typeface="FMPFDV+Calibri"/>
              </a:rPr>
              <a:t>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4"/>
          <p:cNvSpPr/>
          <p:nvPr/>
        </p:nvSpPr>
        <p:spPr>
          <a:xfrm>
            <a:off x="4099680" y="3234240"/>
            <a:ext cx="4800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r>
              <a:rPr b="1" lang="hi-IN" sz="4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:</a:t>
            </a:r>
            <a:r>
              <a:rPr b="1" lang="hi-IN" sz="4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105=1,41≈1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5"/>
          <p:cNvSpPr/>
          <p:nvPr/>
        </p:nvSpPr>
        <p:spPr>
          <a:xfrm>
            <a:off x="447120" y="4284360"/>
            <a:ext cx="127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5.Найди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ношени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лины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тороны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к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774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меньшей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у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1.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825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ес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6"/>
          <p:cNvSpPr/>
          <p:nvPr/>
        </p:nvSpPr>
        <p:spPr>
          <a:xfrm>
            <a:off x="447120" y="5949000"/>
            <a:ext cx="3087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en-US" sz="3200" spc="39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036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183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3"/>
          <p:cNvSpPr/>
          <p:nvPr/>
        </p:nvSpPr>
        <p:spPr>
          <a:xfrm>
            <a:off x="5904360" y="444960"/>
            <a:ext cx="369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Формат</a:t>
            </a:r>
            <a:r>
              <a:rPr b="1" lang="en-US" sz="2000" spc="107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Большая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44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Шриф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84760">
              <a:lnSpc>
                <a:spcPts val="2083"/>
              </a:lnSpc>
              <a:spcBef>
                <a:spcPts val="485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ст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4"/>
          <p:cNvSpPr/>
          <p:nvPr/>
        </p:nvSpPr>
        <p:spPr>
          <a:xfrm>
            <a:off x="9424440" y="832320"/>
            <a:ext cx="24454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97: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20=10: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380"/>
              </a:spcBef>
            </a:pP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=42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0: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380"/>
              </a:spcBef>
            </a:pP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≈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5"/>
          <p:cNvSpPr/>
          <p:nvPr/>
        </p:nvSpPr>
        <p:spPr>
          <a:xfrm>
            <a:off x="6198480" y="1130760"/>
            <a:ext cx="691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6"/>
          <p:cNvSpPr/>
          <p:nvPr/>
        </p:nvSpPr>
        <p:spPr>
          <a:xfrm>
            <a:off x="7350120" y="1130760"/>
            <a:ext cx="761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7"/>
          <p:cNvSpPr/>
          <p:nvPr/>
        </p:nvSpPr>
        <p:spPr>
          <a:xfrm>
            <a:off x="8556480" y="1130760"/>
            <a:ext cx="634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8"/>
          <p:cNvSpPr/>
          <p:nvPr/>
        </p:nvSpPr>
        <p:spPr>
          <a:xfrm>
            <a:off x="6198480" y="1746720"/>
            <a:ext cx="117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5520">
              <a:lnSpc>
                <a:spcPts val="2083"/>
              </a:lnSpc>
            </a:pP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ꢀꢀꢀꢀꢀ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83"/>
              </a:lnSpc>
              <a:spcBef>
                <a:spcPts val="485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9"/>
          <p:cNvSpPr/>
          <p:nvPr/>
        </p:nvSpPr>
        <p:spPr>
          <a:xfrm>
            <a:off x="7350120" y="2072880"/>
            <a:ext cx="761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10"/>
          <p:cNvSpPr/>
          <p:nvPr/>
        </p:nvSpPr>
        <p:spPr>
          <a:xfrm>
            <a:off x="8620200" y="2072880"/>
            <a:ext cx="5076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11"/>
          <p:cNvSpPr/>
          <p:nvPr/>
        </p:nvSpPr>
        <p:spPr>
          <a:xfrm>
            <a:off x="489960" y="3377520"/>
            <a:ext cx="126324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(1).Размер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(высота)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ипографског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измеря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унктах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ди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унк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ве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/72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юйма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ест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0,3528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мм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ак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ысот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уже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(пунктах)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чтоб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кс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ыл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сположен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лис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А3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а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же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а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это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ж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кст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печатанны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ом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ысот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ункто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лис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А4?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змер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риф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кругля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це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ject 12"/>
          <p:cNvSpPr/>
          <p:nvPr/>
        </p:nvSpPr>
        <p:spPr>
          <a:xfrm>
            <a:off x="1936080" y="6130080"/>
            <a:ext cx="130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50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13"/>
          <p:cNvSpPr/>
          <p:nvPr/>
        </p:nvSpPr>
        <p:spPr>
          <a:xfrm>
            <a:off x="489960" y="6228720"/>
            <a:ext cx="1838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653400" y="580320"/>
            <a:ext cx="1265076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ношени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лин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иагонал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лис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торон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А0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ес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4"/>
          <p:cNvSpPr/>
          <p:nvPr/>
        </p:nvSpPr>
        <p:spPr>
          <a:xfrm>
            <a:off x="5009400" y="2235600"/>
            <a:ext cx="81511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Лист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все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форматов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добн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уг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угу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ношени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лин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иагонали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к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больше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торон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динаков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л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листов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любог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форм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5"/>
          <p:cNvSpPr/>
          <p:nvPr/>
        </p:nvSpPr>
        <p:spPr>
          <a:xfrm>
            <a:off x="683640" y="4786200"/>
            <a:ext cx="3045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50"/>
              </a:lnSpc>
            </a:pPr>
            <a:r>
              <a:rPr b="1" lang="hi-IN" sz="1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6"/>
          <p:cNvSpPr/>
          <p:nvPr/>
        </p:nvSpPr>
        <p:spPr>
          <a:xfrm>
            <a:off x="759600" y="4530960"/>
            <a:ext cx="18475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a</a:t>
            </a:r>
            <a:r>
              <a:rPr b="1" lang="en-US" sz="3600" spc="-1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7"/>
          <p:cNvSpPr/>
          <p:nvPr/>
        </p:nvSpPr>
        <p:spPr>
          <a:xfrm>
            <a:off x="988200" y="4743720"/>
            <a:ext cx="406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67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8"/>
          <p:cNvSpPr/>
          <p:nvPr/>
        </p:nvSpPr>
        <p:spPr>
          <a:xfrm>
            <a:off x="4539600" y="4812120"/>
            <a:ext cx="2871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81,46: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48≈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ject 9"/>
          <p:cNvSpPr/>
          <p:nvPr/>
        </p:nvSpPr>
        <p:spPr>
          <a:xfrm>
            <a:off x="758160" y="5126760"/>
            <a:ext cx="1423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360">
              <a:lnSpc>
                <a:spcPts val="1457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ject 10"/>
          <p:cNvSpPr/>
          <p:nvPr/>
        </p:nvSpPr>
        <p:spPr>
          <a:xfrm>
            <a:off x="1769400" y="6280920"/>
            <a:ext cx="1779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398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220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11"/>
          <p:cNvSpPr/>
          <p:nvPr/>
        </p:nvSpPr>
        <p:spPr>
          <a:xfrm>
            <a:off x="386640" y="6336360"/>
            <a:ext cx="1859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3"/>
          <p:cNvSpPr/>
          <p:nvPr/>
        </p:nvSpPr>
        <p:spPr>
          <a:xfrm>
            <a:off x="4083840" y="1003680"/>
            <a:ext cx="5173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≈</a:t>
            </a:r>
            <a:r>
              <a:rPr b="1" lang="en-US" sz="2400" spc="11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,</a:t>
            </a:r>
            <a:r>
              <a:rPr b="1" lang="en-US" sz="2400" spc="19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4"/>
          <p:cNvSpPr/>
          <p:nvPr/>
        </p:nvSpPr>
        <p:spPr>
          <a:xfrm>
            <a:off x="4083840" y="14608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5"/>
          <p:cNvSpPr/>
          <p:nvPr/>
        </p:nvSpPr>
        <p:spPr>
          <a:xfrm>
            <a:off x="2107440" y="1918080"/>
            <a:ext cx="1004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6"/>
          <p:cNvSpPr/>
          <p:nvPr/>
        </p:nvSpPr>
        <p:spPr>
          <a:xfrm>
            <a:off x="4083840" y="1918080"/>
            <a:ext cx="139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7"/>
          <p:cNvSpPr/>
          <p:nvPr/>
        </p:nvSpPr>
        <p:spPr>
          <a:xfrm>
            <a:off x="2502720" y="23752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8"/>
          <p:cNvSpPr/>
          <p:nvPr/>
        </p:nvSpPr>
        <p:spPr>
          <a:xfrm>
            <a:off x="4083840" y="2375280"/>
            <a:ext cx="139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9"/>
          <p:cNvSpPr/>
          <p:nvPr/>
        </p:nvSpPr>
        <p:spPr>
          <a:xfrm>
            <a:off x="2107440" y="2832480"/>
            <a:ext cx="139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0"/>
          <p:cNvSpPr/>
          <p:nvPr/>
        </p:nvSpPr>
        <p:spPr>
          <a:xfrm>
            <a:off x="4874760" y="2832480"/>
            <a:ext cx="1398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5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1"/>
          <p:cNvSpPr/>
          <p:nvPr/>
        </p:nvSpPr>
        <p:spPr>
          <a:xfrm>
            <a:off x="2898000" y="32896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2"/>
          <p:cNvSpPr/>
          <p:nvPr/>
        </p:nvSpPr>
        <p:spPr>
          <a:xfrm>
            <a:off x="4874760" y="3289680"/>
            <a:ext cx="1398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3"/>
          <p:cNvSpPr/>
          <p:nvPr/>
        </p:nvSpPr>
        <p:spPr>
          <a:xfrm>
            <a:off x="2107440" y="3746880"/>
            <a:ext cx="1794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4"/>
          <p:cNvSpPr/>
          <p:nvPr/>
        </p:nvSpPr>
        <p:spPr>
          <a:xfrm>
            <a:off x="4874760" y="3746880"/>
            <a:ext cx="29793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2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7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5"/>
          <p:cNvSpPr/>
          <p:nvPr/>
        </p:nvSpPr>
        <p:spPr>
          <a:xfrm>
            <a:off x="2107440" y="4204080"/>
            <a:ext cx="219024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85840"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</a:t>
            </a:r>
            <a:r>
              <a:rPr b="1" lang="en-US" sz="2400" spc="13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1120">
              <a:lnSpc>
                <a:spcPts val="2500"/>
              </a:lnSpc>
              <a:spcBef>
                <a:spcPts val="11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3"/>
          <p:cNvSpPr/>
          <p:nvPr/>
        </p:nvSpPr>
        <p:spPr>
          <a:xfrm>
            <a:off x="202680" y="527040"/>
            <a:ext cx="13025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68"/>
              </a:lnSpc>
            </a:pPr>
            <a:r>
              <a:rPr b="1" lang="en-US" sz="2850" spc="-1" strike="noStrike">
                <a:solidFill>
                  <a:srgbClr val="000000"/>
                </a:solidFill>
                <a:latin typeface="QKCQVO+TimesNewRomanPS-BoldMT"/>
              </a:rPr>
              <a:t>1.</a:t>
            </a:r>
            <a:r>
              <a:rPr b="1" lang="en-US" sz="285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ако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именьше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оличеств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уг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заказать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чтоб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31"/>
              </a:spcBef>
            </a:pP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межд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оседним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угам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ыл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оле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6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4"/>
          <p:cNvSpPr/>
          <p:nvPr/>
        </p:nvSpPr>
        <p:spPr>
          <a:xfrm>
            <a:off x="359640" y="2194560"/>
            <a:ext cx="9159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.Не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более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0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см,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значит,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меньше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или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равно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0см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5"/>
          <p:cNvSpPr/>
          <p:nvPr/>
        </p:nvSpPr>
        <p:spPr>
          <a:xfrm>
            <a:off x="359640" y="2948760"/>
            <a:ext cx="885420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2.Количество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дуг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на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больше,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чем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расстояний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между</a:t>
            </a:r>
            <a:r>
              <a:rPr b="1" lang="hi-IN" sz="2800" spc="-1" strike="noStrike">
                <a:solidFill>
                  <a:srgbClr val="ff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6"/>
          <p:cNvSpPr/>
          <p:nvPr/>
        </p:nvSpPr>
        <p:spPr>
          <a:xfrm>
            <a:off x="359640" y="4163040"/>
            <a:ext cx="9023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400:60=6,6≈7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расстояний,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дуг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надо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взять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7"/>
          <p:cNvSpPr/>
          <p:nvPr/>
        </p:nvSpPr>
        <p:spPr>
          <a:xfrm>
            <a:off x="1971000" y="5828400"/>
            <a:ext cx="91404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8"/>
          <p:cNvSpPr/>
          <p:nvPr/>
        </p:nvSpPr>
        <p:spPr>
          <a:xfrm>
            <a:off x="523080" y="5877720"/>
            <a:ext cx="1859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3"/>
          <p:cNvSpPr/>
          <p:nvPr/>
        </p:nvSpPr>
        <p:spPr>
          <a:xfrm>
            <a:off x="407520" y="471960"/>
            <a:ext cx="1283724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кольк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паково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литк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еобходим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купит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л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роже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межд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грядками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есл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рода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паковках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6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т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4"/>
          <p:cNvSpPr/>
          <p:nvPr/>
        </p:nvSpPr>
        <p:spPr>
          <a:xfrm>
            <a:off x="4928400" y="2158200"/>
            <a:ext cx="81417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.Площад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дн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рожк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0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0=1600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255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лощад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вух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роже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600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=32000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2557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.Площадь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литк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0=400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5"/>
          <p:cNvSpPr/>
          <p:nvPr/>
        </p:nvSpPr>
        <p:spPr>
          <a:xfrm>
            <a:off x="3606120" y="3608640"/>
            <a:ext cx="987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0см</a:t>
            </a:r>
            <a:r>
              <a:rPr b="1" lang="hi-IN" sz="1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6"/>
          <p:cNvSpPr/>
          <p:nvPr/>
        </p:nvSpPr>
        <p:spPr>
          <a:xfrm>
            <a:off x="718560" y="393588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7"/>
          <p:cNvSpPr/>
          <p:nvPr/>
        </p:nvSpPr>
        <p:spPr>
          <a:xfrm>
            <a:off x="4928400" y="4321800"/>
            <a:ext cx="75135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.Плито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требу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2000:400=80(ш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8"/>
          <p:cNvSpPr/>
          <p:nvPr/>
        </p:nvSpPr>
        <p:spPr>
          <a:xfrm>
            <a:off x="4928400" y="5095080"/>
            <a:ext cx="680544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.Упаковок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требуется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80: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6=13,33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значит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9"/>
          <p:cNvSpPr/>
          <p:nvPr/>
        </p:nvSpPr>
        <p:spPr>
          <a:xfrm>
            <a:off x="1032840" y="5359680"/>
            <a:ext cx="1718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л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8480">
              <a:lnSpc>
                <a:spcPts val="2083"/>
              </a:lnSpc>
              <a:spcBef>
                <a:spcPts val="189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0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0"/>
          <p:cNvSpPr/>
          <p:nvPr/>
        </p:nvSpPr>
        <p:spPr>
          <a:xfrm>
            <a:off x="4919040" y="6049080"/>
            <a:ext cx="2422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en-US" sz="2800" spc="96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2400" spc="1747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1"/>
          <p:cNvSpPr/>
          <p:nvPr/>
        </p:nvSpPr>
        <p:spPr>
          <a:xfrm>
            <a:off x="1294920" y="6399720"/>
            <a:ext cx="920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0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3"/>
          <p:cNvSpPr/>
          <p:nvPr/>
        </p:nvSpPr>
        <p:spPr>
          <a:xfrm>
            <a:off x="659880" y="605520"/>
            <a:ext cx="120906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у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еплицы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метра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ес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4"/>
          <p:cNvSpPr/>
          <p:nvPr/>
        </p:nvSpPr>
        <p:spPr>
          <a:xfrm>
            <a:off x="3623760" y="2606040"/>
            <a:ext cx="10155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QKCQVO+TimesNewRomanPS-Bold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5"/>
          <p:cNvSpPr/>
          <p:nvPr/>
        </p:nvSpPr>
        <p:spPr>
          <a:xfrm>
            <a:off x="870840" y="3618720"/>
            <a:ext cx="118152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плицы-диаметр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полуокружност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лин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м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FHBNHP+SymbolMT,Bold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:</a:t>
            </a:r>
            <a:r>
              <a:rPr b="0" lang="en-US" sz="2800" spc="-1" strike="noStrike">
                <a:solidFill>
                  <a:srgbClr val="000000"/>
                </a:solidFill>
                <a:latin typeface="FHBNHP+SymbolMT,Bold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≈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:3,14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R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≈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,58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D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1,58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,16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D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≈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3,2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6"/>
          <p:cNvSpPr/>
          <p:nvPr/>
        </p:nvSpPr>
        <p:spPr>
          <a:xfrm>
            <a:off x="2393280" y="6182640"/>
            <a:ext cx="1633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3200" spc="823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3200" spc="163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7"/>
          <p:cNvSpPr/>
          <p:nvPr/>
        </p:nvSpPr>
        <p:spPr>
          <a:xfrm>
            <a:off x="1091520" y="6231600"/>
            <a:ext cx="16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3"/>
          <p:cNvSpPr/>
          <p:nvPr/>
        </p:nvSpPr>
        <p:spPr>
          <a:xfrm>
            <a:off x="285120" y="589320"/>
            <a:ext cx="132692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5" strike="noStrike">
                <a:solidFill>
                  <a:srgbClr val="000000"/>
                </a:solidFill>
                <a:latin typeface="WJEUDC+TimesNewRomanPSMT"/>
              </a:rPr>
              <a:t>Под</a:t>
            </a:r>
            <a:r>
              <a:rPr b="0" lang="hi-IN" sz="2400" spc="-15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рактико-ориентированными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08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2" strike="noStrike">
                <a:solidFill>
                  <a:srgbClr val="000000"/>
                </a:solidFill>
                <a:latin typeface="QKCQVO+TimesNewRomanPS-BoldMT"/>
              </a:rPr>
              <a:t>задачам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нимаю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0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03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з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1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кружающе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йствительности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вязанны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формирование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актически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выков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еобходим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повседневной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жизни,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том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числе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использованием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материалов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краеведения,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2" strike="noStrike">
                <a:solidFill>
                  <a:srgbClr val="000000"/>
                </a:solidFill>
                <a:latin typeface="WJEUDC+TimesNewRomanPSMT"/>
              </a:rPr>
              <a:t>истории,</a:t>
            </a:r>
            <a:r>
              <a:rPr b="0" lang="hi-IN" sz="2400" spc="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элементо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оизводственн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285120" y="2427120"/>
            <a:ext cx="1327392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ль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4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рактико-ориентированны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44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21" strike="noStrike">
                <a:solidFill>
                  <a:srgbClr val="000000"/>
                </a:solidFill>
                <a:latin typeface="QKCQVO+TimesNewRomanPS-BoldMT"/>
              </a:rPr>
              <a:t>задач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–ꢀ</a:t>
            </a:r>
            <a:r>
              <a:rPr b="0" lang="en-US" sz="2400" spc="47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формирова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4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4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йство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39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циально-значим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5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итуации.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н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базирую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5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ния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я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6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9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ребую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именя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копленны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н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актическ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еобходим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4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азви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9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1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ддержи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5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знавательны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9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нтересы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1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тей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здава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4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к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9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атмосферу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3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бще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7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ворчества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ндивидуальн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29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2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группов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тветственност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0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аинтересов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5"/>
          <p:cNvSpPr/>
          <p:nvPr/>
        </p:nvSpPr>
        <p:spPr>
          <a:xfrm>
            <a:off x="359640" y="4962960"/>
            <a:ext cx="13093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идактически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38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ли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37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рактико-ориентированны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13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заданий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6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акрепл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7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глубл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едметн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8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ний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влад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етапредметным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6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мениям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8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3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выками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зуч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ов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8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етодо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9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учны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36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сследований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азвит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нициативы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143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3"/>
          <p:cNvSpPr/>
          <p:nvPr/>
        </p:nvSpPr>
        <p:spPr>
          <a:xfrm>
            <a:off x="673920" y="391320"/>
            <a:ext cx="1239948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4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ирин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центральн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грядки,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если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н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раз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больш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ширины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узкой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грядки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антиметрах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очностью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еся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4"/>
          <p:cNvSpPr/>
          <p:nvPr/>
        </p:nvSpPr>
        <p:spPr>
          <a:xfrm>
            <a:off x="4218840" y="1707120"/>
            <a:ext cx="77806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зко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грядки-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х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м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нтральной-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хсм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5"/>
          <p:cNvSpPr/>
          <p:nvPr/>
        </p:nvSpPr>
        <p:spPr>
          <a:xfrm>
            <a:off x="4218840" y="2253240"/>
            <a:ext cx="81720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Расстояни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дног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кра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еплицы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угого-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еплицы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иаметр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лукруга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знач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х+40+2х+40+х=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х+80=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6"/>
          <p:cNvSpPr/>
          <p:nvPr/>
        </p:nvSpPr>
        <p:spPr>
          <a:xfrm>
            <a:off x="4218840" y="3716280"/>
            <a:ext cx="139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х=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7"/>
          <p:cNvSpPr/>
          <p:nvPr/>
        </p:nvSpPr>
        <p:spPr>
          <a:xfrm>
            <a:off x="1113840" y="385776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8"/>
          <p:cNvSpPr/>
          <p:nvPr/>
        </p:nvSpPr>
        <p:spPr>
          <a:xfrm>
            <a:off x="2753640" y="3857760"/>
            <a:ext cx="871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r>
              <a:rPr b="1" lang="hi-IN" sz="16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9"/>
          <p:cNvSpPr/>
          <p:nvPr/>
        </p:nvSpPr>
        <p:spPr>
          <a:xfrm>
            <a:off x="4218840" y="4082040"/>
            <a:ext cx="1087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х=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10"/>
          <p:cNvSpPr/>
          <p:nvPr/>
        </p:nvSpPr>
        <p:spPr>
          <a:xfrm>
            <a:off x="4218840" y="4447800"/>
            <a:ext cx="77184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0см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–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зко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грядки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тогд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60=120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м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центр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11"/>
          <p:cNvSpPr/>
          <p:nvPr/>
        </p:nvSpPr>
        <p:spPr>
          <a:xfrm>
            <a:off x="759600" y="5207400"/>
            <a:ext cx="793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х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12"/>
          <p:cNvSpPr/>
          <p:nvPr/>
        </p:nvSpPr>
        <p:spPr>
          <a:xfrm>
            <a:off x="1842480" y="5207400"/>
            <a:ext cx="920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2х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13"/>
          <p:cNvSpPr/>
          <p:nvPr/>
        </p:nvSpPr>
        <p:spPr>
          <a:xfrm>
            <a:off x="3183840" y="5207400"/>
            <a:ext cx="793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х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14"/>
          <p:cNvSpPr/>
          <p:nvPr/>
        </p:nvSpPr>
        <p:spPr>
          <a:xfrm>
            <a:off x="5761800" y="5626800"/>
            <a:ext cx="19252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3200" spc="198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3200" spc="197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15"/>
          <p:cNvSpPr/>
          <p:nvPr/>
        </p:nvSpPr>
        <p:spPr>
          <a:xfrm>
            <a:off x="4473000" y="5790240"/>
            <a:ext cx="16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16"/>
          <p:cNvSpPr/>
          <p:nvPr/>
        </p:nvSpPr>
        <p:spPr>
          <a:xfrm>
            <a:off x="1663200" y="5871240"/>
            <a:ext cx="1803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D=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20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c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3"/>
          <p:cNvSpPr/>
          <p:nvPr/>
        </p:nvSpPr>
        <p:spPr>
          <a:xfrm>
            <a:off x="785160" y="612000"/>
            <a:ext cx="11858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5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Найди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ысоту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хода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теплицу.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дайте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анти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4"/>
          <p:cNvSpPr/>
          <p:nvPr/>
        </p:nvSpPr>
        <p:spPr>
          <a:xfrm>
            <a:off x="5258880" y="1423080"/>
            <a:ext cx="5454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AD=320c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AB=BO=OC=CD=320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:4=8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OC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=R=160c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5"/>
          <p:cNvSpPr/>
          <p:nvPr/>
        </p:nvSpPr>
        <p:spPr>
          <a:xfrm>
            <a:off x="2466360" y="414576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6"/>
          <p:cNvSpPr/>
          <p:nvPr/>
        </p:nvSpPr>
        <p:spPr>
          <a:xfrm>
            <a:off x="2580480" y="508356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7"/>
          <p:cNvSpPr/>
          <p:nvPr/>
        </p:nvSpPr>
        <p:spPr>
          <a:xfrm>
            <a:off x="959760" y="5198040"/>
            <a:ext cx="1257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6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8"/>
          <p:cNvSpPr/>
          <p:nvPr/>
        </p:nvSpPr>
        <p:spPr>
          <a:xfrm>
            <a:off x="1094760" y="6028920"/>
            <a:ext cx="2387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QKCQVO+TimesNewRomanPS-BoldMT"/>
              </a:rPr>
              <a:t>о</a:t>
            </a:r>
            <a:r>
              <a:rPr b="1" lang="en-US" sz="4000" spc="808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9"/>
          <p:cNvSpPr/>
          <p:nvPr/>
        </p:nvSpPr>
        <p:spPr>
          <a:xfrm>
            <a:off x="4068000" y="6091920"/>
            <a:ext cx="2950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en-US" sz="3200" spc="6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2800" spc="117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2800" spc="116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10"/>
          <p:cNvSpPr/>
          <p:nvPr/>
        </p:nvSpPr>
        <p:spPr>
          <a:xfrm>
            <a:off x="1718640" y="6280560"/>
            <a:ext cx="1104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8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3"/>
          <p:cNvSpPr/>
          <p:nvPr/>
        </p:nvSpPr>
        <p:spPr>
          <a:xfrm>
            <a:off x="2579040" y="4355280"/>
            <a:ext cx="253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еорем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ифагор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4"/>
          <p:cNvSpPr/>
          <p:nvPr/>
        </p:nvSpPr>
        <p:spPr>
          <a:xfrm>
            <a:off x="6520680" y="5433840"/>
            <a:ext cx="120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а</a:t>
            </a:r>
            <a:r>
              <a:rPr b="0" lang="hi-IN" sz="16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200" spc="-1" strike="noStrike">
                <a:solidFill>
                  <a:srgbClr val="000000"/>
                </a:solidFill>
                <a:latin typeface="WJEUDC+TimesNewRomanPSMT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5"/>
          <p:cNvSpPr/>
          <p:nvPr/>
        </p:nvSpPr>
        <p:spPr>
          <a:xfrm>
            <a:off x="6520680" y="5985720"/>
            <a:ext cx="2238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289"/>
              </a:spcBef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ꢀꢀꢀꢀꢀꢀꢀꢀꢀꢀꢀꢀꢀꢀꢀ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235"/>
              </a:spcBef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ꢀꢀꢀꢀꢀꢀꢀꢀꢀꢀꢀꢀꢀꢀ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50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400" spc="-1" strike="noStrike">
                <a:solidFill>
                  <a:srgbClr val="000000"/>
                </a:solidFill>
                <a:latin typeface="WJEUDC+TimesNewRomanPSMT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6"/>
          <p:cNvSpPr/>
          <p:nvPr/>
        </p:nvSpPr>
        <p:spPr>
          <a:xfrm>
            <a:off x="150120" y="6163920"/>
            <a:ext cx="85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7"/>
          <p:cNvSpPr/>
          <p:nvPr/>
        </p:nvSpPr>
        <p:spPr>
          <a:xfrm>
            <a:off x="150120" y="6484320"/>
            <a:ext cx="270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4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2400" spc="548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400" spc="55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r>
              <a:rPr b="1" lang="en-US" sz="2400" spc="548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3"/>
          <p:cNvSpPr/>
          <p:nvPr/>
        </p:nvSpPr>
        <p:spPr>
          <a:xfrm>
            <a:off x="343800" y="3377160"/>
            <a:ext cx="119264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ангенсо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стро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гл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ямоугольно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реугольник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зывае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тношени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58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отиволежаще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катет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к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илежащ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4"/>
          <p:cNvSpPr/>
          <p:nvPr/>
        </p:nvSpPr>
        <p:spPr>
          <a:xfrm>
            <a:off x="3425040" y="4936320"/>
            <a:ext cx="97502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Значит,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угол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склона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(уклон)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равен</a:t>
            </a:r>
            <a:r>
              <a:rPr b="0" lang="hi-IN" sz="2800" spc="-12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2" strike="noStrike">
                <a:solidFill>
                  <a:srgbClr val="000000"/>
                </a:solidFill>
                <a:latin typeface="WJEUDC+TimesNewRomanPSMT"/>
              </a:rPr>
              <a:t>0,254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00%=25,4%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677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25,4%&lt;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5"/>
          <p:cNvSpPr/>
          <p:nvPr/>
        </p:nvSpPr>
        <p:spPr>
          <a:xfrm>
            <a:off x="-21240" y="5918040"/>
            <a:ext cx="698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6"/>
          <p:cNvSpPr/>
          <p:nvPr/>
        </p:nvSpPr>
        <p:spPr>
          <a:xfrm>
            <a:off x="-33840" y="6242040"/>
            <a:ext cx="285228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ff0000"/>
                </a:solidFill>
                <a:latin typeface="WJEUDC+TimesNewRomanPSMT"/>
              </a:rPr>
              <a:t>25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3"/>
          <p:cNvSpPr/>
          <p:nvPr/>
        </p:nvSpPr>
        <p:spPr>
          <a:xfrm>
            <a:off x="4001400" y="408600"/>
            <a:ext cx="84996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.На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сколько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роцен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сократилась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севная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сл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ого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83"/>
              </a:lnSpc>
              <a:spcBef>
                <a:spcPts val="32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как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земледелец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устроил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еррасы?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твет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кругл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до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десят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4"/>
          <p:cNvSpPr/>
          <p:nvPr/>
        </p:nvSpPr>
        <p:spPr>
          <a:xfrm>
            <a:off x="364320" y="2172240"/>
            <a:ext cx="113806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.Есл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емледелец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строил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еррасы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сево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ав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S=63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5"/>
          <p:cNvSpPr/>
          <p:nvPr/>
        </p:nvSpPr>
        <p:spPr>
          <a:xfrm>
            <a:off x="364320" y="2665080"/>
            <a:ext cx="1125828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S=3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1840">
              <a:lnSpc>
                <a:spcPts val="2169"/>
              </a:lnSpc>
            </a:pPr>
            <a:r>
              <a:rPr b="0" lang="en-US" sz="2450" spc="-1" strike="noStrike">
                <a:solidFill>
                  <a:srgbClr val="000000"/>
                </a:solidFill>
                <a:latin typeface="WJEUDC+TimesNewRomanPSMT"/>
              </a:rPr>
              <a:t>2.</a:t>
            </a:r>
            <a:r>
              <a:rPr b="0" lang="en-US" sz="2450" spc="11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25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ject 6"/>
          <p:cNvSpPr/>
          <p:nvPr/>
        </p:nvSpPr>
        <p:spPr>
          <a:xfrm>
            <a:off x="2223360" y="3306240"/>
            <a:ext cx="25650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7"/>
          <p:cNvSpPr/>
          <p:nvPr/>
        </p:nvSpPr>
        <p:spPr>
          <a:xfrm>
            <a:off x="2223360" y="4037760"/>
            <a:ext cx="38876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x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=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∙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0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ject 8"/>
          <p:cNvSpPr/>
          <p:nvPr/>
        </p:nvSpPr>
        <p:spPr>
          <a:xfrm>
            <a:off x="466200" y="4769280"/>
            <a:ext cx="41407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57520"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ꢀꢀꢀꢀꢀꢀꢀ</a:t>
            </a:r>
            <a:r>
              <a:rPr b="1" lang="en-US" sz="2400" spc="-1" strike="noStrike">
                <a:solidFill>
                  <a:srgbClr val="000000"/>
                </a:solidFill>
                <a:latin typeface="SOBNDE+TimesNewRomanPS-BoldItalicMT"/>
              </a:rPr>
              <a:t>х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≈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6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23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.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ꢀꢀ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00%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6,9%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=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,1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9"/>
          <p:cNvSpPr/>
          <p:nvPr/>
        </p:nvSpPr>
        <p:spPr>
          <a:xfrm>
            <a:off x="2223360" y="5500800"/>
            <a:ext cx="533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ject 10"/>
          <p:cNvSpPr/>
          <p:nvPr/>
        </p:nvSpPr>
        <p:spPr>
          <a:xfrm>
            <a:off x="364320" y="6192000"/>
            <a:ext cx="21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r>
              <a:rPr b="1" lang="hi-IN" sz="28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3"/>
          <p:cNvSpPr/>
          <p:nvPr/>
        </p:nvSpPr>
        <p:spPr>
          <a:xfrm>
            <a:off x="3060000" y="2724840"/>
            <a:ext cx="863568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севов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3150кв.м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бурог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риса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лучат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3150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700=2205000(г)=2205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кг.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4"/>
          <p:cNvSpPr/>
          <p:nvPr/>
        </p:nvSpPr>
        <p:spPr>
          <a:xfrm>
            <a:off x="737640" y="2748960"/>
            <a:ext cx="208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1кг=10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5"/>
          <p:cNvSpPr/>
          <p:nvPr/>
        </p:nvSpPr>
        <p:spPr>
          <a:xfrm>
            <a:off x="3060000" y="3578400"/>
            <a:ext cx="865044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сле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шлифовки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белог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риса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лучат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86%=0,86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или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2205</a:t>
            </a:r>
            <a:r>
              <a:rPr b="0" lang="en-US" sz="28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0,86=1896,3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6"/>
          <p:cNvSpPr/>
          <p:nvPr/>
        </p:nvSpPr>
        <p:spPr>
          <a:xfrm>
            <a:off x="540720" y="6011280"/>
            <a:ext cx="358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r>
              <a:rPr b="0" lang="en-US" sz="1800" spc="270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8</a:t>
            </a:r>
            <a:r>
              <a:rPr b="1" lang="en-US" sz="2800" spc="31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9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6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2800" spc="101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3"/>
          <p:cNvSpPr/>
          <p:nvPr/>
        </p:nvSpPr>
        <p:spPr>
          <a:xfrm>
            <a:off x="727920" y="3270600"/>
            <a:ext cx="116427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юн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ибольше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количеств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ж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ожн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лучить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ыращив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рис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ентябре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ыращив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шено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кв.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лощад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год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можн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лучи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0,7+0,65=1,35(кг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ж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лощад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еррасированног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част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кв.м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ес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рожа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ст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,35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150=4252,5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4"/>
          <p:cNvSpPr/>
          <p:nvPr/>
        </p:nvSpPr>
        <p:spPr>
          <a:xfrm>
            <a:off x="2686320" y="5959080"/>
            <a:ext cx="225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800" spc="335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800" spc="324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,</a:t>
            </a:r>
            <a:r>
              <a:rPr b="1" lang="en-US" sz="2800" spc="1036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5"/>
          <p:cNvSpPr/>
          <p:nvPr/>
        </p:nvSpPr>
        <p:spPr>
          <a:xfrm>
            <a:off x="969480" y="6024600"/>
            <a:ext cx="18342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6"/>
          <p:cNvSpPr/>
          <p:nvPr/>
        </p:nvSpPr>
        <p:spPr>
          <a:xfrm>
            <a:off x="2116080" y="6194880"/>
            <a:ext cx="4510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3"/>
          <p:cNvSpPr/>
          <p:nvPr/>
        </p:nvSpPr>
        <p:spPr>
          <a:xfrm>
            <a:off x="302400" y="1539000"/>
            <a:ext cx="13280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Размеры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парного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деления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длин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3,5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м,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ширин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2м,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высот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2,1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4"/>
          <p:cNvSpPr/>
          <p:nvPr/>
        </p:nvSpPr>
        <p:spPr>
          <a:xfrm>
            <a:off x="302400" y="2559960"/>
            <a:ext cx="1322064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деление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имеет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форму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прямоугольного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параллелепипеда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V=abc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5"/>
          <p:cNvSpPr/>
          <p:nvPr/>
        </p:nvSpPr>
        <p:spPr>
          <a:xfrm>
            <a:off x="653400" y="3585600"/>
            <a:ext cx="2965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V=3,5</a:t>
            </a:r>
            <a:r>
              <a:rPr b="0" lang="en-US" sz="36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2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6"/>
          <p:cNvSpPr/>
          <p:nvPr/>
        </p:nvSpPr>
        <p:spPr>
          <a:xfrm>
            <a:off x="653400" y="4666680"/>
            <a:ext cx="2073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V=14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7"/>
          <p:cNvSpPr/>
          <p:nvPr/>
        </p:nvSpPr>
        <p:spPr>
          <a:xfrm>
            <a:off x="653400" y="6189120"/>
            <a:ext cx="2875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6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14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3"/>
          <p:cNvSpPr/>
          <p:nvPr/>
        </p:nvSpPr>
        <p:spPr>
          <a:xfrm>
            <a:off x="232560" y="644400"/>
            <a:ext cx="134326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соб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Ященк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ысенк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2020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од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ж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диви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нообразие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лови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рв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я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ния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ГЭ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кратце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34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аки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овы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ния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знаком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4"/>
          <p:cNvSpPr/>
          <p:nvPr/>
        </p:nvSpPr>
        <p:spPr>
          <a:xfrm>
            <a:off x="232560" y="1416600"/>
            <a:ext cx="1234620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емельны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частк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еимуществ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азовог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опле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ред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лектрически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богрево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м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28"/>
              </a:lnSpc>
              <a:spcBef>
                <a:spcPts val="1182"/>
              </a:spcBef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тройств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еррас-грядок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орно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клон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рожайност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ельскохозяйствен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28"/>
              </a:lnSpc>
              <a:spcBef>
                <a:spcPts val="1233"/>
              </a:spcBef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тановк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ане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знал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чт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ровяна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еч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ксплуатац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бойдетс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шевл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лектр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5"/>
          <p:cNvSpPr/>
          <p:nvPr/>
        </p:nvSpPr>
        <p:spPr>
          <a:xfrm>
            <a:off x="232560" y="2602080"/>
            <a:ext cx="1333692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хем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етро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ычислен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лин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ольцев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ин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дель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еток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ет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дн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анц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ругой;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сче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иболе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шев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ездк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личны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ида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езд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а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6"/>
          <p:cNvSpPr/>
          <p:nvPr/>
        </p:nvSpPr>
        <p:spPr>
          <a:xfrm>
            <a:off x="232560" y="3290760"/>
            <a:ext cx="1309392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оимост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обильн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вяз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ыбор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птимальног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ариф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висимос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ину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игабай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а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традиционным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ж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о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7"/>
          <p:cNvSpPr/>
          <p:nvPr/>
        </p:nvSpPr>
        <p:spPr>
          <a:xfrm>
            <a:off x="232560" y="3979440"/>
            <a:ext cx="126748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лан-схем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вухкомнатно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вартиры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хожден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равнен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лощадей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омна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казались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амы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адекватным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фон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оста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8"/>
          <p:cNvSpPr/>
          <p:nvPr/>
        </p:nvSpPr>
        <p:spPr>
          <a:xfrm>
            <a:off x="232560" y="4667760"/>
            <a:ext cx="132354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28"/>
              </a:lnSpc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емонт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квартиры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стройк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ома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хожи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ы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арианта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шл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ет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том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оду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усложнили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дет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хот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ы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нимают,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более-мене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еш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28"/>
              </a:lnSpc>
              <a:spcBef>
                <a:spcPts val="442"/>
              </a:spcBef>
            </a:pPr>
            <a:r>
              <a:rPr b="0" lang="en-US" sz="1850" spc="-1" strike="noStrike">
                <a:solidFill>
                  <a:srgbClr val="000000"/>
                </a:solidFill>
                <a:latin typeface="VLGQVN+SymbolMT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ро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кономию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та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пулярны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купк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холодильник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з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равне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потребле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электроэнерги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разных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74"/>
              </a:lnSpc>
              <a:spcBef>
                <a:spcPts val="425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моделей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Заме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амп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каливания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светодиодны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или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газоразрядные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1800" spc="-1" strike="noStrike">
                <a:solidFill>
                  <a:srgbClr val="000000"/>
                </a:solidFill>
                <a:latin typeface="WJEUDC+TimesNewRomanPSMT"/>
              </a:rPr>
              <a:t>лампы.</a:t>
            </a:r>
            <a:r>
              <a:rPr b="0" lang="hi-IN" sz="1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ject 3"/>
          <p:cNvSpPr/>
          <p:nvPr/>
        </p:nvSpPr>
        <p:spPr>
          <a:xfrm>
            <a:off x="273960" y="262080"/>
            <a:ext cx="135774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.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кольк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рубле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ровяна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ечь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дходяща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апливаемому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бъёму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арного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8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тделения,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обойдётся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ешевл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электрической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с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чётом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устан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4"/>
          <p:cNvSpPr/>
          <p:nvPr/>
        </p:nvSpPr>
        <p:spPr>
          <a:xfrm>
            <a:off x="273960" y="4523400"/>
            <a:ext cx="13190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Т.к.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V=14,7куб.м.,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т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условию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задачи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одходит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печь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«Огонёк»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«Ока».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5"/>
          <p:cNvSpPr/>
          <p:nvPr/>
        </p:nvSpPr>
        <p:spPr>
          <a:xfrm>
            <a:off x="570960" y="4578840"/>
            <a:ext cx="565092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10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стано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6"/>
          <p:cNvSpPr/>
          <p:nvPr/>
        </p:nvSpPr>
        <p:spPr>
          <a:xfrm>
            <a:off x="570960" y="5118480"/>
            <a:ext cx="105980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)16000+8000=240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устано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электрическ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>
              <a:lnSpc>
                <a:spcPts val="2500"/>
              </a:lnSpc>
              <a:spcBef>
                <a:spcPts val="193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4000-21000=30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тольк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шевл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бойдё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ь</a:t>
            </a:r>
            <a:r>
              <a:rPr b="0" lang="en-US" sz="1800" spc="-1" strike="noStrike">
                <a:solidFill>
                  <a:srgbClr val="000000"/>
                </a:solidFill>
                <a:latin typeface="FMPFDV+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7"/>
          <p:cNvSpPr/>
          <p:nvPr/>
        </p:nvSpPr>
        <p:spPr>
          <a:xfrm>
            <a:off x="769320" y="6258600"/>
            <a:ext cx="2657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3"/>
          <p:cNvSpPr/>
          <p:nvPr/>
        </p:nvSpPr>
        <p:spPr>
          <a:xfrm>
            <a:off x="327960" y="469080"/>
            <a:ext cx="1323792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3.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На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сколько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рубле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эксплуатация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дровяно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ечи,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одходяще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о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тапливаемому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бъёму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парного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83"/>
              </a:lnSpc>
              <a:spcBef>
                <a:spcPts val="1517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тделения,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обойдётся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дешевле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эксплуатации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электрической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в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течение</a:t>
            </a:r>
            <a:r>
              <a:rPr b="1" lang="hi-IN" sz="20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000" spc="-1" strike="noStrike">
                <a:solidFill>
                  <a:srgbClr val="000000"/>
                </a:solidFill>
                <a:latin typeface="QKCQVO+TimesNewRomanPS-BoldMT"/>
              </a:rPr>
              <a:t>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4"/>
          <p:cNvSpPr/>
          <p:nvPr/>
        </p:nvSpPr>
        <p:spPr>
          <a:xfrm>
            <a:off x="327960" y="4644000"/>
            <a:ext cx="78872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40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4=9600(р)-эксплуатац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электрическ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68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60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=3200(р)-эксплуатаци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ой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5"/>
          <p:cNvSpPr/>
          <p:nvPr/>
        </p:nvSpPr>
        <p:spPr>
          <a:xfrm>
            <a:off x="327960" y="5775840"/>
            <a:ext cx="110962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600-3200=6400(р)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н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тольк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год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ешевле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обойдётс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ровяная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6"/>
          <p:cNvSpPr/>
          <p:nvPr/>
        </p:nvSpPr>
        <p:spPr>
          <a:xfrm>
            <a:off x="516960" y="6383880"/>
            <a:ext cx="232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28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ff0000"/>
                </a:solidFill>
                <a:latin typeface="WJEUDC+TimesNewRomanPSMT"/>
              </a:rPr>
              <a:t>6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3"/>
          <p:cNvSpPr/>
          <p:nvPr/>
        </p:nvSpPr>
        <p:spPr>
          <a:xfrm>
            <a:off x="797760" y="2549880"/>
            <a:ext cx="797688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5%=0,05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чит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тоимос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стави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95%=0,9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33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40%=0,4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значит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доста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стави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60%=0,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4"/>
          <p:cNvSpPr/>
          <p:nvPr/>
        </p:nvSpPr>
        <p:spPr>
          <a:xfrm>
            <a:off x="848520" y="3729600"/>
            <a:ext cx="7407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)21000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0,95=19950(р)-стоит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«Огонёк»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ки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238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2)600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KCHHBW+MicrosoftSansSerif,Bold"/>
              </a:rPr>
              <a:t>ꞏ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0,6=360(р)-доставка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кид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5"/>
          <p:cNvSpPr/>
          <p:nvPr/>
        </p:nvSpPr>
        <p:spPr>
          <a:xfrm>
            <a:off x="869400" y="4969440"/>
            <a:ext cx="79192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3)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19950+360=20310(р)-стоимость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ечи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скидками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6"/>
          <p:cNvSpPr/>
          <p:nvPr/>
        </p:nvSpPr>
        <p:spPr>
          <a:xfrm>
            <a:off x="797760" y="6222240"/>
            <a:ext cx="2860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03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3"/>
          <p:cNvSpPr/>
          <p:nvPr/>
        </p:nvSpPr>
        <p:spPr>
          <a:xfrm>
            <a:off x="4695120" y="1383480"/>
            <a:ext cx="8062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еч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снабжен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ожухом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округ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дверцы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топки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ерхняя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част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ожух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ыполнен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ид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арки,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риваренной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ередней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стенк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о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дуг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окружност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(см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ис.)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Для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установк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ечк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хозяину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онадобилос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узнать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адиус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закругления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арки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R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азмеры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кожух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93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показаны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на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исунке.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Найдите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радиус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в</a:t>
            </a:r>
            <a:r>
              <a:rPr b="0" lang="hi-IN" sz="2800" spc="-1" strike="noStrike">
                <a:solidFill>
                  <a:srgbClr val="555555"/>
                </a:solidFill>
                <a:latin typeface="WJEUDC+TimesNewRomanPSMT"/>
                <a:cs typeface="WJEUDC+TimesNewRomanPS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442"/>
              </a:spcBef>
            </a:pPr>
            <a:r>
              <a:rPr b="0" lang="en-US" sz="2800" spc="-1" strike="noStrike">
                <a:solidFill>
                  <a:srgbClr val="555555"/>
                </a:solidFill>
                <a:latin typeface="WJEUDC+TimesNewRomanPSMT"/>
              </a:rPr>
              <a:t>санти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4"/>
          <p:cNvSpPr/>
          <p:nvPr/>
        </p:nvSpPr>
        <p:spPr>
          <a:xfrm>
            <a:off x="2601360" y="637884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3"/>
          <p:cNvSpPr/>
          <p:nvPr/>
        </p:nvSpPr>
        <p:spPr>
          <a:xfrm>
            <a:off x="6204960" y="368640"/>
            <a:ext cx="49262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CN-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рямоугольный,&lt;N=90◦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h=64-50=14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N=DE:2,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N=2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4"/>
          <p:cNvSpPr/>
          <p:nvPr/>
        </p:nvSpPr>
        <p:spPr>
          <a:xfrm>
            <a:off x="6139800" y="1183320"/>
            <a:ext cx="2473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т.</a:t>
            </a:r>
            <a:r>
              <a:rPr b="0" lang="hi-IN" sz="24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5"/>
          <p:cNvSpPr/>
          <p:nvPr/>
        </p:nvSpPr>
        <p:spPr>
          <a:xfrm>
            <a:off x="10364040" y="1448280"/>
            <a:ext cx="1238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BC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6"/>
          <p:cNvSpPr/>
          <p:nvPr/>
        </p:nvSpPr>
        <p:spPr>
          <a:xfrm>
            <a:off x="10364040" y="1814040"/>
            <a:ext cx="16617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CN=R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JEUDC+TimesNewRomanPSMT"/>
              </a:rPr>
              <a:t>CN=R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7"/>
          <p:cNvSpPr/>
          <p:nvPr/>
        </p:nvSpPr>
        <p:spPr>
          <a:xfrm>
            <a:off x="2607480" y="5586840"/>
            <a:ext cx="828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QKCQVO+TimesNewRomanPS-BoldMT"/>
              </a:rPr>
              <a:t>4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8"/>
          <p:cNvSpPr/>
          <p:nvPr/>
        </p:nvSpPr>
        <p:spPr>
          <a:xfrm>
            <a:off x="100800" y="6309360"/>
            <a:ext cx="255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32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3200" spc="-1" strike="noStrike">
                <a:solidFill>
                  <a:srgbClr val="ff0000"/>
                </a:solidFill>
                <a:latin typeface="WJEUDC+TimesNewRomanPSMT"/>
              </a:rPr>
              <a:t>2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3"/>
          <p:cNvSpPr/>
          <p:nvPr/>
        </p:nvSpPr>
        <p:spPr>
          <a:xfrm>
            <a:off x="473760" y="2673360"/>
            <a:ext cx="12329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34"/>
              </a:lnSpc>
            </a:pPr>
            <a:r>
              <a:rPr b="1" lang="en-US" sz="8000" spc="-1" strike="noStrike">
                <a:solidFill>
                  <a:srgbClr val="203864"/>
                </a:solidFill>
                <a:latin typeface="Cambri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3"/>
          <p:cNvSpPr/>
          <p:nvPr/>
        </p:nvSpPr>
        <p:spPr>
          <a:xfrm>
            <a:off x="905760" y="1261440"/>
            <a:ext cx="11909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WJEUDC+TimesNewRomanPSMT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.Ч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меньш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листа,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больш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вс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ег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размеры.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Ч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больш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-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ем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4"/>
          <p:cNvSpPr/>
          <p:nvPr/>
        </p:nvSpPr>
        <p:spPr>
          <a:xfrm>
            <a:off x="905760" y="2858400"/>
            <a:ext cx="12168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WJEUDC+TimesNewRomanPSMT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.Отношени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длины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лист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к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ег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ширине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у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вс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ов,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обозначенных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буквой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одн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о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5"/>
          <p:cNvSpPr/>
          <p:nvPr/>
        </p:nvSpPr>
        <p:spPr>
          <a:xfrm>
            <a:off x="926640" y="4453920"/>
            <a:ext cx="112870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WJEUDC+TimesNewRomanPSMT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.Пропорци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текст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пр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изменении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формата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4000" spc="-1" strike="noStrike">
                <a:solidFill>
                  <a:srgbClr val="000000"/>
                </a:solidFill>
                <a:latin typeface="WJEUDC+TimesNewRomanPSMT"/>
              </a:rPr>
              <a:t>сохраняются.</a:t>
            </a:r>
            <a:r>
              <a:rPr b="0" lang="hi-IN" sz="4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3"/>
          <p:cNvSpPr/>
          <p:nvPr/>
        </p:nvSpPr>
        <p:spPr>
          <a:xfrm>
            <a:off x="1320120" y="775440"/>
            <a:ext cx="32698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Порядковые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но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4"/>
          <p:cNvSpPr/>
          <p:nvPr/>
        </p:nvSpPr>
        <p:spPr>
          <a:xfrm>
            <a:off x="4968000" y="775440"/>
            <a:ext cx="2660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Шир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(мм)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5"/>
          <p:cNvSpPr/>
          <p:nvPr/>
        </p:nvSpPr>
        <p:spPr>
          <a:xfrm>
            <a:off x="8338320" y="795240"/>
            <a:ext cx="26316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Длина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(мм)</a:t>
            </a:r>
            <a:r>
              <a:rPr b="1" lang="hi-IN" sz="24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ꢀꢀꢀꢀ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6"/>
          <p:cNvSpPr/>
          <p:nvPr/>
        </p:nvSpPr>
        <p:spPr>
          <a:xfrm>
            <a:off x="3453840" y="1273680"/>
            <a:ext cx="80928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1193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7"/>
          <p:cNvSpPr/>
          <p:nvPr/>
        </p:nvSpPr>
        <p:spPr>
          <a:xfrm>
            <a:off x="2642400" y="1323360"/>
            <a:ext cx="6091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8"/>
          <p:cNvSpPr/>
          <p:nvPr/>
        </p:nvSpPr>
        <p:spPr>
          <a:xfrm>
            <a:off x="5841360" y="1323360"/>
            <a:ext cx="9140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87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9"/>
          <p:cNvSpPr/>
          <p:nvPr/>
        </p:nvSpPr>
        <p:spPr>
          <a:xfrm>
            <a:off x="9192240" y="1323360"/>
            <a:ext cx="9140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887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10"/>
          <p:cNvSpPr/>
          <p:nvPr/>
        </p:nvSpPr>
        <p:spPr>
          <a:xfrm>
            <a:off x="2642400" y="2170800"/>
            <a:ext cx="1626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3</a:t>
            </a:r>
            <a:r>
              <a:rPr b="1" lang="en-US" sz="2400" spc="45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11"/>
          <p:cNvSpPr/>
          <p:nvPr/>
        </p:nvSpPr>
        <p:spPr>
          <a:xfrm>
            <a:off x="1650240" y="2248200"/>
            <a:ext cx="10262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1.Для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лис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бумаг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форма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3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4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5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А6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предел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каким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рядковым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12"/>
          <p:cNvSpPr/>
          <p:nvPr/>
        </p:nvSpPr>
        <p:spPr>
          <a:xfrm>
            <a:off x="3736440" y="2341080"/>
            <a:ext cx="406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67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13"/>
          <p:cNvSpPr/>
          <p:nvPr/>
        </p:nvSpPr>
        <p:spPr>
          <a:xfrm>
            <a:off x="1650240" y="2553120"/>
            <a:ext cx="101638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номерами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бозначены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их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размеры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аблиц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1.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Заполн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таблицу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ниже,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бланк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14"/>
          <p:cNvSpPr/>
          <p:nvPr/>
        </p:nvSpPr>
        <p:spPr>
          <a:xfrm>
            <a:off x="2642400" y="2594880"/>
            <a:ext cx="609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15"/>
          <p:cNvSpPr/>
          <p:nvPr/>
        </p:nvSpPr>
        <p:spPr>
          <a:xfrm>
            <a:off x="5841360" y="2594880"/>
            <a:ext cx="914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ject 16"/>
          <p:cNvSpPr/>
          <p:nvPr/>
        </p:nvSpPr>
        <p:spPr>
          <a:xfrm>
            <a:off x="9192240" y="2594880"/>
            <a:ext cx="914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QKCQVO+TimesNewRomanPS-BoldMT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17"/>
          <p:cNvSpPr/>
          <p:nvPr/>
        </p:nvSpPr>
        <p:spPr>
          <a:xfrm>
            <a:off x="3442680" y="2650680"/>
            <a:ext cx="902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18"/>
          <p:cNvSpPr/>
          <p:nvPr/>
        </p:nvSpPr>
        <p:spPr>
          <a:xfrm>
            <a:off x="3736440" y="2799720"/>
            <a:ext cx="4568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74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QKCQVO+TimesNewRomanPS-Bold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19"/>
          <p:cNvSpPr/>
          <p:nvPr/>
        </p:nvSpPr>
        <p:spPr>
          <a:xfrm>
            <a:off x="1650240" y="2858040"/>
            <a:ext cx="68774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83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ответов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еренесите</a:t>
            </a:r>
            <a:r>
              <a:rPr b="0" lang="hi-IN" sz="2000" spc="-1" strike="no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noStrike">
                <a:solidFill>
                  <a:srgbClr val="000000"/>
                </a:solidFill>
                <a:latin typeface="WJEUDC+TimesNewRomanPSMT"/>
              </a:rPr>
              <a:t>после</a:t>
            </a:r>
            <a:r>
              <a:rPr b="0" lang="en-US" sz="2000" spc="-1" strike="sngStrike">
                <a:solidFill>
                  <a:srgbClr val="000000"/>
                </a:solidFill>
                <a:latin typeface="WJEUDC+TimesNewRomanPSMT"/>
              </a:rPr>
              <a:t>довательность</a:t>
            </a:r>
            <a:r>
              <a:rPr b="0" lang="hi-IN" sz="2000" spc="-1" strike="sng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sngStrike">
                <a:solidFill>
                  <a:srgbClr val="000000"/>
                </a:solidFill>
                <a:latin typeface="WJEUDC+TimesNewRomanPSMT"/>
              </a:rPr>
              <a:t>четырёх</a:t>
            </a:r>
            <a:r>
              <a:rPr b="0" lang="hi-IN" sz="2000" spc="-1" strike="sngStrike">
                <a:solidFill>
                  <a:srgbClr val="000000"/>
                </a:solidFill>
                <a:latin typeface="WJEUDC+TimesNewRomanPSMT"/>
                <a:cs typeface="WJEUDC+TimesNewRomanPSMT"/>
              </a:rPr>
              <a:t>ꢀ</a:t>
            </a:r>
            <a:r>
              <a:rPr b="0" lang="en-US" sz="2000" spc="-1" strike="sngStrike">
                <a:solidFill>
                  <a:srgbClr val="000000"/>
                </a:solidFill>
                <a:latin typeface="WJEUDC+TimesNewRomanPSMT"/>
              </a:rPr>
              <a:t>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20"/>
          <p:cNvSpPr/>
          <p:nvPr/>
        </p:nvSpPr>
        <p:spPr>
          <a:xfrm>
            <a:off x="1168560" y="3505320"/>
            <a:ext cx="37911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Форматы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бум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21"/>
          <p:cNvSpPr/>
          <p:nvPr/>
        </p:nvSpPr>
        <p:spPr>
          <a:xfrm>
            <a:off x="5715720" y="4026960"/>
            <a:ext cx="5743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3</a:t>
            </a:r>
            <a:r>
              <a:rPr b="1" lang="en-US" sz="3200" spc="70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4</a:t>
            </a:r>
            <a:r>
              <a:rPr b="1" lang="en-US" sz="3200" spc="73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5</a:t>
            </a:r>
            <a:r>
              <a:rPr b="1" lang="en-US" sz="3200" spc="69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А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22"/>
          <p:cNvSpPr/>
          <p:nvPr/>
        </p:nvSpPr>
        <p:spPr>
          <a:xfrm>
            <a:off x="1168560" y="4549680"/>
            <a:ext cx="43599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Порядковые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23"/>
          <p:cNvSpPr/>
          <p:nvPr/>
        </p:nvSpPr>
        <p:spPr>
          <a:xfrm>
            <a:off x="586260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24"/>
          <p:cNvSpPr/>
          <p:nvPr/>
        </p:nvSpPr>
        <p:spPr>
          <a:xfrm>
            <a:off x="736056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25"/>
          <p:cNvSpPr/>
          <p:nvPr/>
        </p:nvSpPr>
        <p:spPr>
          <a:xfrm>
            <a:off x="888588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26"/>
          <p:cNvSpPr/>
          <p:nvPr/>
        </p:nvSpPr>
        <p:spPr>
          <a:xfrm>
            <a:off x="10360800" y="5071680"/>
            <a:ext cx="812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27"/>
          <p:cNvSpPr/>
          <p:nvPr/>
        </p:nvSpPr>
        <p:spPr>
          <a:xfrm>
            <a:off x="1191600" y="6010920"/>
            <a:ext cx="1859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28"/>
          <p:cNvSpPr/>
          <p:nvPr/>
        </p:nvSpPr>
        <p:spPr>
          <a:xfrm>
            <a:off x="2609280" y="6063120"/>
            <a:ext cx="1669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3</a:t>
            </a:r>
            <a:r>
              <a:rPr b="1" lang="en-US" sz="2400" spc="959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2</a:t>
            </a:r>
            <a:r>
              <a:rPr b="1" lang="en-US" sz="2400" spc="973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4</a:t>
            </a:r>
            <a:r>
              <a:rPr b="1" lang="en-US" sz="2400" spc="1010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QKCQVO+TimesNewRomanPS-Bold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bject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3"/>
          <p:cNvSpPr/>
          <p:nvPr/>
        </p:nvSpPr>
        <p:spPr>
          <a:xfrm>
            <a:off x="2290680" y="759600"/>
            <a:ext cx="2386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0000"/>
                </a:solidFill>
                <a:latin typeface="QICDNS+ArialMT"/>
              </a:rPr>
              <a:t>•</a:t>
            </a:r>
            <a:r>
              <a:rPr b="0" lang="en-US" sz="325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1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ts val="3804"/>
              </a:lnSpc>
              <a:spcBef>
                <a:spcPts val="1080"/>
              </a:spcBef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0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8209080" y="1437480"/>
            <a:ext cx="23475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0000"/>
                </a:solidFill>
                <a:latin typeface="QICDNS+ArialMT"/>
              </a:rPr>
              <a:t>•</a:t>
            </a:r>
            <a:r>
              <a:rPr b="0" lang="en-US" sz="325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2</a:t>
            </a:r>
            <a:r>
              <a:rPr b="1" lang="hi-IN" sz="3200" spc="-1" strike="noStrike">
                <a:solidFill>
                  <a:srgbClr val="000000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3200" spc="-1" strike="noStrike">
                <a:solidFill>
                  <a:srgbClr val="000000"/>
                </a:solidFill>
                <a:latin typeface="QKCQVO+TimesNewRomanPS-BoldMT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2576520" y="1947600"/>
            <a:ext cx="18554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6"/>
          <p:cNvSpPr/>
          <p:nvPr/>
        </p:nvSpPr>
        <p:spPr>
          <a:xfrm>
            <a:off x="6579720" y="2001600"/>
            <a:ext cx="51253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68"/>
              </a:lnSpc>
            </a:pPr>
            <a:r>
              <a:rPr b="0" lang="en-US" sz="2850" spc="-1" strike="noStrike">
                <a:solidFill>
                  <a:srgbClr val="203864"/>
                </a:solidFill>
                <a:latin typeface="QICDNS+ArialMT"/>
              </a:rPr>
              <a:t>•</a:t>
            </a:r>
            <a:r>
              <a:rPr b="0" lang="en-US" sz="2850" spc="89" strike="noStrike">
                <a:solidFill>
                  <a:srgbClr val="20386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n-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числ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умень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1097"/>
              </a:spcBef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от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0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д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5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равн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7"/>
          <p:cNvSpPr/>
          <p:nvPr/>
        </p:nvSpPr>
        <p:spPr>
          <a:xfrm>
            <a:off x="2576520" y="2568600"/>
            <a:ext cx="18554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2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8"/>
          <p:cNvSpPr/>
          <p:nvPr/>
        </p:nvSpPr>
        <p:spPr>
          <a:xfrm>
            <a:off x="6579720" y="3029040"/>
            <a:ext cx="531072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n=5-0=5,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тогд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числ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листов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7"/>
              </a:lnSpc>
              <a:spcBef>
                <a:spcPts val="105"/>
              </a:spcBef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5,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получаемых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9"/>
          <p:cNvSpPr/>
          <p:nvPr/>
        </p:nvSpPr>
        <p:spPr>
          <a:xfrm>
            <a:off x="2576520" y="3189240"/>
            <a:ext cx="18554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3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10"/>
          <p:cNvSpPr/>
          <p:nvPr/>
        </p:nvSpPr>
        <p:spPr>
          <a:xfrm>
            <a:off x="2462040" y="3810240"/>
            <a:ext cx="208368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04"/>
              </a:lnSpc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4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4"/>
              </a:lnSpc>
              <a:spcBef>
                <a:spcPts val="1083"/>
              </a:spcBef>
            </a:pPr>
            <a:r>
              <a:rPr b="0" lang="en-US" sz="3650" spc="520" strike="noStrike">
                <a:solidFill>
                  <a:srgbClr val="ff0000"/>
                </a:solidFill>
                <a:latin typeface="QICDNS+ArialMT"/>
              </a:rPr>
              <a:t>•</a:t>
            </a:r>
            <a:r>
              <a:rPr b="1" lang="en-US" sz="3600" spc="-1" strike="noStrike">
                <a:solidFill>
                  <a:srgbClr val="ff0000"/>
                </a:solidFill>
                <a:latin typeface="QKCQVO+TimesNewRomanPS-BoldMT"/>
              </a:rPr>
              <a:t>А5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11"/>
          <p:cNvSpPr/>
          <p:nvPr/>
        </p:nvSpPr>
        <p:spPr>
          <a:xfrm>
            <a:off x="6579720" y="3924360"/>
            <a:ext cx="5408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формата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А0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равно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N=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2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⁵ꢀ</a:t>
            </a:r>
            <a:r>
              <a:rPr b="1" lang="en-US" sz="2800" spc="-1" strike="noStrike">
                <a:solidFill>
                  <a:srgbClr val="203864"/>
                </a:solidFill>
                <a:latin typeface="QKCQVO+TimesNewRomanPS-BoldMT"/>
              </a:rPr>
              <a:t>=32</a:t>
            </a:r>
            <a:r>
              <a:rPr b="1" lang="hi-IN" sz="2800" spc="-1" strike="noStrike">
                <a:solidFill>
                  <a:srgbClr val="203864"/>
                </a:solidFill>
                <a:latin typeface="QKCQVO+TimesNewRomanPS-BoldMT"/>
                <a:cs typeface="QKCQVO+TimesNewRomanPS-BoldMT"/>
              </a:rPr>
              <a:t>ꢀ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12"/>
          <p:cNvSpPr/>
          <p:nvPr/>
        </p:nvSpPr>
        <p:spPr>
          <a:xfrm>
            <a:off x="864720" y="6350760"/>
            <a:ext cx="230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WJEUDC+TimesNewRomanPSMT"/>
              </a:rPr>
              <a:t>Ответ:</a:t>
            </a:r>
            <a:r>
              <a:rPr b="0" lang="hi-IN" sz="2800" spc="-1" strike="noStrike">
                <a:solidFill>
                  <a:srgbClr val="000000"/>
                </a:solidFill>
                <a:latin typeface="FMPFDV+Calibri"/>
                <a:cs typeface="FMPFDV+Calibri"/>
              </a:rPr>
              <a:t>ꢀꢀ</a:t>
            </a:r>
            <a:r>
              <a:rPr b="0" lang="en-US" sz="3600" spc="-1" strike="noStrike" baseline="5000">
                <a:solidFill>
                  <a:srgbClr val="ff0000"/>
                </a:solidFill>
                <a:latin typeface="WJEUDC+TimesNewRomanPSMT"/>
              </a:rPr>
              <a:t>3</a:t>
            </a:r>
            <a:r>
              <a:rPr b="0" lang="en-US" sz="3600" spc="1960" strike="noStrike" baseline="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 baseline="5000">
                <a:solidFill>
                  <a:srgbClr val="ff0000"/>
                </a:solidFill>
                <a:latin typeface="WJEUDC+TimesNewRomanPSM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ragraphs>3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dfcandle</dc:creator>
  <dc:description/>
  <dc:language>en-US</dc:language>
  <cp:lastModifiedBy>pdfcandle</cp:lastModifiedBy>
  <dcterms:modified xsi:type="dcterms:W3CDTF">2022-04-11T14:05:04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5</vt:r8>
  </property>
</Properties>
</file>