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44E-345C-4BB9-8B42-F76BFC7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633-8F35-42D2-A4EE-29011CA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9F5-8063-4A32-AB18-9639EE05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71A-D36E-4134-8DCB-AFA5A928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D5A-98BD-45A8-9474-D3C801F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8FF-97D8-4AA8-B3E5-4B15A2E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562-3C67-46E3-9EE3-9D303B64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E88-9D09-4D1B-8D6B-18F6F48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919-B003-4F58-9905-D499997D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9E2-011D-4B4A-AA6C-2A97E92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29C-E059-4D87-AC49-B6C6B162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E9B-967A-40AF-85DD-A6B0CFF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7F25-F943-4D5A-A73B-8D6D99726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6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thnomuseum.ru/imgp/618.jpg" TargetMode="External"/><Relationship Id="rId2" Type="http://schemas.openxmlformats.org/officeDocument/2006/relationships/hyperlink" Target="http://www.rustrana.ru/articles/270/nanayci.jpg" TargetMode="External"/><Relationship Id="rId3" Type="http://schemas.openxmlformats.org/officeDocument/2006/relationships/hyperlink" Target="http://www.cbook.ru/peoples/more/tish_big/t155.jpg" TargetMode="External"/><Relationship Id="rId4" Type="http://schemas.openxmlformats.org/officeDocument/2006/relationships/hyperlink" Target="http://www.mega-mir.com/upload/iblock/b2d/xtigztybqnzkem.jpg" TargetMode="External"/><Relationship Id="rId5" Type="http://schemas.openxmlformats.org/officeDocument/2006/relationships/hyperlink" Target="http://www.yakutiatravel.com/images/photo/Babushka.jpg" TargetMode="External"/><Relationship Id="rId6" Type="http://schemas.openxmlformats.org/officeDocument/2006/relationships/hyperlink" Target="http://www.bg-znanie.ru/articles/244/evenok.jpg" TargetMode="External"/><Relationship Id="rId7" Type="http://schemas.openxmlformats.org/officeDocument/2006/relationships/hyperlink" Target="http://www.dalvost.su/data/article/1254391291_56383_l.jpg" TargetMode="External"/><Relationship Id="rId8" Type="http://schemas.openxmlformats.org/officeDocument/2006/relationships/hyperlink" Target="http://i.i.ua/photo/images/pic/5/5/4609955_a5ccc8bd.jpg" TargetMode="External"/><Relationship Id="rId9" Type="http://schemas.openxmlformats.org/officeDocument/2006/relationships/hyperlink" Target="http://dic.academic.ru/pictures/wiki/files/77/Mandarin.duck.arp.jpg" TargetMode="External"/><Relationship Id="rId10" Type="http://schemas.openxmlformats.org/officeDocument/2006/relationships/hyperlink" Target="http://www.apus.ru/im.xp/049050053048054056051049055.png" TargetMode="External"/><Relationship Id="rId11" Type="http://schemas.openxmlformats.org/officeDocument/2006/relationships/hyperlink" Target="http://www.podarki77.ru/images/P/92-ARR01.jpg" TargetMode="External"/><Relationship Id="rId12" Type="http://schemas.openxmlformats.org/officeDocument/2006/relationships/hyperlink" Target="http://www.nsu.ru/education/etno/dolgany/dol2.jpg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2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2133720"/>
            <a:ext cx="2881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оявились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ые народы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нанайцыы"/>
          <p:cNvPicPr/>
          <p:nvPr/>
        </p:nvPicPr>
        <p:blipFill>
          <a:blip r:embed="rId5"/>
          <a:stretch/>
        </p:blipFill>
        <p:spPr>
          <a:xfrm>
            <a:off x="5572080" y="1143000"/>
            <a:ext cx="2665440" cy="3929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5887080" y="50007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Долг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14240" y="4357800"/>
            <a:ext cx="30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Bookman Old Style"/>
              </a:rPr>
              <a:t>Презентацию выполн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Bookman Old Style"/>
              </a:rPr>
              <a:t>Ученица  3 «В»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Bookman Old Style"/>
              </a:rPr>
              <a:t>МБОУ ЭМ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Болдырева Эм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мужская меховая обувь долган"/>
          <p:cNvPicPr/>
          <p:nvPr/>
        </p:nvPicPr>
        <p:blipFill>
          <a:blip r:embed="rId1"/>
          <a:stretch/>
        </p:blipFill>
        <p:spPr>
          <a:xfrm>
            <a:off x="1042920" y="1125360"/>
            <a:ext cx="2363760" cy="3673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8269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ская меховая обувь дол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становище долган"/>
          <p:cNvPicPr/>
          <p:nvPr/>
        </p:nvPicPr>
        <p:blipFill>
          <a:blip r:embed="rId2"/>
          <a:stretch/>
        </p:blipFill>
        <p:spPr>
          <a:xfrm>
            <a:off x="5508720" y="1628640"/>
            <a:ext cx="2881080" cy="1871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8" name="Text Box 7"/>
          <p:cNvSpPr/>
          <p:nvPr/>
        </p:nvSpPr>
        <p:spPr>
          <a:xfrm>
            <a:off x="550872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овище дол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долганы"/>
          <p:cNvPicPr/>
          <p:nvPr/>
        </p:nvPicPr>
        <p:blipFill>
          <a:blip r:embed="rId3"/>
          <a:stretch/>
        </p:blipFill>
        <p:spPr>
          <a:xfrm>
            <a:off x="5508720" y="3716280"/>
            <a:ext cx="1579320" cy="1944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0" name="Text Box 9"/>
          <p:cNvSpPr/>
          <p:nvPr/>
        </p:nvSpPr>
        <p:spPr>
          <a:xfrm>
            <a:off x="7020000" y="429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ка распа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900000" y="119700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енки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Line 5"/>
          <p:cNvSpPr/>
          <p:nvPr/>
        </p:nvSpPr>
        <p:spPr>
          <a:xfrm flipH="1">
            <a:off x="1979280" y="98100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венка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900000" y="1989000"/>
            <a:ext cx="2735280" cy="2249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4" name="Picture 9" descr="эвенкии"/>
          <p:cNvPicPr/>
          <p:nvPr/>
        </p:nvPicPr>
        <p:blipFill>
          <a:blip r:embed="rId4"/>
          <a:stretch/>
        </p:blipFill>
        <p:spPr>
          <a:xfrm>
            <a:off x="826920" y="3860640"/>
            <a:ext cx="2808360" cy="1806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5" name="Text Box 11"/>
          <p:cNvSpPr/>
          <p:nvPr/>
        </p:nvSpPr>
        <p:spPr>
          <a:xfrm>
            <a:off x="5435640" y="1052640"/>
            <a:ext cx="316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Эвенки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– означает: живующий в горных лесах народ.  Эвенки говорят на эвенкийском языке  Эвенки не имеют собственной письменности, в скотоводческих районах эвенками широко используется монгольская письменность, в сельскохозяйственных и горных районах – китайская письмен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46"/>
          <p:cNvPicPr/>
          <p:nvPr/>
        </p:nvPicPr>
        <p:blipFill>
          <a:blip r:embed="rId1"/>
          <a:stretch/>
        </p:blipFill>
        <p:spPr>
          <a:xfrm>
            <a:off x="826920" y="1197000"/>
            <a:ext cx="2857680" cy="4086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826920" y="530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ской костю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435640" y="5012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б для домашней утв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650"/>
          <p:cNvPicPr/>
          <p:nvPr/>
        </p:nvPicPr>
        <p:blipFill>
          <a:blip r:embed="rId2"/>
          <a:stretch/>
        </p:blipFill>
        <p:spPr>
          <a:xfrm>
            <a:off x="5435640" y="1197000"/>
            <a:ext cx="2951280" cy="35845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00000" y="1484280"/>
            <a:ext cx="27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куты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5" descr="якут"/>
          <p:cNvPicPr/>
          <p:nvPr/>
        </p:nvPicPr>
        <p:blipFill>
          <a:blip r:embed="rId3"/>
          <a:stretch/>
        </p:blipFill>
        <p:spPr>
          <a:xfrm>
            <a:off x="826920" y="2637000"/>
            <a:ext cx="2881440" cy="2638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5435640" y="1341360"/>
            <a:ext cx="310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Якуты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- самый многочисленный коренной народ севера России. Якуты занимались в основном коневодством и разведение крупного рогатого скота. За лошадьми ухаживали мужчины, а за крупным рогатым скотом - женщины. На севере разводили олен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2195280" y="126828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s?cBJMf1FpdUmKbBwgxx9CM-u5plTYyst36cUJfR2Yr0E"/>
          <p:cNvPicPr/>
          <p:nvPr/>
        </p:nvPicPr>
        <p:blipFill>
          <a:blip r:embed="rId1"/>
          <a:stretch/>
        </p:blipFill>
        <p:spPr>
          <a:xfrm>
            <a:off x="5580000" y="1413000"/>
            <a:ext cx="2724120" cy="316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5" name="Text Box 8"/>
          <p:cNvSpPr/>
          <p:nvPr/>
        </p:nvSpPr>
        <p:spPr>
          <a:xfrm>
            <a:off x="5435640" y="49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ты -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00000" y="49608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гмент нагрудника мужского костюма як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muz033"/>
          <p:cNvPicPr/>
          <p:nvPr/>
        </p:nvPicPr>
        <p:blipFill>
          <a:blip r:embed="rId2"/>
          <a:stretch/>
        </p:blipFill>
        <p:spPr>
          <a:xfrm>
            <a:off x="900000" y="1268280"/>
            <a:ext cx="2633760" cy="3673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900000" y="1125360"/>
            <a:ext cx="273708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найцы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435640" y="1052640"/>
            <a:ext cx="29732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990033"/>
                </a:solidFill>
                <a:uFillTx/>
                <a:latin typeface="Bookman Old Style"/>
              </a:rPr>
              <a:t>Нанайцы </a:t>
            </a:r>
            <a:r>
              <a:rPr b="1" i="1" lang="ru-RU" sz="1700" spc="-1" strike="noStrike">
                <a:solidFill>
                  <a:srgbClr val="000000"/>
                </a:solidFill>
                <a:latin typeface="Bookman Old Style"/>
              </a:rPr>
              <a:t>относятся к коренным народам Приамурья. Традиционно они занимаются рыбной ловлей, охотой, собирательством. Реки и окружающая тайга кормили и одевали нанайцев, обеспечивали семьи всем необходимым. Орудиями охоты были лук со стрелами, копье, различные самострелы, петли, сетки на мелких пушных звер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911"/>
          <p:cNvPicPr/>
          <p:nvPr/>
        </p:nvPicPr>
        <p:blipFill>
          <a:blip r:embed="rId3"/>
          <a:stretch/>
        </p:blipFill>
        <p:spPr>
          <a:xfrm>
            <a:off x="826920" y="2060640"/>
            <a:ext cx="2881440" cy="187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oourfo_news%202001"/>
          <p:cNvPicPr/>
          <p:nvPr/>
        </p:nvPicPr>
        <p:blipFill>
          <a:blip r:embed="rId4"/>
          <a:stretch/>
        </p:blipFill>
        <p:spPr>
          <a:xfrm>
            <a:off x="826920" y="3860640"/>
            <a:ext cx="2881440" cy="1884600"/>
          </a:xfrm>
          <a:prstGeom prst="rect">
            <a:avLst/>
          </a:prstGeom>
          <a:ln w="0">
            <a:noFill/>
          </a:ln>
        </p:spPr>
      </p:pic>
      <p:sp>
        <p:nvSpPr>
          <p:cNvPr id="122" name="Line 8"/>
          <p:cNvSpPr/>
          <p:nvPr/>
        </p:nvSpPr>
        <p:spPr>
          <a:xfrm flipH="1">
            <a:off x="2123640" y="1125360"/>
            <a:ext cx="144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нанайцы обувь из рыбьей кожи"/>
          <p:cNvPicPr/>
          <p:nvPr/>
        </p:nvPicPr>
        <p:blipFill>
          <a:blip r:embed="rId1"/>
          <a:stretch/>
        </p:blipFill>
        <p:spPr>
          <a:xfrm>
            <a:off x="826920" y="1341360"/>
            <a:ext cx="2808360" cy="26575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900000" y="45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 из рыбьей к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одежда нанайцев из рыбьей шкуры"/>
          <p:cNvPicPr/>
          <p:nvPr/>
        </p:nvPicPr>
        <p:blipFill>
          <a:blip r:embed="rId2"/>
          <a:stretch/>
        </p:blipFill>
        <p:spPr>
          <a:xfrm>
            <a:off x="5508720" y="1197000"/>
            <a:ext cx="2857320" cy="33066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5580000" y="479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нанайцев из рыбьей шк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900000" y="1125360"/>
            <a:ext cx="27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лень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35640" y="1052640"/>
            <a:ext cx="316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Bookman Old Style"/>
              </a:rPr>
              <a:t>Домашних северных оленей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содержат во многих районах Сибири и по всей тундровой зоне. Шкуры, мясо, жилы северного оленя незаменимы в хозяйстве народов Севера. Для изготовления европейской одежды обычно используется шкурки оленят. Шкура с ног (камус) идет на подбой охотничьих лыж. Коренные северяне носят одежду из шкур взрослых оленей мехом внутрь. Олени необходимы и как ездовые животные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еверный олень.avi" descr=""/>
          <p:cNvPicPr/>
          <p:nvPr/>
        </p:nvPicPr>
        <p:blipFill>
          <a:blip r:embed="rId5"/>
          <a:stretch/>
        </p:blipFill>
        <p:spPr>
          <a:xfrm>
            <a:off x="1547640" y="472428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akak.ru/recipes/pictures/000/005/131_big.jpg"/>
          <p:cNvPicPr/>
          <p:nvPr/>
        </p:nvPicPr>
        <p:blipFill>
          <a:blip r:embed="rId6"/>
          <a:stretch/>
        </p:blipFill>
        <p:spPr>
          <a:xfrm>
            <a:off x="857160" y="2571840"/>
            <a:ext cx="27860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3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седа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сказк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2852640"/>
            <a:ext cx="30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Почему это произведение сказ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26920" y="4076640"/>
            <a:ext cx="30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Что, по-вашему в ней реально, а что вымышле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435640" y="1052640"/>
            <a:ext cx="30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Зачем долгане рассказывают своим детям такую сказк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mages"/>
          <p:cNvPicPr/>
          <p:nvPr/>
        </p:nvPicPr>
        <p:blipFill>
          <a:blip r:embed="rId5"/>
          <a:stretch/>
        </p:blipFill>
        <p:spPr>
          <a:xfrm>
            <a:off x="5580000" y="2492280"/>
            <a:ext cx="2664000" cy="17686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36" name="Text Box 8"/>
          <p:cNvSpPr/>
          <p:nvPr/>
        </p:nvSpPr>
        <p:spPr>
          <a:xfrm>
            <a:off x="5364000" y="429264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 ответить на вопрос, заключённый в заголовке сказки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755640" y="299736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ое наказание постигло людей за их жад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нанайцы"/>
          <p:cNvPicPr/>
          <p:nvPr/>
        </p:nvPicPr>
        <p:blipFill>
          <a:blip r:embed="rId1"/>
          <a:stretch/>
        </p:blipFill>
        <p:spPr>
          <a:xfrm>
            <a:off x="5508720" y="1268280"/>
            <a:ext cx="283032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0"/>
          <p:cNvSpPr txBox="1"/>
          <p:nvPr/>
        </p:nvSpPr>
        <p:spPr>
          <a:xfrm>
            <a:off x="755640" y="134136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4797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26920" y="1197000"/>
            <a:ext cx="2881440" cy="209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film_3071_03"/>
          <p:cNvPicPr/>
          <p:nvPr/>
        </p:nvPicPr>
        <p:blipFill>
          <a:blip r:embed="rId2"/>
          <a:stretch/>
        </p:blipFill>
        <p:spPr>
          <a:xfrm>
            <a:off x="826920" y="3357720"/>
            <a:ext cx="2880000" cy="21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yspimg-55"/>
          <p:cNvPicPr/>
          <p:nvPr/>
        </p:nvPicPr>
        <p:blipFill>
          <a:blip r:embed="rId3"/>
          <a:stretch/>
        </p:blipFill>
        <p:spPr>
          <a:xfrm>
            <a:off x="1116000" y="4437000"/>
            <a:ext cx="1513080" cy="1266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435640" y="1484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Где живут люди, изображённые на иллюстрац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435640" y="2708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то ещё изображё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508720" y="3645000"/>
            <a:ext cx="2971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Если бы эта иллюстрация ожила, что бы мы услышали и увидел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755640" y="134136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ный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5" descr="эвенки"/>
          <p:cNvPicPr/>
          <p:nvPr/>
        </p:nvPicPr>
        <p:blipFill>
          <a:blip r:embed="rId5"/>
          <a:stretch/>
        </p:blipFill>
        <p:spPr>
          <a:xfrm>
            <a:off x="900000" y="2924280"/>
            <a:ext cx="2735280" cy="25002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42" name="Text Box 6"/>
          <p:cNvSpPr/>
          <p:nvPr/>
        </p:nvSpPr>
        <p:spPr>
          <a:xfrm>
            <a:off x="5435640" y="1125360"/>
            <a:ext cx="30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80"/>
                </a:solidFill>
                <a:latin typeface="Bookman Old Style"/>
              </a:rPr>
              <a:t>Выбери наиболее точное назва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435640" y="2205000"/>
            <a:ext cx="3168720" cy="7923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Люди стали говор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 разных язы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5435640" y="3429000"/>
            <a:ext cx="3168720" cy="792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Люди стали 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разных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5435640" y="4581360"/>
            <a:ext cx="3168720" cy="7923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Люди пере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онимать друг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00000" y="119700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5" descr="чум якута"/>
          <p:cNvPicPr/>
          <p:nvPr/>
        </p:nvPicPr>
        <p:blipFill>
          <a:blip r:embed="rId3"/>
          <a:stretch/>
        </p:blipFill>
        <p:spPr>
          <a:xfrm>
            <a:off x="5508720" y="1125360"/>
            <a:ext cx="2808360" cy="2195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755640" y="1844640"/>
            <a:ext cx="331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       </a:t>
            </a: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В сказке «спрятана между строк» ещё одна мудрость: </a:t>
            </a:r>
            <a:r>
              <a:rPr b="1" i="1" lang="ru-RU" sz="2200" spc="-1" strike="noStrike">
                <a:solidFill>
                  <a:srgbClr val="990033"/>
                </a:solidFill>
                <a:latin typeface="Bookman Old Style"/>
              </a:rPr>
              <a:t>за то,    что люди поссорились из-за своей жадности, они наказаны тем, что перестали понимать друг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эвенкии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508720" y="3284640"/>
            <a:ext cx="2879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54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428760" y="642960"/>
            <a:ext cx="8286480" cy="557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458640" y="5715000"/>
            <a:ext cx="69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thnomuseum.ru/imgp/61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жская меховая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428760" y="10717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ustrana.ru/articles/270/nanayci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428760" y="5357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book.ru/peoples/more/tish_big/t15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увь из рыбьей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28760" y="135720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ega-mir.com/upload/iblock/b2d/xtigztybqnzkem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428760" y="16430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akutiatravel.com/images/photo/Babushk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28760" y="1928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g-znanie.ru/articles/244/eveno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428760" y="22147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alvost.su/data/article/1254391291_56383_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в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428760" y="25002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.i.ua/photo/images/pic/5/5/4609955_a5ccc8b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428760" y="2786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dic.academic.ru/pictures/wiki/files/77/Mandarin.duck.ar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тка-ч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428760" y="3105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apus.ru/im.xp/049050053048054056051049055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тица 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428760" y="335772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podarki77.ru/images/P/92-ARR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к со стре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3"/>
          <p:cNvSpPr/>
          <p:nvPr/>
        </p:nvSpPr>
        <p:spPr>
          <a:xfrm>
            <a:off x="428760" y="364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nsu.ru/education/etno/dolgany/dol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ка распа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428760" y="3929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aimyr24.ru/upload/images/about/0/beven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ежда эве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428760" y="42148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tinterforum.com/base/China/Site/image/parad/367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428760" y="45007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ionerka.ru/08/n01-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на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428760" y="478620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host.ru/pictures/3856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ежда из рыбьей шк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428760" y="5072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kak.ru/recipes/pictures/000/005/131_bi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верный 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3287520" y="64296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Источник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826920" y="1341360"/>
            <a:ext cx="3024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ично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26920" y="2924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О ком эта сказ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55640" y="39337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 называются эти народ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00001001850170"/>
          <p:cNvPicPr/>
          <p:nvPr/>
        </p:nvPicPr>
        <p:blipFill>
          <a:blip r:embed="rId5"/>
          <a:stretch/>
        </p:blipFill>
        <p:spPr>
          <a:xfrm>
            <a:off x="5508720" y="1125360"/>
            <a:ext cx="2879640" cy="243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якуты живут в чумах"/>
          <p:cNvPicPr/>
          <p:nvPr/>
        </p:nvPicPr>
        <p:blipFill>
          <a:blip r:embed="rId6"/>
          <a:stretch/>
        </p:blipFill>
        <p:spPr>
          <a:xfrm>
            <a:off x="5435640" y="3213000"/>
            <a:ext cx="2951280" cy="2535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5435640" y="3068640"/>
            <a:ext cx="3024000" cy="360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ookman Old Style"/>
              </a:rPr>
              <a:t>Народы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26920" y="37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Что такое </a:t>
            </a:r>
            <a:r>
              <a:rPr b="1" i="1" lang="ru-RU" sz="3200" spc="-1" strike="noStrike">
                <a:solidFill>
                  <a:srgbClr val="990000"/>
                </a:solidFill>
                <a:latin typeface="Bookman Old Style"/>
              </a:rPr>
              <a:t>чум</a:t>
            </a: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508720" y="3573360"/>
            <a:ext cx="2950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Bookman Old Style"/>
              </a:rPr>
              <a:t>Чум – </a:t>
            </a:r>
            <a:r>
              <a:rPr b="1" i="1" lang="ru-RU" sz="2200" spc="-1" strike="noStrike">
                <a:solidFill>
                  <a:srgbClr val="333399"/>
                </a:solidFill>
                <a:latin typeface="Bookman Old Style"/>
              </a:rPr>
              <a:t>переносное жилище северных на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05440" y="2924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i.i.ua/photo/images/pic/5/5/4609955_a5ccc8bd.jpg"/>
          <p:cNvPicPr/>
          <p:nvPr/>
        </p:nvPicPr>
        <p:blipFill>
          <a:blip r:embed="rId5"/>
          <a:stretch/>
        </p:blipFill>
        <p:spPr>
          <a:xfrm>
            <a:off x="5500800" y="1143000"/>
            <a:ext cx="2857320" cy="25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.i.ua/photo/images/pic/5/5/4609955_a5ccc8bd.jpg"/>
          <p:cNvPicPr/>
          <p:nvPr/>
        </p:nvPicPr>
        <p:blipFill>
          <a:blip r:embed="rId6"/>
          <a:stretch/>
        </p:blipFill>
        <p:spPr>
          <a:xfrm>
            <a:off x="5508720" y="1155600"/>
            <a:ext cx="28573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00000" y="314172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Почему птицы не замерзают в снегу, а согреваю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ilm_3071_03"/>
          <p:cNvPicPr/>
          <p:nvPr/>
        </p:nvPicPr>
        <p:blipFill>
          <a:blip r:embed="rId5"/>
          <a:stretch/>
        </p:blipFill>
        <p:spPr>
          <a:xfrm>
            <a:off x="5508720" y="17002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yspimg-55"/>
          <p:cNvPicPr/>
          <p:nvPr/>
        </p:nvPicPr>
        <p:blipFill>
          <a:blip r:embed="rId6"/>
          <a:stretch/>
        </p:blipFill>
        <p:spPr>
          <a:xfrm>
            <a:off x="5580000" y="2997360"/>
            <a:ext cx="20163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478520" y="270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158520" y="13413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3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826920" y="314172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Зачем человек пошёл искать тёплую стра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26920" y="458136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Почему он </a:t>
            </a:r>
            <a:r>
              <a:rPr b="1" i="1" lang="ru-RU" sz="2200" spc="-1" strike="noStrike" u="sng">
                <a:solidFill>
                  <a:srgbClr val="003399"/>
                </a:solidFill>
                <a:uFillTx/>
                <a:latin typeface="Bookman Old Style"/>
              </a:rPr>
              <a:t>смелый</a:t>
            </a: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8720" y="184464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 отнеслись люди и птицы к словам смелого челове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941080" y="50846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ка - ч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http://dic.academic.ru/pictures/wiki/files/77/Mandarin.duck.arp.jpg"/>
          <p:cNvPicPr/>
          <p:nvPr/>
        </p:nvPicPr>
        <p:blipFill>
          <a:blip r:embed="rId5"/>
          <a:stretch/>
        </p:blipFill>
        <p:spPr>
          <a:xfrm>
            <a:off x="5500800" y="2928960"/>
            <a:ext cx="28162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478520" y="270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4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755640" y="134136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342900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Почему смелый человек не ушёл вместе со своим племене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217200" y="1143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5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572080" y="15717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Что с ним произошл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144480" y="52862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http://www.apus.ru/im.xp/049050053048054056051049055.png"/>
          <p:cNvPicPr/>
          <p:nvPr/>
        </p:nvPicPr>
        <p:blipFill>
          <a:blip r:embed="rId5"/>
          <a:stretch/>
        </p:blipFill>
        <p:spPr>
          <a:xfrm>
            <a:off x="5715000" y="2428920"/>
            <a:ext cx="234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78520" y="22766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6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755640" y="119700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е 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частям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26920" y="263700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 шли люди в тёплую стра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ук и стрелы"/>
          <p:cNvPicPr/>
          <p:nvPr/>
        </p:nvPicPr>
        <p:blipFill>
          <a:blip r:embed="rId5"/>
          <a:stretch/>
        </p:blipFill>
        <p:spPr>
          <a:xfrm>
            <a:off x="5580000" y="1197000"/>
            <a:ext cx="2737080" cy="309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086160" y="4365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 и ст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5640" y="3284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Из-за чего поругались лю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55640" y="400536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 решил наказать обиженный человек другог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435640" y="486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 чему это привел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119700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Bookman Old Style"/>
              </a:rPr>
              <a:t>Какие появились народы севе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00000" y="2133720"/>
            <a:ext cx="2737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ане</a:t>
            </a:r>
            <a:endParaRPr b="0" lang="en-US" sz="1800" spc="1" strike="noStrike">
              <a:ln w="19080">
                <a:solidFill>
                  <a:srgbClr val="ffff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долгане"/>
          <p:cNvPicPr/>
          <p:nvPr/>
        </p:nvPicPr>
        <p:blipFill>
          <a:blip r:embed="rId3"/>
          <a:stretch/>
        </p:blipFill>
        <p:spPr>
          <a:xfrm>
            <a:off x="900000" y="3213000"/>
            <a:ext cx="2735280" cy="2355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93" name="Text Box 9"/>
          <p:cNvSpPr/>
          <p:nvPr/>
        </p:nvSpPr>
        <p:spPr>
          <a:xfrm>
            <a:off x="5508720" y="1197000"/>
            <a:ext cx="29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сновное занятие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Bookman Old Style"/>
              </a:rPr>
              <a:t>долган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- оленеводство, охотопромысел и рыболов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енщины-долганки - в основном все хорошие мастерицы по пошиву национальной одежды, по украшению оленьих снаряжений, по оформлению домашней утвари для кочев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2700000" y="1916280"/>
            <a:ext cx="144360" cy="14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7:31Z</dcterms:created>
  <dc:creator>user</dc:creator>
  <dc:description/>
  <dc:language>en-US</dc:language>
  <cp:lastModifiedBy>User</cp:lastModifiedBy>
  <dcterms:modified xsi:type="dcterms:W3CDTF">2022-04-11T16:20:20Z</dcterms:modified>
  <cp:revision>24</cp:revision>
  <dc:subject/>
  <dc:title>Слайд 1</dc:title>
</cp:coreProperties>
</file>