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35F-CB47-47F3-969A-B0A707E7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8CE-88AA-47A7-B747-F4B4565B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0FC-F055-4478-83EB-6667960F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11F-152B-438C-A720-A881E673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719-C93C-4EFA-868F-AACE8218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99F2-9A73-4263-8642-774BB7F9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5A5A-9576-4779-A698-495CA607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AC0E-D3B5-41CD-9AEF-CBF7B03C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01E0-4142-4958-A1B2-3786565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49C1-9818-4392-B30B-7622896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D29B-F17C-41DC-8D24-7873C48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1B9-E61F-466F-875F-2F71ED4D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0A7D-56BC-46E6-8443-57F4358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53F5-89DA-49FC-916C-3E109DE8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C29-8623-4B76-A8C1-0BE307A4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BD8E-0D5A-4E92-98DE-E964A10B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91FE-F560-4939-B802-BF8C0D4D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ACD-4CDC-456D-A77F-01E7761C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24F-7BED-40E2-880C-0EF206B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135-C214-4E60-BA10-2B5FF4C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979-DA79-4B92-9785-33ECCDA3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08C-46E8-491C-B746-4662C19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42-A230-411C-BC26-5165D03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D74-8C30-4953-81CF-A02D730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1BC7DB-E91C-4606-A774-700145B2F6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6F0F31-DFF3-4EAC-BEA4-AF44D000E22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0_98fd0_8b1e3610_XL.jpg"/>
          <p:cNvPicPr/>
          <p:nvPr/>
        </p:nvPicPr>
        <p:blipFill>
          <a:blip r:embed="rId1"/>
          <a:stretch/>
        </p:blipFill>
        <p:spPr>
          <a:xfrm>
            <a:off x="0" y="-152280"/>
            <a:ext cx="9143640" cy="7009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1371600"/>
            <a:ext cx="693396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«К нам пришла весна»</a:t>
            </a:r>
            <a:br>
              <a:rPr sz="6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вторая группа раннего возрас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363920" y="5182200"/>
            <a:ext cx="3736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овалова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064400" y="6312960"/>
            <a:ext cx="101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10000" p14:dur="800">
        <p:circle/>
      </p:transition>
    </mc:Choice>
    <mc:Fallback>
      <p:transition spd="med" advTm="10000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571680" y="5335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о-родитель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5" descr=""/>
          <p:cNvPicPr/>
          <p:nvPr/>
        </p:nvPicPr>
        <p:blipFill>
          <a:blip r:embed="rId2"/>
          <a:srcRect l="0" t="0" r="0" b="91"/>
          <a:stretch/>
        </p:blipFill>
        <p:spPr>
          <a:xfrm>
            <a:off x="1600200" y="1447920"/>
            <a:ext cx="586692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15000" p14:dur="800">
        <p:circle/>
      </p:transition>
    </mc:Choice>
    <mc:Fallback>
      <p:transition spd="med" advTm="15000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3" descr="0_98fd0_8b1e3610_XL.jpg"/>
          <p:cNvPicPr/>
          <p:nvPr/>
        </p:nvPicPr>
        <p:blipFill>
          <a:blip r:embed="rId1"/>
          <a:stretch/>
        </p:blipFill>
        <p:spPr>
          <a:xfrm>
            <a:off x="-19080" y="-152280"/>
            <a:ext cx="9143640" cy="7009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1132200" y="1981080"/>
            <a:ext cx="6840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4000" p14:dur="800">
        <p:circle/>
      </p:transition>
    </mc:Choice>
    <mc:Fallback>
      <p:transition spd="med" advTm="4000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0_98fd0_8b1e3610_XL.jpg"/>
          <p:cNvPicPr/>
          <p:nvPr/>
        </p:nvPicPr>
        <p:blipFill>
          <a:blip r:embed="rId1"/>
          <a:stretch/>
        </p:blipFill>
        <p:spPr>
          <a:xfrm>
            <a:off x="0" y="-152280"/>
            <a:ext cx="9143640" cy="7009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1607760" y="152280"/>
            <a:ext cx="59277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тапы реализаци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62120" y="1752480"/>
            <a:ext cx="74671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этап (февраль) - организацио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этап (март) – реализация весеннего познавательно-оздоровительного проекта «К нам пришла весна» (автор: Коновалова А.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21000" p14:dur="800">
        <p:circle/>
      </p:transition>
    </mc:Choice>
    <mc:Fallback>
      <p:transition spd="med" advTm="21000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71680" y="533520"/>
            <a:ext cx="8000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познавательно-оздоровительного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 детей системы элементарных экологических знаний о весне; сохранение и укрепление здоровья детей через привлечение родителей к совместным прогулкам с детьми «Весенние выходны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39621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13000" p14:dur="800">
        <p:circle/>
      </p:transition>
    </mc:Choice>
    <mc:Fallback>
      <p:transition spd="med" advTm="13000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71680" y="5335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1596240" y="3242880"/>
            <a:ext cx="2638800" cy="15044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3"/>
          <a:stretch/>
        </p:blipFill>
        <p:spPr>
          <a:xfrm>
            <a:off x="5029200" y="1414080"/>
            <a:ext cx="2675160" cy="1504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"/>
          <p:cNvPicPr/>
          <p:nvPr/>
        </p:nvPicPr>
        <p:blipFill>
          <a:blip r:embed="rId4"/>
          <a:stretch/>
        </p:blipFill>
        <p:spPr>
          <a:xfrm>
            <a:off x="3252240" y="4819680"/>
            <a:ext cx="2638800" cy="1484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5"/>
          <a:stretch/>
        </p:blipFill>
        <p:spPr>
          <a:xfrm>
            <a:off x="1596240" y="1398240"/>
            <a:ext cx="2672280" cy="1503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"/>
          <p:cNvPicPr/>
          <p:nvPr/>
        </p:nvPicPr>
        <p:blipFill>
          <a:blip r:embed="rId6"/>
          <a:stretch/>
        </p:blipFill>
        <p:spPr>
          <a:xfrm>
            <a:off x="5029200" y="3229200"/>
            <a:ext cx="2675160" cy="150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19000" p14:dur="800">
        <p:circle/>
      </p:transition>
    </mc:Choice>
    <mc:Fallback>
      <p:transition spd="med" advTm="19000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571680" y="5335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2"/>
          <a:stretch/>
        </p:blipFill>
        <p:spPr>
          <a:xfrm>
            <a:off x="762120" y="1666080"/>
            <a:ext cx="4571640" cy="2571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"/>
          <p:cNvPicPr/>
          <p:nvPr/>
        </p:nvPicPr>
        <p:blipFill>
          <a:blip r:embed="rId3"/>
          <a:stretch/>
        </p:blipFill>
        <p:spPr>
          <a:xfrm>
            <a:off x="3888000" y="3733920"/>
            <a:ext cx="4571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15000" p14:dur="800">
        <p:circle/>
      </p:transition>
    </mc:Choice>
    <mc:Fallback>
      <p:transition spd="med" advTm="15000">
        <p:circl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571680" y="5335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rcRect l="0" t="0" r="0" b="87"/>
          <a:stretch/>
        </p:blipFill>
        <p:spPr>
          <a:xfrm rot="5400000">
            <a:off x="401400" y="2318760"/>
            <a:ext cx="3190680" cy="1552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"/>
          <p:cNvPicPr/>
          <p:nvPr/>
        </p:nvPicPr>
        <p:blipFill>
          <a:blip r:embed="rId3"/>
          <a:stretch/>
        </p:blipFill>
        <p:spPr>
          <a:xfrm>
            <a:off x="3993840" y="1694520"/>
            <a:ext cx="4979880" cy="28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18000" p14:dur="800">
        <p:circle/>
      </p:transition>
    </mc:Choice>
    <mc:Fallback>
      <p:transition spd="med" advTm="18000">
        <p:circl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571680" y="5335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 rot="10800000">
            <a:off x="546480" y="1929240"/>
            <a:ext cx="2403720" cy="1351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"/>
          <p:cNvPicPr/>
          <p:nvPr/>
        </p:nvPicPr>
        <p:blipFill>
          <a:blip r:embed="rId3"/>
          <a:stretch/>
        </p:blipFill>
        <p:spPr>
          <a:xfrm>
            <a:off x="3430800" y="1928520"/>
            <a:ext cx="2404080" cy="1352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4"/>
          <a:stretch/>
        </p:blipFill>
        <p:spPr>
          <a:xfrm>
            <a:off x="2345400" y="3957480"/>
            <a:ext cx="4723920" cy="2657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5"/>
          <a:stretch/>
        </p:blipFill>
        <p:spPr>
          <a:xfrm rot="10800000">
            <a:off x="6291720" y="1928880"/>
            <a:ext cx="2404080" cy="13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20000" p14:dur="800">
        <p:circle/>
      </p:transition>
    </mc:Choice>
    <mc:Fallback>
      <p:transition spd="med" advTm="20000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571680" y="5335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990720" y="1666080"/>
            <a:ext cx="4217040" cy="2372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"/>
          <p:cNvPicPr/>
          <p:nvPr/>
        </p:nvPicPr>
        <p:blipFill>
          <a:blip r:embed="rId3"/>
          <a:stretch/>
        </p:blipFill>
        <p:spPr>
          <a:xfrm>
            <a:off x="4305240" y="3638520"/>
            <a:ext cx="4266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11000" p14:dur="800">
        <p:circle/>
      </p:transition>
    </mc:Choice>
    <mc:Fallback>
      <p:transition spd="med" advTm="11000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9b5f28f249b60412a4cf9cbc7cf8af4b.jpg"/>
          <p:cNvPicPr/>
          <p:nvPr/>
        </p:nvPicPr>
        <p:blipFill>
          <a:blip r:embed="rId1"/>
          <a:stretch/>
        </p:blipFill>
        <p:spPr>
          <a:xfrm>
            <a:off x="0" y="-76320"/>
            <a:ext cx="9265680" cy="7009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571680" y="533520"/>
            <a:ext cx="8000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здание детско-родительских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2"/>
          <a:srcRect l="0" t="0" r="-58" b="0"/>
          <a:stretch/>
        </p:blipFill>
        <p:spPr>
          <a:xfrm rot="5400000">
            <a:off x="2575080" y="1714680"/>
            <a:ext cx="4115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11000" p14:dur="800">
        <p:circle/>
      </p:transition>
    </mc:Choice>
    <mc:Fallback>
      <p:transition spd="med" advTm="11000">
        <p:circle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  <Words>112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3:11:09Z</dcterms:created>
  <dc:creator>user</dc:creator>
  <dc:description/>
  <dc:language>en-US</dc:language>
  <cp:lastModifiedBy>Windows User</cp:lastModifiedBy>
  <dcterms:modified xsi:type="dcterms:W3CDTF">2022-03-30T11:09:04Z</dcterms:modified>
  <cp:revision>47</cp:revision>
  <dc:subject/>
  <dc:title>Конспект занятия по математике для детей второй младшей группы «Путешествие в сказочный ле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62205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S9.1.4</vt:lpwstr>
  </property>
  <property fmtid="{D5CDD505-2E9C-101B-9397-08002B2CF9AE}" pid="5" name="PresentationFormat">
    <vt:lpwstr>Экран (4:3)</vt:lpwstr>
  </property>
  <property fmtid="{D5CDD505-2E9C-101B-9397-08002B2CF9AE}" pid="6" name="Slides">
    <vt:r8>11</vt:r8>
  </property>
</Properties>
</file>