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F644-2A7F-4FC1-B2B1-CA7E5B19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D4FF2-D44F-40FC-9E36-858DC618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CE02-13B3-40E5-AC5E-2B25ABE1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48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48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776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1AA2-A9C4-40CE-A3FD-AC7A4959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CC09-5DCA-4B50-9130-0FFB42B9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CCC6-99FD-4E6B-9406-948EF51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8696-9D32-41C1-90D8-5BDE1DEA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ACD8-25BF-48BC-93D3-72DE86FD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4C14-B941-489D-B3FC-5DABE5B7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312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F5FF-2230-44B9-B184-EC4AAA9C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4917-C111-4E65-A3D4-456D5AE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D4BF-41B4-4D39-89E0-D6177A67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37CB-651E-4E6B-9ED4-0AD2EE88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E024-4EB6-4DC4-9F56-9211A08C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B7E3-68D5-47DF-BED6-1126E56C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F37A-13BB-4455-ADA9-2DD12F04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48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48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2410-287C-4F6B-A2FA-4A13FEC6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7676-9867-484A-B80D-FE67B811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AB6E-46C6-4793-95BF-7F9A7128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C3F8-E576-49D7-891C-07ABA93D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312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FCA6-A9AD-4594-8C40-5E4CB5FD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E0AA-A042-4C89-A5E9-6805338B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724E-CA2F-4767-B385-A5FDB89A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DE4E-4D9B-4F61-A466-6B07E486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6219C-6F8C-4736-BCBA-03912BEBBB0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37520" cy="539640"/>
            <a:chOff x="0" y="0"/>
            <a:chExt cx="9137520" cy="53964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79360" cy="527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24600" cy="268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1760" cy="1350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3560" cy="13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356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29960" cy="13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35000" cy="13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1760" cy="13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29960" cy="129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37520" cy="6851520"/>
            <a:chOff x="0" y="0"/>
            <a:chExt cx="9137520" cy="685152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498840" cy="685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1400" cy="2527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0560" cy="3151440"/>
              <a:chOff x="0" y="1066680"/>
              <a:chExt cx="2860560" cy="315144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69880" cy="6350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68440" cy="636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79240" cy="628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77800" cy="6350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79240" cy="6368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77800" cy="627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76360" cy="6271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68440" cy="627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69880" cy="6382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77800" cy="6382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38E8BE-A3EA-472C-872B-076AAFF1C62D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3440" cy="22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с пластичными материалами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ок ручного труда  в 7 класс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ля детей с ОВ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ОУ для детей с 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БОУ школа - интернат № 9 г. Санкт -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йфулина Ж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16000" y="1511280"/>
            <a:ext cx="348768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объемных фигур из шишек с использованием пластилина «Лебед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31164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7280" y="3138480"/>
            <a:ext cx="3095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й свою пластилиновую меч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9280" y="2505240"/>
            <a:ext cx="5105520" cy="4622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90560" y="1655640"/>
            <a:ext cx="72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элементарных трудовых навыков и интереса к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92000" y="792000"/>
            <a:ext cx="5040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ойства пластил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ягкий, пластичный, быстро согревается в ру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рошится и не разм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илипает к рукам и легко смывается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 лепится на картон и бума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долго находиться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окси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832360" y="3672000"/>
            <a:ext cx="32403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84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000680" y="-144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728720"/>
            <a:ext cx="3919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«Цве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лепных изделий сте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000680" y="7128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0360" y="2894040"/>
            <a:ext cx="3456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«Мухом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9280" y="-144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8240" y="1295280"/>
            <a:ext cx="367812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объемных фигур из шишек и каштанов с использованием пластилина «Бел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92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280" y="1440000"/>
            <a:ext cx="374364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ная лепка «Новый г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92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360" y="1800360"/>
            <a:ext cx="338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ная лепка «Кук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13:21:50Z</dcterms:created>
  <dc:creator>Наташа</dc:creator>
  <dc:description/>
  <dc:language>en-US</dc:language>
  <cp:lastModifiedBy>Наташа</cp:lastModifiedBy>
  <dcterms:modified xsi:type="dcterms:W3CDTF">2011-08-03T14:24:40Z</dcterms:modified>
  <cp:revision>4</cp:revision>
  <dc:subject/>
  <dc:title>Слайд 1</dc:title>
</cp:coreProperties>
</file>