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FD4-A274-4B9E-A53F-B03E166B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079-7989-4F23-9680-B4959EAA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FFE-455E-4E35-9833-03C0FB01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017-15F1-46D2-BB82-D73A3D18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C082-A49C-4836-908B-E5E74857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B7C0-E2CE-42D1-A072-898DCDB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2E7D-7E1B-4AD6-B23C-305FF89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E0A0-B243-46A6-96CA-ED6A05EB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3D4C-681D-4B2C-B13D-3DD60CD1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9830-7813-4820-9D88-C0839235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86D5-F534-4CC1-924A-6DD23FD5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7AF-0BBB-49E7-A1D8-B456738C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662A-DD5D-408A-ACAC-879F40E9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8654-354F-4396-A1EF-D14E5396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785-A22C-445F-9D77-5BA55E4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0ED-BB1E-49E4-9D56-911C1DB8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7CE-BB80-40A4-AA01-91CD92B5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4206-FDB9-415A-A3F4-7577BEDB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C235-0CF4-43C5-A56E-C7558FD0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1E80-FB86-49BD-B3F3-FE3B965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4F90-CA22-4CB5-9E84-9D70F6A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00FC-7920-41F9-9C48-9B59396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5BC-82DC-41D9-A13B-649EB11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AE91-C66A-4528-B245-E965F3A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D060-1941-450A-9268-9F6BCA5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84C2-FD7E-4831-864D-DA65231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A900-81EA-45DF-A46F-E33411C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F7A4-E531-44E9-AD9A-8F88E4F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2A5A-15D9-4329-B99A-10D348F1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E775-D8C2-47D5-AF30-1CC744B0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264E-3BFA-4C35-9658-472EE81F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E96A-7BD0-401B-A611-3156BCB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DF88-C731-49B8-9547-854C31F2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CFA-DAC1-41A0-BADD-FE33B65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7FD2-B011-4F2F-A4E0-0B5A01C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4A4B-89DB-42DC-A68E-1465F5F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CC94-BD34-489C-8947-F1C2094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7F5D-7BEE-459B-9BE7-8F36BBB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5BE0-ED42-4215-BA57-0916DEF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C40A-9286-408A-83B8-777EA1F5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A061-1A33-4EA0-9428-E70A2E90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0F87-C384-482D-8F6B-1ED69923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5BBF-5A98-48AF-B962-6514E10C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7FF-00F5-43EB-A9AB-6E29B97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08F-A604-4D01-9A3F-AD8F8F5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718-52A4-45C1-ADE5-1A0619D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7DF-3157-48BF-A1E2-60A26B9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E20-CD1A-4A36-8DAA-30BE3D3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16F-A5F7-42BB-991F-A09D0F0AE258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60F-0217-4DEB-8100-32DA22776E61}" type="slidenum">
              <a:rPr b="0" lang="ru-RU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70E8-D580-4D41-925F-BD841F12BCF4}" type="slidenum">
              <a:rPr b="0" lang="ru-RU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575-9890-4089-8793-40EC2EB4DBE3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5" descr=""/>
          <p:cNvPicPr/>
          <p:nvPr/>
        </p:nvPicPr>
        <p:blipFill>
          <a:blip r:embed="rId1"/>
          <a:stretch/>
        </p:blipFill>
        <p:spPr>
          <a:xfrm>
            <a:off x="914400" y="139680"/>
            <a:ext cx="7527960" cy="6778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6"/>
          <p:cNvSpPr/>
          <p:nvPr/>
        </p:nvSpPr>
        <p:spPr>
          <a:xfrm>
            <a:off x="928800" y="1571760"/>
            <a:ext cx="757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 Unicode MS"/>
              </a:rPr>
              <a:t>Моё  село Ак-Д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 Unicode MS"/>
              </a:rPr>
              <a:t>в числах и задачах»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3492360" y="3357720"/>
            <a:ext cx="565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материа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6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Ак-Даш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р Анге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р Оляна Миш-оол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Ак-дашская СОШ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105000" y="6237360"/>
            <a:ext cx="20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-Даш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-109440"/>
            <a:ext cx="8894880" cy="4578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2700360" y="4581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C:\Users\Lenovo\Desktop\Аржаан\SAM_2210.JPG"/>
          <p:cNvPicPr/>
          <p:nvPr/>
        </p:nvPicPr>
        <p:blipFill>
          <a:blip r:embed="rId2"/>
          <a:stretch/>
        </p:blipFill>
        <p:spPr>
          <a:xfrm>
            <a:off x="5643720" y="3214800"/>
            <a:ext cx="2236680" cy="1676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13840" y="2071800"/>
            <a:ext cx="42865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орова-кормилиц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Содержимое 13" descr=""/>
          <p:cNvPicPr/>
          <p:nvPr/>
        </p:nvPicPr>
        <p:blipFill>
          <a:blip r:embed="rId3"/>
          <a:stretch/>
        </p:blipFill>
        <p:spPr>
          <a:xfrm>
            <a:off x="4591080" y="1895400"/>
            <a:ext cx="4376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2048040" y="2133720"/>
            <a:ext cx="4724280" cy="1719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3" descr=""/>
          <p:cNvPicPr/>
          <p:nvPr/>
        </p:nvPicPr>
        <p:blipFill>
          <a:blip r:embed="rId1"/>
          <a:stretch/>
        </p:blipFill>
        <p:spPr>
          <a:xfrm>
            <a:off x="1878120" y="146160"/>
            <a:ext cx="564516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50920" y="90792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 Ак-Даш (д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— назывался сумон Улуг-Алаак, с 1949 года переименовано на село Ак-Даш). Ак-Даш входит в число одну из малочисленных сёл Республики Тыва и Сут-Хольского кожууна. Общая площадь территории села  составляет 982 км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омохозяйств – 129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историческим справкам село основано 1949 году. Сколько лет будет 201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Прямоугольник 2" descr=""/>
          <p:cNvPicPr/>
          <p:nvPr/>
        </p:nvPicPr>
        <p:blipFill>
          <a:blip r:embed="rId1"/>
          <a:stretch/>
        </p:blipFill>
        <p:spPr>
          <a:xfrm>
            <a:off x="2084400" y="73080"/>
            <a:ext cx="4230720" cy="768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250920" y="857160"/>
            <a:ext cx="849780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села проживает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662 человек . Из них 237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до 18 лет. Сколько взрослых населения проживает на территории посёл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поселка проживает  662 человека, из них 347 человек женщины. Сколько мужчин проживает в селе Ак-Даш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села от 16 до 60 лет проживает 373 человек, из них 181 человек мужчины.  Сколько женщин проживает в данной возрастной групп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села имеются 9 чабанских стоянок, в них проживает 23 человек, в том числе дети до 18 лет -9. Сколько взрослых проживают в чабанских стоянках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многодетных семей в селе -35, их них с шести детьми-1, с пяти детьми-6, с четырмя детьми-7. Сколько семей из тремя деть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и с пятью детьми по  губернаторскому проекту  получают «социальный уголь»  2 тонны на каждой семье. В селе Ак-Даш  в данном проекте участвуют 6 семей. Всего  сколько тонны угля получают участники нашего се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3" descr=""/>
          <p:cNvPicPr/>
          <p:nvPr/>
        </p:nvPicPr>
        <p:blipFill>
          <a:blip r:embed="rId1"/>
          <a:stretch/>
        </p:blipFill>
        <p:spPr>
          <a:xfrm>
            <a:off x="152280" y="146160"/>
            <a:ext cx="9167760" cy="7682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4140360" y="1125360"/>
            <a:ext cx="47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90 года село относилось к Алдан-Маадырскому сельскому совету. С 1991 года стал действовать свой сельский совет. Стала работать своя местная администр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т действует свой сельский со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250920" y="3500280"/>
            <a:ext cx="54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003 года руководителем администрации села Ак-Даш  была назначена  Ондар Таисья Хеймер-оол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лет в сельской администрации сумона Ак-Даш проработала  Ондар Т.Х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46b86"/>
                </a:solidFill>
                <a:latin typeface="Calibri"/>
              </a:rPr>
              <a:t>Памятник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ерритории села в 2015 году к 70-летию Великой Победы был построен памятник односельчанам тувинским-добровольцам.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1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рритория памятника тувинских-добровольцев имеет длину 10 метров, ширину 7 метров. Найдите периметр и площадь территории памятни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3" descr=""/>
          <p:cNvPicPr/>
          <p:nvPr/>
        </p:nvPicPr>
        <p:blipFill>
          <a:blip r:embed="rId1"/>
          <a:stretch/>
        </p:blipFill>
        <p:spPr>
          <a:xfrm>
            <a:off x="1238400" y="-109440"/>
            <a:ext cx="6656400" cy="7617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3929040" y="620640"/>
            <a:ext cx="503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1 году на местечке Тей была основана начальная школа. В 1951 году школа перевезена на территорию колхоза «Ждан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6 году школа переименована на Ждановская семилетняя школа. 1964 году школа преобразована на Ак-Дашскую восьмилетнюю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2920" y="3214800"/>
            <a:ext cx="558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96 году построена  новое здани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данный момент в школе обучаются 121 учащихся. Из них в начальной школе обучаются 46 детей?   Сколько детей обучается в основной школ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школе работают 29 педагогов. Из них с высшим образованием-26 педагогов. Сколько педагогов имеются со средним образова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\Users\Lenovo\Desktop\Аржаан\SAM_1455.JPG"/>
          <p:cNvPicPr/>
          <p:nvPr/>
        </p:nvPicPr>
        <p:blipFill>
          <a:blip r:embed="rId2"/>
          <a:stretch/>
        </p:blipFill>
        <p:spPr>
          <a:xfrm>
            <a:off x="6000840" y="3500280"/>
            <a:ext cx="300024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2" name="Picture 6" descr="C:\Users\Lenovo\Desktop\Аржаан\SAM_2256.JPG"/>
          <p:cNvPicPr/>
          <p:nvPr/>
        </p:nvPicPr>
        <p:blipFill>
          <a:blip r:embed="rId3"/>
          <a:stretch/>
        </p:blipFill>
        <p:spPr>
          <a:xfrm>
            <a:off x="428760" y="78588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ский сад «Чечек»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14" name="Picture 2" descr="C:\Users\Lenovo\Desktop\Аржаан\SAM_2514.JPG"/>
          <p:cNvPicPr/>
          <p:nvPr/>
        </p:nvPicPr>
        <p:blipFill>
          <a:blip r:embed="rId1"/>
          <a:stretch/>
        </p:blipFill>
        <p:spPr>
          <a:xfrm>
            <a:off x="357120" y="357192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Lenovo\Desktop\Аржаан\SAM_2394.JPG"/>
          <p:cNvPicPr/>
          <p:nvPr/>
        </p:nvPicPr>
        <p:blipFill>
          <a:blip r:embed="rId2"/>
          <a:stretch/>
        </p:blipFill>
        <p:spPr>
          <a:xfrm>
            <a:off x="4786200" y="371484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2816280" y="-109440"/>
            <a:ext cx="3840120" cy="761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357120" y="2643120"/>
            <a:ext cx="4357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ле функционирует се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. Она расположена на небольшом помещении сельского дома культуры. В фонде библиотеки насчитывается 13000 книг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удожественные книги- 3000 шт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учно-популярные – 1800 шт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тские книги-1650 шт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лектронные- 45 шту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ьте диаграмму эти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C:\Users\Lenovo\Desktop\Аржаан\SAM_2510.JPG"/>
          <p:cNvPicPr/>
          <p:nvPr/>
        </p:nvPicPr>
        <p:blipFill>
          <a:blip r:embed="rId2"/>
          <a:stretch/>
        </p:blipFill>
        <p:spPr>
          <a:xfrm>
            <a:off x="5000760" y="321480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286160" y="928440"/>
            <a:ext cx="457200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е новое здание дома культуры было построено в 2017 году. Начало постройки 15 июля 2017 года, окончание постройки 27 ноября 2017 го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6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я прошло на построение нового здания дома культуры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811080" y="-109440"/>
            <a:ext cx="7851960" cy="7617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214200" y="692280"/>
            <a:ext cx="875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2714760" y="4000680"/>
            <a:ext cx="6178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Lenovo\Desktop\Аржаан\SAM_2513.JPG"/>
          <p:cNvPicPr/>
          <p:nvPr/>
        </p:nvPicPr>
        <p:blipFill>
          <a:blip r:embed="rId2"/>
          <a:srcRect l="0" t="19537" r="0" b="0"/>
          <a:stretch/>
        </p:blipFill>
        <p:spPr>
          <a:xfrm>
            <a:off x="857160" y="928800"/>
            <a:ext cx="76914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08:50Z</dcterms:created>
  <dc:creator>Зинаида</dc:creator>
  <dc:description/>
  <dc:language>en-US</dc:language>
  <cp:lastModifiedBy>Пользователь</cp:lastModifiedBy>
  <dcterms:modified xsi:type="dcterms:W3CDTF">2020-12-07T16:14:37Z</dcterms:modified>
  <cp:revision>34</cp:revision>
  <dc:subject/>
  <dc:title>Слайд 1</dc:title>
</cp:coreProperties>
</file>