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44d26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E4F5-10F7-45D8-B2B4-9DBF018969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91BC-F9A9-4F29-9B7B-0FEDCF080D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A1C3-DCDA-441E-8702-37BA1162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D8B-D44F-4406-B103-3E311971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41B-1AB7-4854-8B12-12F72B63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467-9AC6-48F0-8F58-F207625D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A61B-E15B-4907-9A9C-5B53DFC6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7A96-CDAF-4A33-B7F0-334AA483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1505-A673-49CE-BAE1-8B67153D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5A9F-DA52-4113-8735-ACA78FE5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14F4-4D44-49B2-A08D-1523D460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C3D7-03D1-4E77-8D0F-1DAA28DA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2EBB-8D36-47AB-9E92-B7A2A75E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108C-D968-4243-B038-77E95E59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34CA-38E0-498C-8529-F1BC54EC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141C-14C7-4D99-B1A1-626E1195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B2D8-DB18-405E-86DB-5161DD27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6ABD-BDD0-459E-B0E6-D3AEB131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6E66-BE02-4231-9E04-B09CADC7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FBA29-F022-4FA5-A599-81CC908C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DDB0E-D7CE-4BB2-9CED-12903AE6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E396B-6C76-4249-948C-F39D3CB4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7A82D-C9A0-42C5-9CA2-2AA1AD3B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C4814-C2F8-4CC6-B231-177A8ABA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39F3-94A2-4E8E-BF46-5F751BF0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3CC6A-CE07-4944-A103-F23BE048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6540D-3E70-4F96-86DF-E7A2BD28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00FF6-3488-49B6-8ABC-8E9D00A1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609FE-DEDE-45EC-8BC0-DDAC0EB8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D374A-3F61-4679-93BB-ABCA1CA2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2BEDE-4950-4AA0-9836-4242E421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ED64F-FDD3-4F42-9064-99294D3D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54D7E-7419-40E6-9E6B-272D055B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350F0-4D09-4BFA-86FB-91C6197E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3EED8-EE35-4330-988E-84A409AB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E226-867A-4DDB-A614-17CCD59E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4EB38-40B7-4AE0-B9B1-89D342EB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2DA0B-DDB5-415F-A7BF-3266D454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8A535-55B6-4075-ABA2-08BA8740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FB049-2697-4BA4-B780-1481CF9D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E4136-8999-41DD-B997-FF0485EA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92DB7-C9B7-4C9D-809E-7A8F3462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711FF-D172-4BD1-A839-E8E7E222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B76BF-7699-4489-8429-7588DB6A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6608C-F132-439B-A19B-ED1B094E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018195-BD78-4095-9434-44F87E19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E5E5-82E8-458E-A0A3-1369551D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DF4AC4-6D4B-479F-AD82-343A6481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20EDF-C303-48D5-BF2B-346488ED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910D1-AEEE-4CB3-9CEB-08435820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F5B9F-3D48-4BA5-9215-81EED1B1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64798B-1E88-4BC9-8034-1F333B34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CD2396-F88B-4523-8000-131D50AB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315E5-5CB5-4402-8088-C6DBCC1D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51CB4-726E-471D-BB4E-DEFF0B63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6C478A-AF07-487A-AB7D-268BE5F2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26FEE7-DB69-4667-9543-7A058BE9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27C-41B9-4AE8-A185-68AEEACF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4C8FA9-62E2-43BB-AFA4-6EEC30DF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5E9495-1F00-442A-9D71-9436C1AB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2DC6FA-3A08-41D6-9F46-57B40C7C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DFBEE9-6CAF-4AB6-BCFF-C38ACFF0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2C8A82-5B99-4A92-94C9-B09532BB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85F52A-4319-4E2D-8267-6358880A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75D96-B476-47B9-8C6A-BE4FAD2C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13CF9F-C518-4947-9817-859CA82C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A1174B-E0CD-4636-BEF3-C0031674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7C96CD-1A9D-48C2-AB5E-7A27084C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D8D5-2ACD-4BB3-A98D-17239A26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36D575-4B5C-4CA6-8662-A152BA3D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900696-F08F-4180-A519-75F5C219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05B3F3-6EAE-48A5-B514-D3971A5C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22071-DC77-49AF-B3B7-931BD901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F66595-CD45-45AD-BF1D-CBC239A4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AA7219-905A-4523-8455-C2D346D8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9B118C-A837-4F2F-8156-494661D0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AA2DEA-8CC8-4E3B-B2DD-E25D7773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863809-47FA-43AE-996D-97DCD68D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ACD1C-ED79-4578-8D1C-83D52E38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3039-04F2-42E2-AB71-10FAAF92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2AD86D-9BC7-4536-B722-E8B463B5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162807-2B27-4D0B-BEC1-0D34E073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F4A40B-D201-4A8C-BE7D-7D5299E2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5EF3B1-3B60-4B23-BBE4-7EAE50F6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CBE312-92DB-4909-B413-E1D3BDFB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A12-0A8E-4826-A427-676116BA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fd7c7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44d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19f8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fd7c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8cf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fd7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fd7c7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7CA6-94A2-402E-9276-752DFB79115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fd7c7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1e5d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1e5d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0f3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fd7c7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0f3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fd7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fd7c7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fd7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fd7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fd7c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44d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19f8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fd7c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8cf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18B5-B103-4917-95E8-CA825918965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fd7c7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fd7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fd7c7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44d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19f8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fd7c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8cf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B30B-0629-44F9-AD1C-858CEFEC416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fd7c7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1e5d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1e5d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0f3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fd7c7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0f3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fd7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fd7c7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fd7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fd7c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fd7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44d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19f8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fd7c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8cf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B610-32E9-4CC0-9B2C-30C28523CA6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fd7c7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fd7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fd7c7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44d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19f8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fd7c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8cf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B48B-0CAE-4597-9610-F585DA38227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fd7c7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fd7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fd7c7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44d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19f8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fd7c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8cf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F676-B3B7-47D5-BAFF-58A669E1EFC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fd7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fd7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44d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19f8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fd7c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8cf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8A65-C811-4917-B8D8-19BFB3275A2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kartap4.narod.ru/otk/otk1.files/image018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56760" y="785520"/>
            <a:ext cx="747252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d9263"/>
                </a:solidFill>
                <a:latin typeface="Century Schoolbook"/>
              </a:rPr>
              <a:t>                    </a:t>
            </a: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entury Schoolbook"/>
              </a:rPr>
              <a:t>Богатыри земли русской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Воспитатель : Лузина М.Н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2021 год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44d26"/>
                </a:solidFill>
                <a:latin typeface="Century Schoolbook"/>
              </a:rPr>
              <a:t>БОГАТЫРЬ</a:t>
            </a: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илён, как вольный ветер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гуч, как ураган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н защищает земл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 злобных басурман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н силой доброю богат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н защищает стольный гра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асает бедных и дет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стариков и матерей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pic>
        <p:nvPicPr>
          <p:cNvPr id="383" name="Picture 2" descr="C:\Users\Валюша\Desktop\3519.jpg"/>
          <p:cNvPicPr/>
          <p:nvPr/>
        </p:nvPicPr>
        <p:blipFill>
          <a:blip r:embed="rId1"/>
          <a:stretch/>
        </p:blipFill>
        <p:spPr>
          <a:xfrm>
            <a:off x="500040" y="357120"/>
            <a:ext cx="807264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pic>
        <p:nvPicPr>
          <p:cNvPr id="386" name="Picture 2" descr="C:\Users\Валюша\Desktop\fr0282_01_big.jpg"/>
          <p:cNvPicPr/>
          <p:nvPr/>
        </p:nvPicPr>
        <p:blipFill>
          <a:blip r:embed="rId2"/>
          <a:stretch/>
        </p:blipFill>
        <p:spPr>
          <a:xfrm>
            <a:off x="285840" y="285840"/>
            <a:ext cx="842940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ПОСЛОВИЦЫ  О СМЕЛОСТИ И ОТВАГЕ РУССКИХ ГЕРОЕВ</a:t>
            </a: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мелость силе воевод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то смел, тот на коня се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усский ни с мечом, ни с калачом не шути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Руси не все караси, есть и ерш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мелому горох хлебать, а несмелому и щей не вида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pic>
        <p:nvPicPr>
          <p:cNvPr id="391" name="Picture 2" descr="C:\Users\Валюша\Desktop\4fb983e232d4.jpg"/>
          <p:cNvPicPr/>
          <p:nvPr/>
        </p:nvPicPr>
        <p:blipFill>
          <a:blip r:embed="rId2"/>
          <a:stretch/>
        </p:blipFill>
        <p:spPr>
          <a:xfrm>
            <a:off x="428760" y="357120"/>
            <a:ext cx="821520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entury Schoolbook"/>
              </a:rPr>
              <a:t>РУССКИЙ ПИСАТЕЛЬ АЛЕКСЕЙ ТОЛСТОЙ ТАК НАПИСАЛ ПРО БОГАТЫРЕЙ:</a:t>
            </a:r>
            <a:br>
              <a:rPr sz="2900"/>
            </a:br>
            <a:endParaRPr b="0" lang="en-US" sz="29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 Витязь! Делами твои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рдится великий наро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воё громоносное им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олетия все перейдёт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pic>
        <p:nvPicPr>
          <p:cNvPr id="396" name="Picture 2" descr="C:\Users\Валюша\Desktop\61419-12335798190mikhail0romanov.jpg"/>
          <p:cNvPicPr/>
          <p:nvPr/>
        </p:nvPicPr>
        <p:blipFill>
          <a:blip r:embed="rId2"/>
          <a:stretch/>
        </p:blipFill>
        <p:spPr>
          <a:xfrm>
            <a:off x="642960" y="428760"/>
            <a:ext cx="7858080" cy="61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pic>
        <p:nvPicPr>
          <p:cNvPr id="399" name="Picture 2" descr="C:\Users\Валюша\Desktop\6155c7e3f61c97432b4b3c3be05_prev.jpg"/>
          <p:cNvPicPr/>
          <p:nvPr/>
        </p:nvPicPr>
        <p:blipFill>
          <a:blip r:embed="rId2"/>
          <a:stretch/>
        </p:blipFill>
        <p:spPr>
          <a:xfrm>
            <a:off x="428760" y="642960"/>
            <a:ext cx="828648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 и сильные, могучие богатыр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на славной Руси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Не скакать врагам по нашей Земле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Не топтать их коня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Землю Русску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Не затмить им солнце наше красное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Век стоит Русь – не шатается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 века простоит – не шелохнётся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pic>
        <p:nvPicPr>
          <p:cNvPr id="404" name="Picture 2" descr="C:\Users\Валюша\Desktop\05ad48d530c3.jpg"/>
          <p:cNvPicPr/>
          <p:nvPr/>
        </p:nvPicPr>
        <p:blipFill>
          <a:blip r:embed="rId2"/>
          <a:stretch/>
        </p:blipFill>
        <p:spPr>
          <a:xfrm>
            <a:off x="357120" y="357120"/>
            <a:ext cx="8429760" cy="614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entury Schoolbook"/>
              </a:rPr>
              <a:t>БОГАТЫРИ И ВИТЯЗИ — БЫЛИННЫЕ ОБРАЗЫ ГЕРОЕВ ДРЕВНИХ СЛАВЯНСКИХ ПЛЕМЕН.</a:t>
            </a:r>
            <a:endParaRPr b="0" lang="en-US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333a1d"/>
                </a:solidFill>
                <a:latin typeface="Century Schoolbook"/>
              </a:rPr>
              <a:t>Богатыри – люди необыкновенные, им свойственны необыкновенная физическая сила, смекалка и самые разные таланты. Знаменитый Илья Муромец обладает недюжинной силой, а Садко играет на гусля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pic>
        <p:nvPicPr>
          <p:cNvPr id="407" name="Picture 2" descr="C:\Users\Валюша\Desktop\post-27417-1173553227.jpg"/>
          <p:cNvPicPr/>
          <p:nvPr/>
        </p:nvPicPr>
        <p:blipFill>
          <a:blip r:embed="rId2"/>
          <a:stretch/>
        </p:blipFill>
        <p:spPr>
          <a:xfrm>
            <a:off x="285840" y="285840"/>
            <a:ext cx="842940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pic>
        <p:nvPicPr>
          <p:cNvPr id="409" name="Picture 2" descr="C:\Users\Валюша\Desktop\500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763884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 преданья старин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Забывать мы не долж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Слава русской старине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Слава русской стороне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Картинка 1 из 88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85840"/>
            <a:ext cx="8715600" cy="63579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1000080" y="4500720"/>
            <a:ext cx="111441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entury Schoolbook"/>
              </a:rPr>
              <a:t>                   </a:t>
            </a:r>
            <a:r>
              <a:rPr b="1" lang="ru-RU" sz="2000" spc="-1" strike="noStrike">
                <a:solidFill>
                  <a:srgbClr val="fdf69c"/>
                </a:solidFill>
                <a:latin typeface="Century Schoolbook"/>
              </a:rPr>
              <a:t>ДОБРЫНЯ НИКИТИЧ  ИЛЬЯ МУРОМЕЦ АЛЕША ПОПОВИЧ</a:t>
            </a:r>
            <a:endParaRPr b="0" lang="en-US" sz="20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142640" y="-159840"/>
            <a:ext cx="7715160" cy="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" spc="-1" strike="noStrike">
              <a:solidFill>
                <a:srgbClr val="444d26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pic>
        <p:nvPicPr>
          <p:cNvPr id="366" name="Picture 2" descr="C:\Users\Валюша\Desktop\9003340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ГЛАВНОЕ, ЧТО ОБЪЕДИНЯЕТ ГЛАВНЫХ ГЕРОЕВ, – ТО, ЧТО ЭТИ ЛЮДИ НАДЕЛЕНЫ НЕЧЕЛОВЕЧЕСКИМИ ВОЗМОЖНОСТЯМИ.</a:t>
            </a:r>
            <a:endParaRPr b="0" lang="en-US" sz="27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entury Schoolbook"/>
              </a:rPr>
              <a:t>Тюркское происхождение слова «богатырь» впервые встречается в Ипатьевской летописи. Характерно, что изначально, в древности, для понятия «богатырь» использовалось слово «хоробр», которое со временем переросло в эпитет «храбрый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pic>
        <p:nvPicPr>
          <p:cNvPr id="371" name="Picture 2" descr="C:\Users\Валюша\Desktop\vasneztov94.jpg"/>
          <p:cNvPicPr/>
          <p:nvPr/>
        </p:nvPicPr>
        <p:blipFill>
          <a:blip r:embed="rId2"/>
          <a:stretch/>
        </p:blipFill>
        <p:spPr>
          <a:xfrm>
            <a:off x="214200" y="214200"/>
            <a:ext cx="8643960" cy="65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pic>
        <p:nvPicPr>
          <p:cNvPr id="374" name="Picture 2" descr="C:\Users\Валюша\Desktop\643670.jpg"/>
          <p:cNvPicPr/>
          <p:nvPr/>
        </p:nvPicPr>
        <p:blipFill>
          <a:blip r:embed="rId2"/>
          <a:stretch/>
        </p:blipFill>
        <p:spPr>
          <a:xfrm>
            <a:off x="500040" y="285840"/>
            <a:ext cx="842976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ЕЩЕ ОДНО ИНТЕРЕСНОЕ НАБЛЮДЕНИЕ – НИ ВЕЛИКИЕ КНЯЗЬЯ, КСТАТИ, ВЕСЬМА, ПОЧИТАЕМЫЕ В НАРОДЕ, НИ ЧУДОВИЩА, ОБЛАДАЮЩИЕ НЕДЮЖИННОЙ СИЛОЙ, НЕ ЯВЛЯЮТСЯ БОГАТЫРЯМИ. ЧТО ЖЕ СТОИТ ЗА ЭТИМ ПОНЯТИЕМ?</a:t>
            </a:r>
            <a:endParaRPr b="0" lang="en-US" sz="1800" spc="-1" strike="noStrike">
              <a:solidFill>
                <a:srgbClr val="444d26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entury Schoolbook"/>
              </a:rPr>
              <a:t>Физических доблестей недостаточно. Прежде всего, богатырь – патриот, защитник земли русской. Былинный богатырь – одиночка, в борьбе за справедливость он без страха идет на опасность и всегда побеждает. Главное, им движет желание постоять за людей и вер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5b5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44d26"/>
              </a:solidFill>
              <a:latin typeface="Century Schoolbook"/>
            </a:endParaRPr>
          </a:p>
        </p:txBody>
      </p:sp>
      <p:pic>
        <p:nvPicPr>
          <p:cNvPr id="379" name="Picture 2" descr="C:\Users\Валюша\Desktop\4273a43f7e92.jpg"/>
          <p:cNvPicPr/>
          <p:nvPr/>
        </p:nvPicPr>
        <p:blipFill>
          <a:blip r:embed="rId2"/>
          <a:stretch/>
        </p:blipFill>
        <p:spPr>
          <a:xfrm>
            <a:off x="428760" y="500040"/>
            <a:ext cx="81439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8:30:04Z</dcterms:created>
  <dc:creator>Валюша</dc:creator>
  <dc:description/>
  <dc:language>en-US</dc:language>
  <cp:lastModifiedBy>серж</cp:lastModifiedBy>
  <dcterms:modified xsi:type="dcterms:W3CDTF">2022-04-12T07:31:08Z</dcterms:modified>
  <cp:revision>27</cp:revision>
  <dc:subject/>
  <dc:title>Добрыня Никитич  Илья Муромец Алеша Попович</dc:title>
</cp:coreProperties>
</file>