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AF9-285C-4AC6-9F75-D3C90A00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C82-AB26-4882-82D9-5382F2A7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2D6-7316-483E-940D-634A5E52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AEF-FAE5-4DFB-9597-AE360994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08E5-12CA-493E-BF21-E67CBD31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784F-D30E-4EBF-95B9-A287E478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A01-63FB-4A7B-BBE9-64060A26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3646-BC9D-4027-A55C-59B0912C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98E0-AD04-4738-8CD7-7AE55C6B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5AD3-8E0B-4EA4-ADA1-F82722C0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F4F8-B05B-436F-A14C-64919F8D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AAF-7E8B-4AAC-873D-525416E0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6D88-E927-46E9-8AE9-62C0948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3EC4-694E-4AB5-A149-1670FE1F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F920-BD9A-497F-8283-41AA7853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B74F-5202-47C6-B4C6-829A6CD0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883F-DF42-4E01-90A9-C471FE49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D406-8771-4E2F-AE17-50B7CBD0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D2C2-9413-4DE8-B7FA-1CC3394B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2AD4-370C-4713-9287-48E24120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D1B0E-483D-496A-913F-CF9F8438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9807-5165-4296-BD21-D35D34CF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76C-5F2A-4EEE-B4F3-B87C707D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731D-5103-4653-AD39-6423F142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74A8-4F20-4445-B764-9B76EFF8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0B6B-9DAD-43B8-98F7-F2D74D55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37AD-38FC-4272-9EF4-F7693BC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8FCA-042A-4BF2-99FF-00A4BF47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224E8-9113-405F-9002-6FA98166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9017-49BB-45B5-B60A-5FB805B6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59DC-2779-49A3-9DA4-9D7699B8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2C4F1-82B5-4187-9083-9FE7786C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1BF7-41B7-4930-A504-143D9BCB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53B-ADA9-4B48-91AB-EFCC79B6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B88BD-B96F-493E-B644-FA243176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1956-ACCC-404E-B994-A9C94B1C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2F71-E815-43D5-A7B0-4EA4B27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7EAC4-D2ED-4388-88F3-9C8EA912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E345-E809-4818-A0A0-EDBE386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F225-2356-412A-957D-55E0E4A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891E-9581-4A7C-93F9-DD83D2C1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F03A-BCC1-4046-9DF0-AC4E44A9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814A-23BE-414B-B1B3-9D5EEAB7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22B6C-9174-480D-8E8E-F9BB7BBB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811-07AB-4A75-8B79-B5AC9D30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F337-79CD-4106-99F2-C414611C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C7C0-D387-43E2-8D30-90B24BCF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BFA0-F709-4D52-829B-E5EEF81D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140CB-2CD3-410C-BFF1-FE5F455E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BF448-426A-4145-83F8-C203279B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69150-6431-41C0-B8A5-63F546A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B9A1-8908-46EC-97FF-69870C20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C5844-703C-474D-84A5-CDABF6A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5BB7-BB9B-475B-BF5A-4479291E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807AB-11D9-4E53-9997-D1BB75DE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421-03E1-44B3-8AC4-9E3739D1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B791-AEDC-420A-B5C4-FEEC0C3A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B94CD-041E-4F0D-8D63-03F72A8C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7CA68-F5EF-41A7-84ED-C99F6B43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9CBA4-6425-4FDA-95A8-B624D1AD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671CC-91B6-4849-998C-BF977CC8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53DA0-9071-46FD-93B1-B317DC9F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DA95-E2B5-4129-B68E-99DB6E57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F5DA7-EA97-4126-9A23-A9CC82A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A17A6-E216-4290-91F2-80596DB7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463A5-CEB8-486D-BD81-2641C66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AF3-A510-4930-BD3B-A8C57CC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D976F-70E9-4180-A53A-CA234F2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96F84-39B3-4897-A245-C5E79858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22C66-BD82-4CDF-A1EA-D0D8E3CF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1476-C3F7-40BE-AD0C-204D8F4B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AE042-4C24-4FAF-A84A-6C33BE48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66CD5-2B85-4358-B125-E57CF1E5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F12E-98F0-4EB6-A1FB-B73EDB48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E75A-5078-4F38-8E31-1C2BC1B6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7175F-69B4-4FCA-86F1-54A5253B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31FD2-E63C-4B8F-8F6F-612A8A8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CBC-FDBF-4112-9866-AFC8D72F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7E24-C7A7-4128-8EA1-B4797DA4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0C47A-EBA2-48A8-BE54-08B57DF4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B7D96-B7EA-42CE-A82C-D890240D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39AEB-B0C7-4C23-9B88-F542BD24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4D644-6CD9-46C9-A42B-BE80E22F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D0A-8BF2-4BBC-8087-57D0350C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1C7E-0523-4D0C-AB2B-10CEB73361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15A1-952C-40AB-BEC4-65D58BB1EAF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58B4-5054-4CE9-A165-036EE74403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324-0E91-4983-86FB-EDEE90EF2E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DCA7-663E-4C61-ACEF-5E4F03D6EB4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232C-6E1B-4FD5-B1B2-8EBEB6953F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4389-CD75-45A7-BAE1-A63957B6AF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1640" y="2205000"/>
            <a:ext cx="74055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убость – это знак крутости или дурная привычка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47640" y="386028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лассный час для учащихся 4-6 класс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одзаголовок 2"/>
          <p:cNvSpPr/>
          <p:nvPr/>
        </p:nvSpPr>
        <p:spPr>
          <a:xfrm>
            <a:off x="1692360" y="5300640"/>
            <a:ext cx="64008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Закирзянова Люция Альфатовна, педагог-психолог МБОУ «Гимназия №90» г.Каза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2000" y="1915920"/>
            <a:ext cx="78120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Каков человек – такова и его речь»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крат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пражне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00000" y="1447560"/>
            <a:ext cx="82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кройте глаза. Вспомните ситуацию, когда в ваш адрес были сказаны неприятные (оскорбляющие, унижающие, обидные слова). Как вы себя чувствуете при воспоминан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кройте глаза. Вспомните ситуацию, когда вас хвалили, говорили приятные (ласковые, добрые, вдохновляющие) слова. Как вы себя чувствуете при воспоминании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кт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фильма «Грязные слова: Правда и Мифы» Общее дел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youtube.com/watch?v=ebwYyFh4gF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флекс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асто вы слышите приятные слова в свой адрес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как себя чувствует другой человек, когда слышит в свой адрес грубост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 могу сделать, чтобы предотвратить  «грязные» слова в своей речи, в своем классе, в своей семь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одну из нижеприведенных  тем, подумайте, а затем нарисуйте рисунок к нашему классному часу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«Грубость – это крутость или вредная привычка?!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«Грязные слов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«Мои чувства, когда я слышу оскорблен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Заголовок 1"/>
          <p:cNvSpPr/>
          <p:nvPr/>
        </p:nvSpPr>
        <p:spPr>
          <a:xfrm>
            <a:off x="1587600" y="42696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флексия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15T06:02:55Z</dcterms:created>
  <dc:creator>Учитель</dc:creator>
  <dc:description/>
  <dc:language>en-US</dc:language>
  <cp:lastModifiedBy>Учитель</cp:lastModifiedBy>
  <dcterms:modified xsi:type="dcterms:W3CDTF">2022-04-12T13:40:33Z</dcterms:modified>
  <cp:revision>3</cp:revision>
  <dc:subject/>
  <dc:title>Грубость – это знак крутости или дурная привычка?</dc:title>
</cp:coreProperties>
</file>