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A96-B5DB-41EE-87D5-2384ED7F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F26-0C47-46A0-841A-8CD2AFCA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6A3-983F-4AA6-8562-CBADD423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6C0-70CE-4910-9D22-428B6D3A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C3F-077B-45F7-9517-58DA3C10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611-9A49-4A1C-A83C-FBCF48A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A94-F618-4517-AF59-B5A74B4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BA5-C4A1-4352-BE48-D5EF53C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624-8CEB-4877-87D9-16D6167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215-9FEC-4D99-BAA3-B0EE1A5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6E-47B2-4D5A-A535-A355701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2BD-6948-47E6-B541-3BEB6B9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585-5A01-4630-BB70-317D7FE39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c00000"/>
                </a:solidFill>
                <a:latin typeface="Arial"/>
              </a:rPr>
              <a:t>Витрины </a:t>
            </a:r>
            <a:br>
              <a:rPr sz="8800"/>
            </a:br>
            <a:r>
              <a:rPr b="0" lang="ru-RU" sz="8800" spc="-1" strike="noStrike">
                <a:solidFill>
                  <a:srgbClr val="c00000"/>
                </a:solidFill>
                <a:latin typeface="Arial"/>
              </a:rPr>
              <a:t>магазинов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286000" y="3789360"/>
            <a:ext cx="624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й улицы, как и у человека, свой неповторимый об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складывается из нарядных зд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акже из оформления их первых эт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116000" y="549360"/>
            <a:ext cx="7048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73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итрины магазинов. Каждый стар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витрину яркой и привлекательной для покуп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New-York-City-Shop-Window-Easter-Decorations-2007"/>
          <p:cNvPicPr/>
          <p:nvPr/>
        </p:nvPicPr>
        <p:blipFill>
          <a:blip r:embed="rId1"/>
          <a:stretch/>
        </p:blipFill>
        <p:spPr>
          <a:xfrm>
            <a:off x="1403280" y="549360"/>
            <a:ext cx="6338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кроме того, витрины еще украшают улицы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на город опускается ночь, залитые све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как будто расцве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376688"/>
          <p:cNvPicPr/>
          <p:nvPr/>
        </p:nvPicPr>
        <p:blipFill>
          <a:blip r:embed="rId1"/>
          <a:stretch/>
        </p:blipFill>
        <p:spPr>
          <a:xfrm>
            <a:off x="1547640" y="620640"/>
            <a:ext cx="58658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950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обще-то это приятное занятие рассматривать витр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_21918_d53cd2d9_XL"/>
          <p:cNvPicPr/>
          <p:nvPr/>
        </p:nvPicPr>
        <p:blipFill>
          <a:blip r:embed="rId1"/>
          <a:stretch/>
        </p:blipFill>
        <p:spPr>
          <a:xfrm>
            <a:off x="1332000" y="549360"/>
            <a:ext cx="7070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876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 внимание на расположение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97d59a3b73de932c5e1d12df687"/>
          <p:cNvPicPr/>
          <p:nvPr/>
        </p:nvPicPr>
        <p:blipFill>
          <a:blip r:embed="rId1"/>
          <a:stretch/>
        </p:blipFill>
        <p:spPr>
          <a:xfrm>
            <a:off x="971640" y="620640"/>
            <a:ext cx="7459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589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дписей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ял, рисовал, выстраивал витрины художник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487788461"/>
          <p:cNvPicPr/>
          <p:nvPr/>
        </p:nvPicPr>
        <p:blipFill>
          <a:blip r:embed="rId1"/>
          <a:stretch/>
        </p:blipFill>
        <p:spPr>
          <a:xfrm>
            <a:off x="1379520" y="18900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5660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работал художник вместе со сво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ьями-Мастерами – Постройки и Укра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dscf1800"/>
          <p:cNvPicPr/>
          <p:nvPr/>
        </p:nvPicPr>
        <p:blipFill>
          <a:blip r:embed="rId1"/>
          <a:stretch/>
        </p:blipFill>
        <p:spPr>
          <a:xfrm>
            <a:off x="1332000" y="476280"/>
            <a:ext cx="64976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А.Горяева, Л.А.Неменская. Искусство вокруг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 для 3 класса - М. Просвещение,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2:48:59Z</dcterms:created>
  <dc:creator>Admin</dc:creator>
  <dc:description/>
  <dc:language>en-US</dc:language>
  <cp:lastModifiedBy>Владелец</cp:lastModifiedBy>
  <dcterms:modified xsi:type="dcterms:W3CDTF">2017-11-23T05:45:17Z</dcterms:modified>
  <cp:revision>10</cp:revision>
  <dc:subject/>
  <dc:title>Витрины магазинов</dc:title>
</cp:coreProperties>
</file>