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ABA-10FB-4C8C-8785-E83D48BE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410-5D07-4B21-BDF7-736B956D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105-2458-40ED-8B6D-E1C392A9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A4F-302C-4497-A7BC-D2B5CB9C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548-A005-442E-9B5E-E4087E6E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713-5CFB-4D6A-B825-0975DD8A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3EF-7E1A-417A-AF10-3D001FAE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B6C-B8E9-46F1-9C07-DEDE4350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225-401B-43DF-AF64-01316659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3D8-2DCD-4FEA-A681-EA9460D9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92A-2305-4D4C-ADEB-0B841E2F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F39-657D-4111-8866-72BE5817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224C-4960-4279-ABEC-7C0C49CD5D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1\Desktop\МЯЧ копия.jpg"/>
          <p:cNvPicPr/>
          <p:nvPr/>
        </p:nvPicPr>
        <p:blipFill>
          <a:blip r:embed="rId1"/>
          <a:stretch/>
        </p:blipFill>
        <p:spPr>
          <a:xfrm>
            <a:off x="2498760" y="1731960"/>
            <a:ext cx="5651640" cy="4724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763640" y="260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утешествие по маршруту «Доброго Здоровь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5"/>
          <p:cNvSpPr/>
          <p:nvPr/>
        </p:nvSpPr>
        <p:spPr>
          <a:xfrm rot="19947000">
            <a:off x="5927400" y="1848960"/>
            <a:ext cx="2487600" cy="1181160"/>
          </a:xfrm>
          <a:custGeom>
            <a:avLst/>
            <a:gdLst>
              <a:gd name="textAreaLeft" fmla="*/ 489960 w 2487600"/>
              <a:gd name="textAreaRight" fmla="*/ 1821960 w 2487600"/>
              <a:gd name="textAreaTop" fmla="*/ 158040 h 1181160"/>
              <a:gd name="textAreaBottom" fmla="*/ 102312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14" hR="21600" stAng="10800000" swAng="-5400000"/>
                <a:lnTo>
                  <a:pt x="11563" y="21600"/>
                </a:lnTo>
                <a:arcTo wR="8514" hR="21600" stAng="5400000" swAng="-2839809"/>
                <a:lnTo>
                  <a:pt x="21088" y="7376"/>
                </a:lnTo>
                <a:lnTo>
                  <a:pt x="18552" y="0"/>
                </a:lnTo>
                <a:lnTo>
                  <a:pt x="14991" y="7376"/>
                </a:lnTo>
                <a:lnTo>
                  <a:pt x="16515" y="7376"/>
                </a:lnTo>
                <a:arcTo wR="8514" hR="21600" stAng="2560191" swAng="2593613"/>
                <a:lnTo>
                  <a:pt x="10038" y="21251"/>
                </a:lnTo>
                <a:arcTo wR="8514" hR="21600" stAng="5646196" swAng="5153804"/>
                <a:close/>
              </a:path>
              <a:path fill="darkenLess" w="21600" h="21600">
                <a:moveTo>
                  <a:pt x="0" y="0"/>
                </a:moveTo>
                <a:arcTo wR="8514" hR="21600" stAng="10800000" swAng="-5400000"/>
                <a:lnTo>
                  <a:pt x="11563" y="21600"/>
                </a:lnTo>
                <a:arcTo wR="8514" hR="21600" stAng="5400000" swAng="246196"/>
                <a:lnTo>
                  <a:pt x="10038" y="21251"/>
                </a:lnTo>
                <a:arcTo wR="8514" hR="21600" stAng="5646196" swAng="5153804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oup 13"/>
          <p:cNvGrpSpPr/>
          <p:nvPr/>
        </p:nvGrpSpPr>
        <p:grpSpPr>
          <a:xfrm>
            <a:off x="1978560" y="404640"/>
            <a:ext cx="6909840" cy="5256360"/>
            <a:chOff x="1978560" y="404640"/>
            <a:chExt cx="6909840" cy="5256360"/>
          </a:xfrm>
        </p:grpSpPr>
        <p:sp>
          <p:nvSpPr>
            <p:cNvPr id="45" name="AutoShape 14"/>
            <p:cNvSpPr/>
            <p:nvPr/>
          </p:nvSpPr>
          <p:spPr>
            <a:xfrm rot="16200000">
              <a:off x="6956640" y="2704320"/>
              <a:ext cx="2815920" cy="401400"/>
            </a:xfrm>
            <a:prstGeom prst="rightArrow">
              <a:avLst>
                <a:gd name="adj1" fmla="val 50000"/>
                <a:gd name="adj2" fmla="val 175608"/>
              </a:avLst>
            </a:prstGeom>
            <a:solidFill>
              <a:srgbClr val="8064a2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AutoShape 15"/>
            <p:cNvSpPr/>
            <p:nvPr/>
          </p:nvSpPr>
          <p:spPr>
            <a:xfrm flipH="1" rot="7597200">
              <a:off x="4272120" y="1126080"/>
              <a:ext cx="1698480" cy="1160280"/>
            </a:xfrm>
            <a:custGeom>
              <a:avLst/>
              <a:gdLst>
                <a:gd name="textAreaLeft" fmla="*/ 297000 w 1698480"/>
                <a:gd name="textAreaRight" fmla="*/ 1231560 w 1698480"/>
                <a:gd name="textAreaTop" fmla="*/ 155160 h 1160280"/>
                <a:gd name="textAreaBottom" fmla="*/ 1005120 h 11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58" hR="21600" stAng="10800000" swAng="-5400000"/>
                  <a:lnTo>
                    <a:pt x="11881" y="21600"/>
                  </a:lnTo>
                  <a:arcTo wR="7558" hR="21600" stAng="5400000" swAng="-2635239"/>
                  <a:lnTo>
                    <a:pt x="21146" y="7376"/>
                  </a:lnTo>
                  <a:lnTo>
                    <a:pt x="17277" y="0"/>
                  </a:lnTo>
                  <a:lnTo>
                    <a:pt x="12499" y="7376"/>
                  </a:lnTo>
                  <a:lnTo>
                    <a:pt x="14661" y="7376"/>
                  </a:lnTo>
                  <a:arcTo wR="7558" hR="21600" stAng="2764761" swAng="2277526"/>
                  <a:lnTo>
                    <a:pt x="9719" y="20698"/>
                  </a:lnTo>
                  <a:arcTo wR="7558" hR="21600" stAng="5757714" swAng="5042286"/>
                  <a:close/>
                </a:path>
                <a:path fill="darkenLess" w="21600" h="21600">
                  <a:moveTo>
                    <a:pt x="0" y="0"/>
                  </a:moveTo>
                  <a:arcTo wR="7558" hR="21600" stAng="10800000" swAng="-5400000"/>
                  <a:lnTo>
                    <a:pt x="11881" y="21600"/>
                  </a:lnTo>
                  <a:arcTo wR="7558" hR="21600" stAng="5400000" swAng="357714"/>
                  <a:lnTo>
                    <a:pt x="9719" y="20698"/>
                  </a:lnTo>
                  <a:arcTo wR="7558" hR="21600" stAng="5757714" swAng="5042286"/>
                  <a:close/>
                </a:path>
              </a:pathLst>
            </a:custGeom>
            <a:solidFill>
              <a:srgbClr val="4f81b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AutoShape 16"/>
            <p:cNvSpPr/>
            <p:nvPr/>
          </p:nvSpPr>
          <p:spPr>
            <a:xfrm rot="1274400">
              <a:off x="3493800" y="2748960"/>
              <a:ext cx="1815840" cy="1153800"/>
            </a:xfrm>
            <a:custGeom>
              <a:avLst/>
              <a:gdLst>
                <a:gd name="textAreaLeft" fmla="*/ 317520 w 1815840"/>
                <a:gd name="textAreaRight" fmla="*/ 1316520 w 1815840"/>
                <a:gd name="textAreaTop" fmla="*/ 154440 h 1153800"/>
                <a:gd name="textAreaBottom" fmla="*/ 999360 h 115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59" hR="21600" stAng="10800000" swAng="-5400000"/>
                  <a:lnTo>
                    <a:pt x="11881" y="21600"/>
                  </a:lnTo>
                  <a:arcTo wR="7559" hR="21600" stAng="5400000" swAng="-2635467"/>
                  <a:lnTo>
                    <a:pt x="21146" y="7376"/>
                  </a:lnTo>
                  <a:lnTo>
                    <a:pt x="17278" y="0"/>
                  </a:lnTo>
                  <a:lnTo>
                    <a:pt x="12502" y="7376"/>
                  </a:lnTo>
                  <a:lnTo>
                    <a:pt x="14663" y="7376"/>
                  </a:lnTo>
                  <a:arcTo wR="7559" hR="21600" stAng="2764533" swAng="2277847"/>
                  <a:lnTo>
                    <a:pt x="9720" y="20698"/>
                  </a:lnTo>
                  <a:arcTo wR="7559" hR="21600" stAng="5757620" swAng="5042380"/>
                  <a:close/>
                </a:path>
                <a:path fill="darkenLess" w="21600" h="21600">
                  <a:moveTo>
                    <a:pt x="0" y="0"/>
                  </a:moveTo>
                  <a:arcTo wR="7559" hR="21600" stAng="10800000" swAng="-5400000"/>
                  <a:lnTo>
                    <a:pt x="11881" y="21600"/>
                  </a:lnTo>
                  <a:arcTo wR="7559" hR="21600" stAng="5400000" swAng="357620"/>
                  <a:lnTo>
                    <a:pt x="9720" y="20698"/>
                  </a:lnTo>
                  <a:arcTo wR="7559" hR="21600" stAng="5757620" swAng="5042380"/>
                  <a:close/>
                </a:path>
              </a:pathLst>
            </a:custGeom>
            <a:solidFill>
              <a:srgbClr val="4bacc6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AutoShape 17"/>
            <p:cNvSpPr/>
            <p:nvPr/>
          </p:nvSpPr>
          <p:spPr>
            <a:xfrm flipH="1" rot="5798400">
              <a:off x="1931760" y="2551320"/>
              <a:ext cx="1304640" cy="1068480"/>
            </a:xfrm>
            <a:custGeom>
              <a:avLst/>
              <a:gdLst>
                <a:gd name="textAreaLeft" fmla="*/ 228240 w 1304640"/>
                <a:gd name="textAreaRight" fmla="*/ 946080 w 1304640"/>
                <a:gd name="textAreaTop" fmla="*/ 142920 h 1068480"/>
                <a:gd name="textAreaBottom" fmla="*/ 925560 h 10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1" hR="21600" stAng="10800000" swAng="-5400000"/>
                  <a:lnTo>
                    <a:pt x="11880" y="21600"/>
                  </a:lnTo>
                  <a:arcTo wR="7561" hR="21600" stAng="5400000" swAng="-2636035"/>
                  <a:lnTo>
                    <a:pt x="21145" y="7376"/>
                  </a:lnTo>
                  <a:lnTo>
                    <a:pt x="17282" y="0"/>
                  </a:lnTo>
                  <a:lnTo>
                    <a:pt x="12508" y="7376"/>
                  </a:lnTo>
                  <a:lnTo>
                    <a:pt x="14667" y="7376"/>
                  </a:lnTo>
                  <a:arcTo wR="7561" hR="21600" stAng="2763965" swAng="2278694"/>
                  <a:lnTo>
                    <a:pt x="9721" y="20700"/>
                  </a:lnTo>
                  <a:arcTo wR="7561" hR="21600" stAng="5757341" swAng="5042659"/>
                  <a:close/>
                </a:path>
                <a:path fill="darkenLess" w="21600" h="21600">
                  <a:moveTo>
                    <a:pt x="0" y="0"/>
                  </a:moveTo>
                  <a:arcTo wR="7561" hR="21600" stAng="10800000" swAng="-5400000"/>
                  <a:lnTo>
                    <a:pt x="11880" y="21600"/>
                  </a:lnTo>
                  <a:arcTo wR="7561" hR="21600" stAng="5400000" swAng="357341"/>
                  <a:lnTo>
                    <a:pt x="9721" y="20700"/>
                  </a:lnTo>
                  <a:arcTo wR="7561" hR="21600" stAng="5757341" swAng="5042659"/>
                  <a:close/>
                </a:path>
              </a:pathLst>
            </a:cu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AutoShape 18"/>
            <p:cNvSpPr/>
            <p:nvPr/>
          </p:nvSpPr>
          <p:spPr>
            <a:xfrm rot="10800000">
              <a:off x="2812680" y="3461760"/>
              <a:ext cx="426960" cy="1417320"/>
            </a:xfrm>
            <a:prstGeom prst="downArrow">
              <a:avLst>
                <a:gd name="adj1" fmla="val 50000"/>
                <a:gd name="adj2" fmla="val 83020"/>
              </a:avLst>
            </a:prstGeom>
            <a:solidFill>
              <a:srgbClr val="8064a2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19"/>
            <p:cNvSpPr/>
            <p:nvPr/>
          </p:nvSpPr>
          <p:spPr>
            <a:xfrm>
              <a:off x="4571640" y="4077000"/>
              <a:ext cx="4316760" cy="1584000"/>
            </a:xfrm>
            <a:prstGeom prst="rect">
              <a:avLst/>
            </a:prstGeom>
            <a:solidFill>
              <a:srgbClr val="eff4fb"/>
            </a:solidFill>
            <a:ln w="19080">
              <a:solidFill>
                <a:srgbClr val="95b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3152"/>
                  </a:solidFill>
                  <a:latin typeface="Times New Roman"/>
                </a:rPr>
                <a:t>        </a:t>
              </a:r>
              <a:r>
                <a:rPr b="1" lang="ru-RU" sz="2400" spc="-1" strike="noStrike">
                  <a:solidFill>
                    <a:srgbClr val="403152"/>
                  </a:solidFill>
                  <a:latin typeface="Times New Roman"/>
                </a:rPr>
                <a:t>Здоровье – это вершина,                                              которую каждый должен покорить  САМ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AutoShape 20"/>
            <p:cNvSpPr/>
            <p:nvPr/>
          </p:nvSpPr>
          <p:spPr>
            <a:xfrm>
              <a:off x="2195280" y="4365720"/>
              <a:ext cx="2521080" cy="576000"/>
            </a:xfrm>
            <a:prstGeom prst="rightArrowCallout">
              <a:avLst>
                <a:gd name="adj1" fmla="val 25002"/>
                <a:gd name="adj2" fmla="val 25000"/>
                <a:gd name="adj3" fmla="val 49118"/>
                <a:gd name="adj4" fmla="val 66667"/>
              </a:avLst>
            </a:prstGeom>
            <a:solidFill>
              <a:srgbClr val="77933c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Oval 21"/>
            <p:cNvSpPr/>
            <p:nvPr/>
          </p:nvSpPr>
          <p:spPr>
            <a:xfrm>
              <a:off x="5019480" y="1957320"/>
              <a:ext cx="1150560" cy="119196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Oval 22"/>
            <p:cNvSpPr/>
            <p:nvPr/>
          </p:nvSpPr>
          <p:spPr>
            <a:xfrm>
              <a:off x="3025440" y="1758600"/>
              <a:ext cx="1154160" cy="1166400"/>
            </a:xfrm>
            <a:prstGeom prst="ellipse">
              <a:avLst/>
            </a:prstGeom>
            <a:solidFill>
              <a:srgbClr val="f79646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 Box 23"/>
            <p:cNvSpPr/>
            <p:nvPr/>
          </p:nvSpPr>
          <p:spPr>
            <a:xfrm>
              <a:off x="5043240" y="2232720"/>
              <a:ext cx="119088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ПРИВАЛ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«Привычки»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Oval 24"/>
            <p:cNvSpPr/>
            <p:nvPr/>
          </p:nvSpPr>
          <p:spPr>
            <a:xfrm>
              <a:off x="5870520" y="404640"/>
              <a:ext cx="1198440" cy="1217520"/>
            </a:xfrm>
            <a:prstGeom prst="ellipse">
              <a:avLst/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Рисунок 24" descr="C:\Users\1\Desktop\Общение\картинки - общение\пп.gif"/>
          <p:cNvPicPr/>
          <p:nvPr/>
        </p:nvPicPr>
        <p:blipFill>
          <a:blip r:embed="rId1"/>
          <a:stretch/>
        </p:blipFill>
        <p:spPr>
          <a:xfrm>
            <a:off x="7302600" y="-6480"/>
            <a:ext cx="1523880" cy="1500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6"/>
          <p:cNvSpPr/>
          <p:nvPr/>
        </p:nvSpPr>
        <p:spPr>
          <a:xfrm>
            <a:off x="6012000" y="620640"/>
            <a:ext cx="14223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РИВ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« Доброе Здоровь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27"/>
          <p:cNvSpPr/>
          <p:nvPr/>
        </p:nvSpPr>
        <p:spPr>
          <a:xfrm>
            <a:off x="1332000" y="549360"/>
            <a:ext cx="3024000" cy="100800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16" y="0"/>
                </a:lnTo>
                <a:lnTo>
                  <a:pt x="21600" y="10800"/>
                </a:lnTo>
                <a:lnTo>
                  <a:pt x="161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рта маршр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Добр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доровь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8" descr="C:\Users\1\Desktop\z_logoббб.jpg"/>
          <p:cNvPicPr/>
          <p:nvPr/>
        </p:nvPicPr>
        <p:blipFill>
          <a:blip r:embed="rId2"/>
          <a:stretch/>
        </p:blipFill>
        <p:spPr>
          <a:xfrm>
            <a:off x="2843280" y="5229360"/>
            <a:ext cx="352908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TextBox 18"/>
          <p:cNvSpPr/>
          <p:nvPr/>
        </p:nvSpPr>
        <p:spPr>
          <a:xfrm>
            <a:off x="2843280" y="213372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АЛ «Витами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1\Desktop\ВИТАМИНЫ\453_600.jpg"/>
          <p:cNvPicPr/>
          <p:nvPr/>
        </p:nvPicPr>
        <p:blipFill>
          <a:blip r:embed="rId1"/>
          <a:stretch/>
        </p:blipFill>
        <p:spPr>
          <a:xfrm>
            <a:off x="3995640" y="189000"/>
            <a:ext cx="4753080" cy="35258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116000" y="47628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оздайте «Витаминный коллаж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2050920" y="2276640"/>
            <a:ext cx="2160720" cy="2100240"/>
          </a:xfrm>
          <a:prstGeom prst="flowChartConnector">
            <a:avLst/>
          </a:prstGeom>
          <a:solidFill>
            <a:srgbClr val="ff9933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700360" y="2565360"/>
            <a:ext cx="10652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780000" y="4221000"/>
            <a:ext cx="2160360" cy="2098800"/>
          </a:xfrm>
          <a:prstGeom prst="flowChartConnector">
            <a:avLst/>
          </a:prstGeom>
          <a:solidFill>
            <a:srgbClr val="af6f3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6516720" y="3716280"/>
            <a:ext cx="2158920" cy="2100240"/>
          </a:xfrm>
          <a:prstGeom prst="flowChartConnector">
            <a:avLst/>
          </a:prstGeom>
          <a:solidFill>
            <a:srgbClr val="ffc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427640" y="4365720"/>
            <a:ext cx="10652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164360" y="4005360"/>
            <a:ext cx="10652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Users\1\Desktop\ВИТАМИНЫ\8139182.jpg"/>
          <p:cNvPicPr/>
          <p:nvPr/>
        </p:nvPicPr>
        <p:blipFill>
          <a:blip r:embed="rId1"/>
          <a:stretch/>
        </p:blipFill>
        <p:spPr>
          <a:xfrm>
            <a:off x="2195640" y="1484280"/>
            <a:ext cx="6700680" cy="4629240"/>
          </a:xfrm>
          <a:prstGeom prst="rect">
            <a:avLst/>
          </a:prstGeom>
          <a:ln w="9360">
            <a:solidFill>
              <a:srgbClr val="e6e0e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Блок-схема: несколько документов 2"/>
          <p:cNvSpPr/>
          <p:nvPr/>
        </p:nvSpPr>
        <p:spPr>
          <a:xfrm>
            <a:off x="2195640" y="404640"/>
            <a:ext cx="6624360" cy="792360"/>
          </a:xfrm>
          <a:prstGeom prst="flowChartMultidocument">
            <a:avLst/>
          </a:prstGeom>
          <a:solidFill>
            <a:srgbClr val="f2dcdb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2916360" y="620640"/>
            <a:ext cx="41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ВИТАМ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super_melodiya_-_krasivaya_spokojnaya_muzyka (www.vozmimp3.com).mp3" descr=""/>
          <p:cNvPicPr/>
          <p:nvPr/>
        </p:nvPicPr>
        <p:blipFill>
          <a:blip r:embed="rId2"/>
          <a:stretch/>
        </p:blipFill>
        <p:spPr>
          <a:xfrm>
            <a:off x="864396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910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C:\Users\1\Desktop\img3203_17791_big.jpg"/>
          <p:cNvPicPr/>
          <p:nvPr/>
        </p:nvPicPr>
        <p:blipFill>
          <a:blip r:embed="rId1"/>
          <a:stretch/>
        </p:blipFill>
        <p:spPr>
          <a:xfrm>
            <a:off x="1692360" y="549360"/>
            <a:ext cx="2303280" cy="2663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C:\Users\1\Desktop\file21631.jpg"/>
          <p:cNvPicPr/>
          <p:nvPr/>
        </p:nvPicPr>
        <p:blipFill>
          <a:blip r:embed="rId2"/>
          <a:stretch/>
        </p:blipFill>
        <p:spPr>
          <a:xfrm>
            <a:off x="3924360" y="47628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C:\Users\1\Desktop\жжжж.jpg"/>
          <p:cNvPicPr/>
          <p:nvPr/>
        </p:nvPicPr>
        <p:blipFill>
          <a:blip r:embed="rId3"/>
          <a:stretch/>
        </p:blipFill>
        <p:spPr>
          <a:xfrm>
            <a:off x="6643800" y="642960"/>
            <a:ext cx="2160360" cy="2521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2411280" y="386064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Придумайте  антирекламу вредному для здоровья продукту пита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rosto-muzyka-pogoda(muzbaron.com).mp3" descr=""/>
          <p:cNvPicPr/>
          <p:nvPr/>
        </p:nvPicPr>
        <p:blipFill>
          <a:blip r:embed="rId4"/>
          <a:stretch/>
        </p:blipFill>
        <p:spPr>
          <a:xfrm>
            <a:off x="864396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1"/>
          <p:cNvSpPr/>
          <p:nvPr/>
        </p:nvSpPr>
        <p:spPr>
          <a:xfrm>
            <a:off x="2124000" y="4149720"/>
            <a:ext cx="4896000" cy="1866960"/>
          </a:xfrm>
          <a:prstGeom prst="rect">
            <a:avLst/>
          </a:prstGeom>
          <a:solidFill>
            <a:srgbClr val="d995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13" descr="C:\Users\1\Desktop\Общение\картинки - общение\parcerias.jpg"/>
          <p:cNvPicPr/>
          <p:nvPr/>
        </p:nvPicPr>
        <p:blipFill>
          <a:blip r:embed="rId1"/>
          <a:stretch/>
        </p:blipFill>
        <p:spPr>
          <a:xfrm>
            <a:off x="1979640" y="2060640"/>
            <a:ext cx="1824120" cy="1857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1476360" y="189000"/>
            <a:ext cx="720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Что объединяет этих людей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2" descr="C:\Users\1\Desktop\Общение\СХЕМЫ - общение\x_9fab78ee.jpg"/>
          <p:cNvPicPr/>
          <p:nvPr/>
        </p:nvPicPr>
        <p:blipFill>
          <a:blip r:embed="rId2"/>
          <a:stretch/>
        </p:blipFill>
        <p:spPr>
          <a:xfrm>
            <a:off x="4059360" y="1262160"/>
            <a:ext cx="1622160" cy="2266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C:\Users\1\Desktop\Общение\картинки - общение\Relationship-1xxou4k.jpeg"/>
          <p:cNvPicPr/>
          <p:nvPr/>
        </p:nvPicPr>
        <p:blipFill>
          <a:blip r:embed="rId3"/>
          <a:stretch/>
        </p:blipFill>
        <p:spPr>
          <a:xfrm>
            <a:off x="5796000" y="1341360"/>
            <a:ext cx="2305080" cy="2374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C:\Users\1\Desktop\Общение\картинки - общение\пп.gif"/>
          <p:cNvPicPr/>
          <p:nvPr/>
        </p:nvPicPr>
        <p:blipFill>
          <a:blip r:embed="rId4"/>
          <a:stretch/>
        </p:blipFill>
        <p:spPr>
          <a:xfrm>
            <a:off x="7229520" y="182520"/>
            <a:ext cx="1450800" cy="1378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3"/>
          <p:cNvGrpSpPr/>
          <p:nvPr/>
        </p:nvGrpSpPr>
        <p:grpSpPr>
          <a:xfrm>
            <a:off x="1884960" y="766080"/>
            <a:ext cx="2040840" cy="1603800"/>
            <a:chOff x="1884960" y="766080"/>
            <a:chExt cx="2040840" cy="1603800"/>
          </a:xfrm>
        </p:grpSpPr>
        <p:sp>
          <p:nvSpPr>
            <p:cNvPr id="85" name="AutoShape 4"/>
            <p:cNvSpPr/>
            <p:nvPr/>
          </p:nvSpPr>
          <p:spPr>
            <a:xfrm rot="15478800">
              <a:off x="2679480" y="1499760"/>
              <a:ext cx="446040" cy="357120"/>
            </a:xfrm>
            <a:prstGeom prst="cloudCallout">
              <a:avLst>
                <a:gd name="adj1" fmla="val -107861"/>
                <a:gd name="adj2" fmla="val -37898"/>
              </a:avLst>
            </a:prstGeom>
            <a:solidFill>
              <a:srgbClr val="808080"/>
            </a:soli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5"/>
            <p:cNvSpPr/>
            <p:nvPr/>
          </p:nvSpPr>
          <p:spPr>
            <a:xfrm rot="3704400">
              <a:off x="3189960" y="1040040"/>
              <a:ext cx="428760" cy="371160"/>
            </a:xfrm>
            <a:prstGeom prst="cloudCallout">
              <a:avLst>
                <a:gd name="adj1" fmla="val 307740"/>
                <a:gd name="adj2" fmla="val 204962"/>
              </a:avLst>
            </a:prstGeom>
            <a:solidFill>
              <a:srgbClr val="808080"/>
            </a:soli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6"/>
            <p:cNvSpPr/>
            <p:nvPr/>
          </p:nvSpPr>
          <p:spPr>
            <a:xfrm rot="21008400">
              <a:off x="2333160" y="1144080"/>
              <a:ext cx="396720" cy="465120"/>
            </a:xfrm>
            <a:prstGeom prst="cloudCallout">
              <a:avLst>
                <a:gd name="adj1" fmla="val -37032"/>
                <a:gd name="adj2" fmla="val 208652"/>
              </a:avLst>
            </a:prstGeom>
            <a:solidFill>
              <a:srgbClr val="808080"/>
            </a:soli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AutoShape 7"/>
            <p:cNvSpPr/>
            <p:nvPr/>
          </p:nvSpPr>
          <p:spPr>
            <a:xfrm rot="19603800">
              <a:off x="2727000" y="836280"/>
              <a:ext cx="379080" cy="411120"/>
            </a:xfrm>
            <a:prstGeom prst="cloudCallout">
              <a:avLst>
                <a:gd name="adj1" fmla="val -68370"/>
                <a:gd name="adj2" fmla="val 215796"/>
              </a:avLst>
            </a:prstGeom>
            <a:solidFill>
              <a:srgbClr val="808080"/>
            </a:soli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AutoShape 8"/>
            <p:cNvSpPr/>
            <p:nvPr/>
          </p:nvSpPr>
          <p:spPr>
            <a:xfrm rot="19962000">
              <a:off x="1950480" y="1174320"/>
              <a:ext cx="382320" cy="379440"/>
            </a:xfrm>
            <a:prstGeom prst="cloudCallout">
              <a:avLst>
                <a:gd name="adj1" fmla="val -38449"/>
                <a:gd name="adj2" fmla="val 343361"/>
              </a:avLst>
            </a:prstGeom>
            <a:solidFill>
              <a:srgbClr val="808080"/>
            </a:soli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AutoShape 9"/>
            <p:cNvSpPr/>
            <p:nvPr/>
          </p:nvSpPr>
          <p:spPr>
            <a:xfrm rot="16200000">
              <a:off x="1882440" y="1971360"/>
              <a:ext cx="423720" cy="372960"/>
            </a:xfrm>
            <a:prstGeom prst="cloudCallout">
              <a:avLst>
                <a:gd name="adj1" fmla="val -179699"/>
                <a:gd name="adj2" fmla="val 111953"/>
              </a:avLst>
            </a:prstGeom>
            <a:solidFill>
              <a:srgbClr val="808080"/>
            </a:soli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10"/>
            <p:cNvSpPr/>
            <p:nvPr/>
          </p:nvSpPr>
          <p:spPr>
            <a:xfrm>
              <a:off x="3498840" y="1609920"/>
              <a:ext cx="426960" cy="387360"/>
            </a:xfrm>
            <a:prstGeom prst="cloudCallout">
              <a:avLst>
                <a:gd name="adj1" fmla="val -78875"/>
                <a:gd name="adj2" fmla="val 226680"/>
              </a:avLst>
            </a:prstGeom>
            <a:solidFill>
              <a:srgbClr val="808080"/>
            </a:soli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Рисунок 15" descr="C:\Users\1\Desktop\Проект фильм -МЕДАЛИ\для фильма Медалисты\bg-b.gif"/>
          <p:cNvPicPr/>
          <p:nvPr/>
        </p:nvPicPr>
        <p:blipFill>
          <a:blip r:embed="rId5"/>
          <a:stretch/>
        </p:blipFill>
        <p:spPr>
          <a:xfrm>
            <a:off x="2268360" y="4292640"/>
            <a:ext cx="4607280" cy="158436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93" name="AutoShape 12"/>
          <p:cNvSpPr/>
          <p:nvPr/>
        </p:nvSpPr>
        <p:spPr>
          <a:xfrm>
            <a:off x="6588000" y="4149720"/>
            <a:ext cx="2340000" cy="1943280"/>
          </a:xfrm>
          <a:prstGeom prst="leftArrowCallout">
            <a:avLst>
              <a:gd name="adj1" fmla="val 25002"/>
              <a:gd name="adj2" fmla="val 25000"/>
              <a:gd name="adj3" fmla="val 23029"/>
              <a:gd name="adj4" fmla="val 66673"/>
            </a:avLst>
          </a:prstGeom>
          <a:solidFill>
            <a:srgbClr val="d995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14" descr="C:\Users\1\Desktop\Общение\картинки - общение\avatar_15048.jpg"/>
          <p:cNvPicPr/>
          <p:nvPr/>
        </p:nvPicPr>
        <p:blipFill>
          <a:blip r:embed="rId6"/>
          <a:stretch/>
        </p:blipFill>
        <p:spPr>
          <a:xfrm>
            <a:off x="7516800" y="4359240"/>
            <a:ext cx="1309680" cy="15969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4859280" y="4581360"/>
            <a:ext cx="18003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411280" y="4581360"/>
            <a:ext cx="18003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716360" y="4365720"/>
            <a:ext cx="21081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Полезные привыч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2411280" y="4365720"/>
            <a:ext cx="21081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Вредные  привыч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2556000" y="2787840"/>
            <a:ext cx="62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7 апреля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всей планете люди отмечают День здоровья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57d"/>
                </a:solidFill>
                <a:latin typeface="Times New Roman"/>
              </a:rPr>
              <a:t>Здоровье </a:t>
            </a:r>
            <a:r>
              <a:rPr b="1" lang="ru-RU" sz="3600" spc="-1" strike="noStrike">
                <a:solidFill>
                  <a:srgbClr val="57257d"/>
                </a:solidFill>
                <a:latin typeface="Calibri"/>
              </a:rPr>
              <a:t>–</a:t>
            </a:r>
            <a:r>
              <a:rPr b="1" lang="ru-RU" sz="3600" spc="-1" strike="noStrike">
                <a:solidFill>
                  <a:srgbClr val="57257d"/>
                </a:solidFill>
                <a:latin typeface="Times New Roman"/>
              </a:rPr>
              <a:t> это самое дорогое, что есть у человека.</a:t>
            </a:r>
            <a:r>
              <a:rPr b="0" lang="ru-RU" sz="3600" spc="-1" strike="noStrike">
                <a:solidFill>
                  <a:srgbClr val="57257d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1\Desktop\ВИТАМИНЫ\z_logoббб.jpg"/>
          <p:cNvPicPr/>
          <p:nvPr/>
        </p:nvPicPr>
        <p:blipFill>
          <a:blip r:embed="rId1"/>
          <a:stretch/>
        </p:blipFill>
        <p:spPr>
          <a:xfrm>
            <a:off x="1979640" y="260280"/>
            <a:ext cx="6889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2484360" y="4690440"/>
            <a:ext cx="61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Times New Roman"/>
              </a:rPr>
              <a:t>Каждый день начинайте с улыбки и  хорошего настроения. Это очень важно для  вашего здоровья и здоровья окружающ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:\Users\1\Desktop\Смайлики\full_img.jpg"/>
          <p:cNvPicPr/>
          <p:nvPr/>
        </p:nvPicPr>
        <p:blipFill>
          <a:blip r:embed="rId1">
            <a:lum contrast="20000"/>
          </a:blip>
          <a:stretch/>
        </p:blipFill>
        <p:spPr>
          <a:xfrm rot="708000">
            <a:off x="4106880" y="475920"/>
            <a:ext cx="464184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1187280" y="620640"/>
            <a:ext cx="33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рив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«Хороше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настроение»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super_melodiya_-_krasivaya_spokojnaya_muzyka (www.vozmimp3.com).mp3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910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Паша</cp:lastModifiedBy>
  <dcterms:modified xsi:type="dcterms:W3CDTF">2022-04-12T14:19:54Z</dcterms:modified>
  <cp:revision>23</cp:revision>
  <dc:subject/>
  <dc:title>Шаблон презентации</dc:title>
</cp:coreProperties>
</file>