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7.jpeg" ContentType="image/jpeg"/>
  <Override PartName="/ppt/media/CLAP.WAV" ContentType="audio/x-wav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GLASS.WAV" ContentType="audio/x-wav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PROJCTOR.WAV" ContentType="audio/x-wav"/>
  <Override PartName="/ppt/media/image1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B48-20E0-46DB-B094-0E668F5C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E52-B445-4AB9-97FA-C4469FB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B71-4943-491C-9AB4-8577D59A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EB7-2520-4CC1-832C-E8891A82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7C7-EAF4-456F-83D1-615E675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CC0-B869-4EA8-B8A6-4A36B04F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ECE-A970-40A0-8988-CF5F7CC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A84-01C7-4A78-8B4D-A6E8811E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D60-AA9F-4550-8380-1EBA57B3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5CE-507E-458B-89DC-39159E5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BF4-DDD8-47E1-8A98-2E693222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103-458D-4BCD-B8AE-A044BA3B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5472A-D19A-431F-811F-A000049E9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0"/>
            <a:ext cx="7632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tencil Std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Stencil Std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Stencil Std"/>
              </a:rPr>
              <a:t>Один день…</a:t>
            </a:r>
            <a:r>
              <a:rPr b="1" i="1" lang="ru-RU" sz="4000" spc="-1" strike="noStrike">
                <a:solidFill>
                  <a:srgbClr val="000000"/>
                </a:solidFill>
                <a:latin typeface="Stencil Std"/>
              </a:rPr>
              <a:t>   ил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Stencil Std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Stencil Std"/>
              </a:rPr>
              <a:t>Как  был  откры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tencil Std"/>
              </a:rPr>
              <a:t>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Stencil Std"/>
              </a:rPr>
              <a:t>Великий зак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640" y="335772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 Епанешнико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-ся 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Ноово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  Шурыг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лина  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471672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ы  Л. Мей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664000" cy="266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419640" y="1989000"/>
            <a:ext cx="5580000" cy="3230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840" y="5157720"/>
            <a:ext cx="809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64 году немецкий исследовател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отар Мей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лож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у для 27 элементов, разбитых на 6 групп, согласно их вал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0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ы И.В Деберейн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313080" cy="381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2924280"/>
            <a:ext cx="465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ецкий хим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оган-Вольфга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берейне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по тр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ТРИ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0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H="1">
            <a:off x="5981760" y="3576600"/>
            <a:ext cx="1465200" cy="16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49800" y="2903400"/>
            <a:ext cx="1689120" cy="11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625640" y="2208240"/>
            <a:ext cx="1622520" cy="67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90880" y="1438200"/>
            <a:ext cx="204336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120840" y="533520"/>
            <a:ext cx="2825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-1755720"/>
            <a:ext cx="5791320" cy="5791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берей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e718e"/>
              </a:gs>
              <a:gs pos="50000">
                <a:srgbClr val="ffccff"/>
              </a:gs>
              <a:gs pos="100000">
                <a:srgbClr val="8e718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0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GLASS.WAV"/>
                            </p:tgtEl>
                          </p:cMediaNode>
                        </p:audio>
                        <p:par>
                          <p:cTn id="23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PROJCTOR.WAV"/>
                            </p:tgtEl>
                          </p:cMediaNode>
                        </p:audio>
                        <p:par>
                          <p:cTn id="23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PROJCTOR.WAV"/>
                            </p:tgtEl>
                          </p:cMediaNode>
                        </p:audio>
                        <p:par>
                          <p:cTn id="24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5" name="PROJCTOR.WAV"/>
                            </p:tgtEl>
                          </p:cMediaNode>
                        </p:audio>
                        <p:par>
                          <p:cTn id="25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6" name="PROJCTOR.WAV"/>
                            </p:tgtEl>
                          </p:cMediaNode>
                        </p:audio>
                        <p:par>
                          <p:cTn id="26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7" name="PROJCTOR.WAV"/>
                            </p:tgtEl>
                          </p:cMediaNode>
                        </p:audio>
                        <p:par>
                          <p:cTn id="26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8" name="PROJCTOR.WAV"/>
                            </p:tgtEl>
                          </p:cMediaNode>
                        </p:audio>
                        <p:par>
                          <p:cTn id="272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9" name="PROJCTOR.WAV"/>
                            </p:tgtEl>
                          </p:cMediaNode>
                        </p:audio>
                        <p:par>
                          <p:cTn id="277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0" name="PROJCTOR.WAV"/>
                            </p:tgtEl>
                          </p:cMediaNode>
                        </p:audio>
                        <p:par>
                          <p:cTn id="282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1" name="PROJCTOR.WAV"/>
                            </p:tgtEl>
                          </p:cMediaNode>
                        </p:audio>
                        <p:par>
                          <p:cTn id="287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2" name="PROJCTOR.WAV"/>
                            </p:tgtEl>
                          </p:cMediaNode>
                        </p:audio>
                        <p:par>
                          <p:cTn id="292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0"/>
            <a:ext cx="9144000" cy="8567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ата рождения  периодического зако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то произошло в пасмурный и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-зимнему сырой петербургск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4 февраля  1869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(1 Марта – по новому стил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dur="indefinite" fill="hold">
                      <p:stCondLst>
                        <p:cond delay="0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84360" y="0"/>
            <a:ext cx="46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зак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97000"/>
            <a:ext cx="456228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Случилось в Петербурге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ор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л учебник для студентов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умался невольно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ак рассказать про элемен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 ли тут найти зако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али многие' реше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, проходя лишь полпу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сали. Мучило сомнен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 можно ли закон найти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 состоит из'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 то время знали шестьдеся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сколько их всего? Н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 ответить науг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не гадал, а вер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ут должен, должен быть закон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ямо он искал реш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 Труд, Надежда и Терпенье,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ера в то, что он найд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так работал цел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92720" y="1627200"/>
            <a:ext cx="3043080" cy="453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dur="indefinite" fill="hold">
                      <p:stCondLst>
                        <p:cond delay="0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16000" y="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гда, усталостью сражен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г на диван и видит сон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447920"/>
            <a:ext cx="518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кружили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мельк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водили хорово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взрывали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пыл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шип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сверк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в покое пребыв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юминий, Натрий, Кал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тор, Бериллий, Водород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путались все    свой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далеко до беды. Вдруг коман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ойся, войско! —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ли строиться в ряды. Во втором ряду волненье: все боятся окисленья. Третий ряд! Трубите сбо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тр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юми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ем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сфо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о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поряд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зак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встали в ря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924360" cy="32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0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32000" y="522360"/>
            <a:ext cx="518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ыходит, что в колонну все похожие стоя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            O         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           S          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мечательный     подбор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яд  пристраивая к ряду ,  а рядов – то десять к ря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аллы под металлами,  едкие под едки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кие под ковкими  идут своими клет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порядку всё стоит,  вот природы Алфав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1052640"/>
            <a:ext cx="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14172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 я отобрал тела с наименьшим атомным весом и расположил их по по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ы их атомного веса. При этом оказалось, что существует как б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 простых тел, и даже по атом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ы следуют друг за друг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ядке арифметической последовательности величины их п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 = 7;     Be = 9,4;      B = 11;       C = 12;     N = 14;    O = 16;      F = 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=23;   Mg = 24;     Al = 27,4;    Si = 28;    P = 31;     S = 32;      Cl = 35,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39;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0;      ----------  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50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51;    ---------;     ---------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ряде элементов, имеющих пай более 100, встречаем аналог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ерывный р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 = 108; Cd = 112; Ur = 116; Sn =118; Sb = 122; Te = 128; J = 12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8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dur="indefinite" fill="hold">
                      <p:stCondLst>
                        <p:cond delay="indefinite"/>
                      </p:stCondLst>
                      <p:childTnLst>
                        <p:par>
                          <p:cTn id="5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улировка Периодического Зако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.И. Менделеев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ойства  простых тел, а  так  же  формы и свойства  их  соединений,  находятся в  периодической зависимости  от  величины  атомных  весов элемент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dur="indefinite" fill="hold">
                      <p:stCondLst>
                        <p:cond delay="0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dur="indefinite" fill="hold">
                      <p:stCondLst>
                        <p:cond delay="indefinite"/>
                      </p:stCondLst>
                      <p:childTnLst>
                        <p:par>
                          <p:cTn id="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dur="indefinite" fill="hold">
                      <p:stCondLst>
                        <p:cond delay="indefinite"/>
                      </p:stCondLst>
                      <p:childTnLst>
                        <p:par>
                          <p:cTn id="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c00ac"/>
                </a:solidFill>
                <a:latin typeface="Arial"/>
              </a:rPr>
              <a:t>Таблица известных элементов к моменту открытия зак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4000" y="1628640"/>
            <a:ext cx="8496000" cy="4824720"/>
            <a:chOff x="324000" y="1628640"/>
            <a:chExt cx="8496000" cy="4824720"/>
          </a:xfrm>
        </p:grpSpPr>
        <p:grpSp>
          <p:nvGrpSpPr>
            <p:cNvPr id="119" name=""/>
            <p:cNvGrpSpPr/>
            <p:nvPr/>
          </p:nvGrpSpPr>
          <p:grpSpPr>
            <a:xfrm>
              <a:off x="330120" y="1630440"/>
              <a:ext cx="8481960" cy="4822920"/>
              <a:chOff x="330120" y="1630440"/>
              <a:chExt cx="8481960" cy="48229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330120" y="1630440"/>
                <a:ext cx="1022400" cy="217440"/>
                <a:chOff x="330120" y="1630440"/>
                <a:chExt cx="1022400" cy="2174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19040" y="163044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30120" y="163044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352520" y="1630440"/>
                <a:ext cx="1805040" cy="217440"/>
                <a:chOff x="1352520" y="1630440"/>
                <a:chExt cx="1805040" cy="2174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441440" y="163044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еребр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352520" y="163044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57560" y="1630440"/>
                <a:ext cx="934920" cy="217440"/>
                <a:chOff x="3157560" y="1630440"/>
                <a:chExt cx="934920" cy="217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246480" y="163044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157560" y="163044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092480" y="1630440"/>
                <a:ext cx="1890720" cy="217440"/>
                <a:chOff x="4092480" y="1630440"/>
                <a:chExt cx="1890720" cy="217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181400" y="163044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одоро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092480" y="163044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985000" y="1630440"/>
                <a:ext cx="847440" cy="217440"/>
                <a:chOff x="5985000" y="1630440"/>
                <a:chExt cx="847440" cy="2174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073920" y="163044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985000" y="163044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834240" y="1630440"/>
                <a:ext cx="1977840" cy="217440"/>
                <a:chOff x="6834240" y="1630440"/>
                <a:chExt cx="1977840" cy="2174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923160" y="163044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о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834240" y="163044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30120" y="1846440"/>
                <a:ext cx="1022400" cy="217440"/>
                <a:chOff x="330120" y="1846440"/>
                <a:chExt cx="1022400" cy="217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19040" y="184644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0120" y="184644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352520" y="1846440"/>
                <a:ext cx="1805040" cy="217440"/>
                <a:chOff x="1352520" y="1846440"/>
                <a:chExt cx="1805040" cy="217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441440" y="184644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люмин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352520" y="184644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157560" y="1846440"/>
                <a:ext cx="934920" cy="217440"/>
                <a:chOff x="3157560" y="1846440"/>
                <a:chExt cx="934920" cy="2174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246480" y="184644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157560" y="184644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092480" y="1846440"/>
                <a:ext cx="1890720" cy="217440"/>
                <a:chOff x="4092480" y="1846440"/>
                <a:chExt cx="1890720" cy="217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181400" y="184644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тут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092480" y="184644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985000" y="1846440"/>
                <a:ext cx="847440" cy="217440"/>
                <a:chOff x="5985000" y="1846440"/>
                <a:chExt cx="847440" cy="2174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73920" y="184644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985000" y="184644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834240" y="1846440"/>
                <a:ext cx="1977840" cy="217440"/>
                <a:chOff x="6834240" y="1846440"/>
                <a:chExt cx="1977840" cy="2174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923160" y="184644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утен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834240" y="184644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30120" y="2063880"/>
                <a:ext cx="1022400" cy="217440"/>
                <a:chOff x="330120" y="2063880"/>
                <a:chExt cx="1022400" cy="217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19040" y="206388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30120" y="206388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52520" y="2063880"/>
                <a:ext cx="1805040" cy="217440"/>
                <a:chOff x="1352520" y="2063880"/>
                <a:chExt cx="1805040" cy="2174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41440" y="206388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ышья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52520" y="206388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157560" y="2063880"/>
                <a:ext cx="934920" cy="217440"/>
                <a:chOff x="3157560" y="2063880"/>
                <a:chExt cx="934920" cy="217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246480" y="206388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157560" y="206388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092480" y="2063880"/>
                <a:ext cx="1890720" cy="217440"/>
                <a:chOff x="4092480" y="2063880"/>
                <a:chExt cx="1890720" cy="2174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181400" y="206388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н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092480" y="206388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985000" y="2063880"/>
                <a:ext cx="847440" cy="217440"/>
                <a:chOff x="5985000" y="2063880"/>
                <a:chExt cx="847440" cy="217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73920" y="206388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985000" y="206388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834240" y="2063880"/>
                <a:ext cx="1977840" cy="217440"/>
                <a:chOff x="6834240" y="2063880"/>
                <a:chExt cx="1977840" cy="217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923160" y="206388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ер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834240" y="206388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30120" y="2281320"/>
                <a:ext cx="1022400" cy="217440"/>
                <a:chOff x="330120" y="2281320"/>
                <a:chExt cx="1022400" cy="2174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19040" y="228132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0120" y="228132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352520" y="2281320"/>
                <a:ext cx="1805040" cy="217440"/>
                <a:chOff x="1352520" y="2281320"/>
                <a:chExt cx="1805040" cy="2174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441440" y="228132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олот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352520" y="228132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157560" y="2281320"/>
                <a:ext cx="934920" cy="217440"/>
                <a:chOff x="3157560" y="2281320"/>
                <a:chExt cx="934920" cy="2174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46480" y="228132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157560" y="228132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092480" y="2281320"/>
                <a:ext cx="1890720" cy="217440"/>
                <a:chOff x="4092480" y="2281320"/>
                <a:chExt cx="1890720" cy="217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81400" y="228132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ри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092480" y="228132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985000" y="2281320"/>
                <a:ext cx="847440" cy="217440"/>
                <a:chOff x="5985000" y="2281320"/>
                <a:chExt cx="847440" cy="2174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73920" y="228132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985000" y="228132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834240" y="2281320"/>
                <a:ext cx="1977840" cy="217440"/>
                <a:chOff x="6834240" y="2281320"/>
                <a:chExt cx="1977840" cy="2174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923160" y="228132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урьм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834240" y="228132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30120" y="2496960"/>
                <a:ext cx="1022400" cy="217800"/>
                <a:chOff x="330120" y="2496960"/>
                <a:chExt cx="1022400" cy="217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19040" y="249696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30120" y="249696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352520" y="2496960"/>
                <a:ext cx="1805040" cy="217800"/>
                <a:chOff x="1352520" y="2496960"/>
                <a:chExt cx="1805040" cy="2178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441440" y="249696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о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52520" y="249696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157560" y="2496960"/>
                <a:ext cx="934920" cy="217800"/>
                <a:chOff x="3157560" y="2496960"/>
                <a:chExt cx="934920" cy="217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246480" y="249696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157560" y="249696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092480" y="2496960"/>
                <a:ext cx="1890720" cy="217800"/>
                <a:chOff x="4092480" y="2496960"/>
                <a:chExt cx="1890720" cy="217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181400" y="249696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йо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92480" y="249696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985000" y="2496960"/>
                <a:ext cx="847440" cy="217800"/>
                <a:chOff x="5985000" y="2496960"/>
                <a:chExt cx="847440" cy="2178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73920" y="249696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85000" y="249696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834240" y="2496960"/>
                <a:ext cx="1977840" cy="217800"/>
                <a:chOff x="6834240" y="2496960"/>
                <a:chExt cx="1977840" cy="2178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923160" y="249696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еле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34240" y="249696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30120" y="2714760"/>
                <a:ext cx="1022400" cy="217440"/>
                <a:chOff x="330120" y="2714760"/>
                <a:chExt cx="1022400" cy="217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19040" y="271476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0120" y="271476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352520" y="2714760"/>
                <a:ext cx="1805040" cy="217440"/>
                <a:chOff x="1352520" y="2714760"/>
                <a:chExt cx="1805040" cy="2174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441440" y="271476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а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352520" y="271476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57560" y="2714760"/>
                <a:ext cx="934920" cy="217440"/>
                <a:chOff x="3157560" y="2714760"/>
                <a:chExt cx="934920" cy="2174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46480" y="271476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57560" y="271476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092480" y="2714760"/>
                <a:ext cx="1890720" cy="217440"/>
                <a:chOff x="4092480" y="2714760"/>
                <a:chExt cx="1890720" cy="2174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181400" y="271476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л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092480" y="271476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985000" y="2714760"/>
                <a:ext cx="847440" cy="217440"/>
                <a:chOff x="5985000" y="2714760"/>
                <a:chExt cx="847440" cy="2174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073920" y="271476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85000" y="271476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834240" y="2714760"/>
                <a:ext cx="1977840" cy="217440"/>
                <a:chOff x="6834240" y="2714760"/>
                <a:chExt cx="1977840" cy="2174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923160" y="271476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ремний, силиций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834240" y="271476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30120" y="2932200"/>
                <a:ext cx="1022400" cy="217440"/>
                <a:chOff x="330120" y="2932200"/>
                <a:chExt cx="1022400" cy="217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19040" y="293220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30120" y="293220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352520" y="2932200"/>
                <a:ext cx="1805040" cy="217440"/>
                <a:chOff x="1352520" y="2932200"/>
                <a:chExt cx="1805040" cy="2174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441440" y="293220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ериллий, глиций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52520" y="293220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157560" y="2932200"/>
                <a:ext cx="934920" cy="217440"/>
                <a:chOff x="3157560" y="2932200"/>
                <a:chExt cx="934920" cy="2174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246480" y="293220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157560" y="293220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092480" y="2932200"/>
                <a:ext cx="1890720" cy="217440"/>
                <a:chOff x="4092480" y="2932200"/>
                <a:chExt cx="1890720" cy="2174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181400" y="293220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анта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92480" y="293220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985000" y="2932200"/>
                <a:ext cx="847440" cy="217440"/>
                <a:chOff x="5985000" y="2932200"/>
                <a:chExt cx="847440" cy="2174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73920" y="293220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85000" y="293220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834240" y="2932200"/>
                <a:ext cx="1977840" cy="217440"/>
                <a:chOff x="6834240" y="2932200"/>
                <a:chExt cx="1977840" cy="2174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923160" y="293220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лов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834240" y="293220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30120" y="3147840"/>
                <a:ext cx="1022400" cy="217800"/>
                <a:chOff x="330120" y="3147840"/>
                <a:chExt cx="1022400" cy="2178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19040" y="314784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30120" y="314784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1352520" y="3147840"/>
                <a:ext cx="1805040" cy="217800"/>
                <a:chOff x="1352520" y="3147840"/>
                <a:chExt cx="1805040" cy="2178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441440" y="314784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сму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352520" y="314784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157560" y="3147840"/>
                <a:ext cx="934920" cy="217800"/>
                <a:chOff x="3157560" y="3147840"/>
                <a:chExt cx="934920" cy="217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246480" y="314784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157560" y="314784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092480" y="3147840"/>
                <a:ext cx="1890720" cy="217800"/>
                <a:chOff x="4092480" y="3147840"/>
                <a:chExt cx="1890720" cy="217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181400" y="314784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ит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92480" y="314784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985000" y="3147840"/>
                <a:ext cx="847440" cy="217800"/>
                <a:chOff x="5985000" y="3147840"/>
                <a:chExt cx="847440" cy="2178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073920" y="314784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85000" y="314784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834240" y="3147840"/>
                <a:ext cx="1977840" cy="217800"/>
                <a:chOff x="6834240" y="3147840"/>
                <a:chExt cx="1977840" cy="2178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923160" y="314784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тронц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834240" y="314784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30120" y="3365640"/>
                <a:ext cx="1022400" cy="217440"/>
                <a:chOff x="330120" y="3365640"/>
                <a:chExt cx="1022400" cy="2174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19040" y="336564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30120" y="336564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352520" y="3365640"/>
                <a:ext cx="1805040" cy="217440"/>
                <a:chOff x="1352520" y="3365640"/>
                <a:chExt cx="1805040" cy="2174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441440" y="336564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52520" y="336564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157560" y="3365640"/>
                <a:ext cx="934920" cy="217440"/>
                <a:chOff x="3157560" y="3365640"/>
                <a:chExt cx="934920" cy="217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246480" y="336564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157560" y="336564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092480" y="3365640"/>
                <a:ext cx="1890720" cy="217440"/>
                <a:chOff x="4092480" y="3365640"/>
                <a:chExt cx="1890720" cy="217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181400" y="336564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агн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092480" y="336564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985000" y="3365640"/>
                <a:ext cx="847440" cy="217440"/>
                <a:chOff x="5985000" y="3365640"/>
                <a:chExt cx="847440" cy="217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073920" y="336564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985000" y="336564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834240" y="3365640"/>
                <a:ext cx="1977840" cy="217440"/>
                <a:chOff x="6834240" y="3365640"/>
                <a:chExt cx="1977840" cy="217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923160" y="336564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анта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834240" y="336564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30120" y="3583080"/>
                <a:ext cx="1022400" cy="217440"/>
                <a:chOff x="330120" y="3583080"/>
                <a:chExt cx="1022400" cy="2174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19040" y="358308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0120" y="358308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352520" y="3583080"/>
                <a:ext cx="1805040" cy="217440"/>
                <a:chOff x="1352520" y="3583080"/>
                <a:chExt cx="1805040" cy="2174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441440" y="358308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глеро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352520" y="358308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157560" y="3583080"/>
                <a:ext cx="934920" cy="217440"/>
                <a:chOff x="3157560" y="3583080"/>
                <a:chExt cx="934920" cy="2174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246480" y="358308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57560" y="358308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092480" y="3583080"/>
                <a:ext cx="1890720" cy="217440"/>
                <a:chOff x="4092480" y="3583080"/>
                <a:chExt cx="1890720" cy="2174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181400" y="358308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арганец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092480" y="358308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985000" y="3583080"/>
                <a:ext cx="847440" cy="217440"/>
                <a:chOff x="5985000" y="3583080"/>
                <a:chExt cx="847440" cy="2174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073920" y="358308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85000" y="358308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834240" y="3583080"/>
                <a:ext cx="1977840" cy="217440"/>
                <a:chOff x="6834240" y="3583080"/>
                <a:chExt cx="1977840" cy="217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923160" y="358308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тербий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834240" y="358308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30120" y="3798720"/>
                <a:ext cx="1022400" cy="217800"/>
                <a:chOff x="330120" y="3798720"/>
                <a:chExt cx="1022400" cy="217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19040" y="379872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30120" y="379872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352520" y="3798720"/>
                <a:ext cx="1805040" cy="217800"/>
                <a:chOff x="1352520" y="3798720"/>
                <a:chExt cx="1805040" cy="2178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441440" y="379872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льц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352520" y="379872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157560" y="3798720"/>
                <a:ext cx="934920" cy="217800"/>
                <a:chOff x="3157560" y="3798720"/>
                <a:chExt cx="934920" cy="217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246480" y="379872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57560" y="379872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092480" y="3798720"/>
                <a:ext cx="1890720" cy="217800"/>
                <a:chOff x="4092480" y="3798720"/>
                <a:chExt cx="1890720" cy="217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181400" y="379872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олибде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092480" y="379872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85000" y="3798720"/>
                <a:ext cx="847440" cy="217800"/>
                <a:chOff x="5985000" y="3798720"/>
                <a:chExt cx="847440" cy="217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073920" y="379872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85000" y="379872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834240" y="3798720"/>
                <a:ext cx="1977840" cy="217800"/>
                <a:chOff x="6834240" y="3798720"/>
                <a:chExt cx="1977840" cy="217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923160" y="379872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еллу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834240" y="379872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30120" y="4016520"/>
                <a:ext cx="1022400" cy="217440"/>
                <a:chOff x="330120" y="4016520"/>
                <a:chExt cx="1022400" cy="2174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19040" y="401652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30120" y="401652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352520" y="4016520"/>
                <a:ext cx="1805040" cy="217440"/>
                <a:chOff x="1352520" y="4016520"/>
                <a:chExt cx="1805040" cy="2174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441440" y="401652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дм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352520" y="401652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157560" y="4016520"/>
                <a:ext cx="934920" cy="217440"/>
                <a:chOff x="3157560" y="4016520"/>
                <a:chExt cx="934920" cy="2174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246480" y="401652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157560" y="401652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092480" y="4016520"/>
                <a:ext cx="1890720" cy="217440"/>
                <a:chOff x="4092480" y="4016520"/>
                <a:chExt cx="1890720" cy="2174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181400" y="401652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зо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092480" y="401652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985000" y="4016520"/>
                <a:ext cx="847440" cy="217440"/>
                <a:chOff x="5985000" y="4016520"/>
                <a:chExt cx="847440" cy="2174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073920" y="401652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985000" y="401652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834240" y="4016520"/>
                <a:ext cx="1977840" cy="217440"/>
                <a:chOff x="6834240" y="4016520"/>
                <a:chExt cx="1977840" cy="217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923160" y="401652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о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834240" y="401652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330120" y="4233960"/>
                <a:ext cx="1022400" cy="217440"/>
                <a:chOff x="330120" y="4233960"/>
                <a:chExt cx="1022400" cy="217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19040" y="423396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30120" y="423396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352520" y="4233960"/>
                <a:ext cx="1805040" cy="217440"/>
                <a:chOff x="1352520" y="4233960"/>
                <a:chExt cx="1805040" cy="217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441440" y="423396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е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352520" y="423396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157560" y="4233960"/>
                <a:ext cx="934920" cy="217440"/>
                <a:chOff x="3157560" y="4233960"/>
                <a:chExt cx="934920" cy="217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246480" y="423396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57560" y="423396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092480" y="4233960"/>
                <a:ext cx="1890720" cy="217440"/>
                <a:chOff x="4092480" y="4233960"/>
                <a:chExt cx="1890720" cy="2174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181400" y="423396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т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092480" y="423396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985000" y="4233960"/>
                <a:ext cx="847440" cy="217440"/>
                <a:chOff x="5985000" y="4233960"/>
                <a:chExt cx="847440" cy="217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073920" y="423396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85000" y="423396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834240" y="4233960"/>
                <a:ext cx="1977840" cy="217440"/>
                <a:chOff x="6834240" y="4233960"/>
                <a:chExt cx="1977840" cy="2174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923160" y="423396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ита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834240" y="423396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30120" y="4449600"/>
                <a:ext cx="1022400" cy="217800"/>
                <a:chOff x="330120" y="4449600"/>
                <a:chExt cx="1022400" cy="2178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19040" y="444960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30120" y="444960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1352520" y="4449600"/>
                <a:ext cx="1805040" cy="217800"/>
                <a:chOff x="1352520" y="4449600"/>
                <a:chExt cx="1805040" cy="2178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441440" y="444960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ло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52520" y="444960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157560" y="4449600"/>
                <a:ext cx="934920" cy="217800"/>
                <a:chOff x="3157560" y="4449600"/>
                <a:chExt cx="934920" cy="2178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246480" y="444960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157560" y="444960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092480" y="4449600"/>
                <a:ext cx="1890720" cy="217800"/>
                <a:chOff x="4092480" y="4449600"/>
                <a:chExt cx="1890720" cy="2178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181400" y="444960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иоб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92480" y="444960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985000" y="4449600"/>
                <a:ext cx="847440" cy="217800"/>
                <a:chOff x="5985000" y="4449600"/>
                <a:chExt cx="847440" cy="2178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073920" y="444960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85000" y="444960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834240" y="4449600"/>
                <a:ext cx="1977840" cy="217800"/>
                <a:chOff x="6834240" y="4449600"/>
                <a:chExt cx="1977840" cy="2178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923160" y="444960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алл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834240" y="444960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330120" y="4667400"/>
                <a:ext cx="1022400" cy="217440"/>
                <a:chOff x="330120" y="4667400"/>
                <a:chExt cx="1022400" cy="2174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19040" y="466740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30120" y="466740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1352520" y="4667400"/>
                <a:ext cx="1805040" cy="217440"/>
                <a:chOff x="1352520" y="4667400"/>
                <a:chExt cx="1805040" cy="2174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1441440" y="466740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обаль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2520" y="466740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157560" y="4667400"/>
                <a:ext cx="934920" cy="217440"/>
                <a:chOff x="3157560" y="4667400"/>
                <a:chExt cx="934920" cy="2174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246480" y="466740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157560" y="466740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092480" y="4667400"/>
                <a:ext cx="1890720" cy="217440"/>
                <a:chOff x="4092480" y="4667400"/>
                <a:chExt cx="1890720" cy="2174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181400" y="466740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ик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092480" y="466740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985000" y="4667400"/>
                <a:ext cx="847440" cy="217440"/>
                <a:chOff x="5985000" y="4667400"/>
                <a:chExt cx="847440" cy="2174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073920" y="466740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985000" y="466740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34240" y="4667400"/>
                <a:ext cx="1977840" cy="217440"/>
                <a:chOff x="6834240" y="4667400"/>
                <a:chExt cx="1977840" cy="2174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923160" y="466740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ра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834240" y="466740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30120" y="4884840"/>
                <a:ext cx="1022400" cy="217440"/>
                <a:chOff x="330120" y="4884840"/>
                <a:chExt cx="1022400" cy="2174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19040" y="488484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30120" y="488484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1352520" y="4884840"/>
                <a:ext cx="1805040" cy="217440"/>
                <a:chOff x="1352520" y="4884840"/>
                <a:chExt cx="1805040" cy="2174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441440" y="488484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352520" y="488484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3157560" y="4884840"/>
                <a:ext cx="934920" cy="217440"/>
                <a:chOff x="3157560" y="4884840"/>
                <a:chExt cx="93492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3246480" y="488484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157560" y="488484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092480" y="4884840"/>
                <a:ext cx="1890720" cy="217440"/>
                <a:chOff x="4092480" y="4884840"/>
                <a:chExt cx="1890720" cy="2174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81400" y="488484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ислоро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092480" y="488484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985000" y="4884840"/>
                <a:ext cx="847440" cy="217440"/>
                <a:chOff x="5985000" y="4884840"/>
                <a:chExt cx="847440" cy="2174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073920" y="488484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985000" y="488484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834240" y="4884840"/>
                <a:ext cx="1977840" cy="217440"/>
                <a:chOff x="6834240" y="4884840"/>
                <a:chExt cx="1977840" cy="2174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923160" y="488484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анадий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834240" y="488484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30120" y="5100480"/>
                <a:ext cx="1022400" cy="217800"/>
                <a:chOff x="330120" y="5100480"/>
                <a:chExt cx="1022400" cy="2178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419040" y="510048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30120" y="510048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1352520" y="5100480"/>
                <a:ext cx="1805040" cy="217800"/>
                <a:chOff x="1352520" y="5100480"/>
                <a:chExt cx="1805040" cy="2178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441440" y="510048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ез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352520" y="510048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157560" y="5100480"/>
                <a:ext cx="934920" cy="217800"/>
                <a:chOff x="3157560" y="5100480"/>
                <a:chExt cx="934920" cy="217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246480" y="510048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157560" y="510048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092480" y="5100480"/>
                <a:ext cx="1890720" cy="217800"/>
                <a:chOff x="4092480" y="5100480"/>
                <a:chExt cx="1890720" cy="2178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181400" y="510048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см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092480" y="510048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985000" y="5100480"/>
                <a:ext cx="847440" cy="217800"/>
                <a:chOff x="5985000" y="5100480"/>
                <a:chExt cx="847440" cy="2178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073920" y="510048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985000" y="510048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834240" y="5100480"/>
                <a:ext cx="1977840" cy="217800"/>
                <a:chOff x="6834240" y="5100480"/>
                <a:chExt cx="1977840" cy="2178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923160" y="510048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ольфра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834240" y="510048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30120" y="5318280"/>
                <a:ext cx="1022400" cy="217440"/>
                <a:chOff x="330120" y="5318280"/>
                <a:chExt cx="1022400" cy="2174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19040" y="531828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30120" y="531828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352520" y="5318280"/>
                <a:ext cx="1805040" cy="217440"/>
                <a:chOff x="1352520" y="5318280"/>
                <a:chExt cx="1805040" cy="217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441440" y="531828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ед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352520" y="531828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157560" y="5318280"/>
                <a:ext cx="934920" cy="217440"/>
                <a:chOff x="3157560" y="5318280"/>
                <a:chExt cx="934920" cy="217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246480" y="531828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57560" y="531828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092480" y="5318280"/>
                <a:ext cx="1890720" cy="217440"/>
                <a:chOff x="4092480" y="5318280"/>
                <a:chExt cx="1890720" cy="2174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181400" y="531828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осфо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092480" y="531828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985000" y="5318280"/>
                <a:ext cx="847440" cy="217440"/>
                <a:chOff x="5985000" y="5318280"/>
                <a:chExt cx="847440" cy="2174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073920" y="531828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985000" y="531828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834240" y="5318280"/>
                <a:ext cx="1977840" cy="217440"/>
                <a:chOff x="6834240" y="5318280"/>
                <a:chExt cx="1977840" cy="217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923160" y="531828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ттр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834240" y="531828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0120" y="5535720"/>
                <a:ext cx="1022400" cy="217440"/>
                <a:chOff x="330120" y="5535720"/>
                <a:chExt cx="1022400" cy="2174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19040" y="553572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0120" y="553572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352520" y="5535720"/>
                <a:ext cx="1805040" cy="217440"/>
                <a:chOff x="1352520" y="5535720"/>
                <a:chExt cx="1805040" cy="2174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441440" y="553572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</a:t>
                  </a: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дидимий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352520" y="553572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157560" y="5535720"/>
                <a:ext cx="934920" cy="217440"/>
                <a:chOff x="3157560" y="5535720"/>
                <a:chExt cx="934920" cy="2174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246480" y="553572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157560" y="553572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092480" y="5535720"/>
                <a:ext cx="1890720" cy="217440"/>
                <a:chOff x="4092480" y="5535720"/>
                <a:chExt cx="1890720" cy="2174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181400" y="553572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винец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092480" y="553572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5985000" y="5535720"/>
                <a:ext cx="847440" cy="217440"/>
                <a:chOff x="5985000" y="5535720"/>
                <a:chExt cx="847440" cy="2174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073920" y="553572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85000" y="553572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834240" y="5535720"/>
                <a:ext cx="1977840" cy="217440"/>
                <a:chOff x="6834240" y="5535720"/>
                <a:chExt cx="1977840" cy="217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923160" y="553572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ин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834240" y="553572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30120" y="5751360"/>
                <a:ext cx="1022400" cy="266760"/>
                <a:chOff x="330120" y="5751360"/>
                <a:chExt cx="1022400" cy="2667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19040" y="5751360"/>
                  <a:ext cx="844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30120" y="5751360"/>
                  <a:ext cx="102240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352520" y="5751360"/>
                <a:ext cx="1805040" cy="266760"/>
                <a:chOff x="1352520" y="5751360"/>
                <a:chExt cx="1805040" cy="2667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441440" y="5751360"/>
                  <a:ext cx="16272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</a:t>
                  </a: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эрбий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352520" y="5751360"/>
                  <a:ext cx="180504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157560" y="5751360"/>
                <a:ext cx="934920" cy="266760"/>
                <a:chOff x="3157560" y="5751360"/>
                <a:chExt cx="934920" cy="2667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246480" y="5751360"/>
                  <a:ext cx="75708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157560" y="5751360"/>
                  <a:ext cx="93492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092480" y="5751360"/>
                <a:ext cx="1890720" cy="266760"/>
                <a:chOff x="4092480" y="5751360"/>
                <a:chExt cx="1890720" cy="2667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181400" y="5751360"/>
                  <a:ext cx="171468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алла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092480" y="5751360"/>
                  <a:ext cx="189072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985000" y="5751360"/>
                <a:ext cx="847440" cy="266760"/>
                <a:chOff x="5985000" y="5751360"/>
                <a:chExt cx="847440" cy="266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073920" y="5751360"/>
                  <a:ext cx="6699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985000" y="5751360"/>
                  <a:ext cx="84744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834240" y="5751360"/>
                <a:ext cx="1977840" cy="266760"/>
                <a:chOff x="6834240" y="5751360"/>
                <a:chExt cx="1977840" cy="266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23160" y="5751360"/>
                  <a:ext cx="180000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ирконий, циркон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834240" y="5751360"/>
                  <a:ext cx="1977840" cy="266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330120" y="6018120"/>
                <a:ext cx="1022400" cy="217440"/>
                <a:chOff x="330120" y="6018120"/>
                <a:chExt cx="1022400" cy="2174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19040" y="6018120"/>
                  <a:ext cx="8445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30120" y="6018120"/>
                  <a:ext cx="102240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352520" y="6018120"/>
                <a:ext cx="1805040" cy="217440"/>
                <a:chOff x="1352520" y="6018120"/>
                <a:chExt cx="1805040" cy="2174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441440" y="6018120"/>
                  <a:ext cx="1627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тор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352520" y="6018120"/>
                  <a:ext cx="18050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57560" y="6018120"/>
                <a:ext cx="934920" cy="217440"/>
                <a:chOff x="3157560" y="6018120"/>
                <a:chExt cx="934920" cy="2174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246480" y="6018120"/>
                  <a:ext cx="757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57560" y="6018120"/>
                  <a:ext cx="9349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4092480" y="6018120"/>
                <a:ext cx="1890720" cy="217440"/>
                <a:chOff x="4092480" y="6018120"/>
                <a:chExt cx="1890720" cy="217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181400" y="6018120"/>
                  <a:ext cx="17146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латин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092480" y="6018120"/>
                  <a:ext cx="189072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5985000" y="6018120"/>
                <a:ext cx="847440" cy="217440"/>
                <a:chOff x="5985000" y="6018120"/>
                <a:chExt cx="847440" cy="2174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073920" y="6018120"/>
                  <a:ext cx="669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85000" y="6018120"/>
                  <a:ext cx="8474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834240" y="6018120"/>
                <a:ext cx="1977840" cy="217440"/>
                <a:chOff x="6834240" y="6018120"/>
                <a:chExt cx="1977840" cy="2174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923160" y="6018120"/>
                  <a:ext cx="18000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4240" y="6018120"/>
                  <a:ext cx="1977840" cy="2174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30120" y="6235560"/>
                <a:ext cx="1022400" cy="217800"/>
                <a:chOff x="330120" y="6235560"/>
                <a:chExt cx="1022400" cy="2178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19040" y="6235560"/>
                  <a:ext cx="8445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30120" y="6235560"/>
                  <a:ext cx="102240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352520" y="6235560"/>
                <a:ext cx="1805040" cy="217800"/>
                <a:chOff x="1352520" y="6235560"/>
                <a:chExt cx="1805040" cy="2178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441440" y="6235560"/>
                  <a:ext cx="16272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желез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352520" y="6235560"/>
                  <a:ext cx="18050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157560" y="6235560"/>
                <a:ext cx="934920" cy="217800"/>
                <a:chOff x="3157560" y="6235560"/>
                <a:chExt cx="934920" cy="2178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246480" y="6235560"/>
                  <a:ext cx="7570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57560" y="6235560"/>
                  <a:ext cx="9349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092480" y="6235560"/>
                <a:ext cx="1890720" cy="217800"/>
                <a:chOff x="4092480" y="6235560"/>
                <a:chExt cx="1890720" cy="2178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181400" y="6235560"/>
                  <a:ext cx="171468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убид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092480" y="6235560"/>
                  <a:ext cx="189072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5985000" y="6235560"/>
                <a:ext cx="847440" cy="217800"/>
                <a:chOff x="5985000" y="6235560"/>
                <a:chExt cx="847440" cy="2178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073920" y="6235560"/>
                  <a:ext cx="66996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985000" y="6235560"/>
                  <a:ext cx="8474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834240" y="6235560"/>
                <a:ext cx="1977840" cy="217800"/>
                <a:chOff x="6834240" y="6235560"/>
                <a:chExt cx="1977840" cy="2178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923160" y="6235560"/>
                  <a:ext cx="18000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834240" y="6235560"/>
                  <a:ext cx="1977840" cy="21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324000" y="1628640"/>
              <a:ext cx="8496000" cy="482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dur="indefinite" fill="hold">
                      <p:stCondLst>
                        <p:cond delay="0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42920" y="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четвертый ряд нарушен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24360" y="141300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 четвертый ряд нару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 не обнару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 не обнаруж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, что в этом месте ну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напрасно беспок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ет где-то о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 найду сначала свой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оможет мне закон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ельный вес назвал и цв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уч на воздухе иль нет,  как плавится, в чем раствор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ом пользуясь сво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элемента предсказ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будто их в глаза видал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может, раз в тысячеле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шить подобное д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4815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dur="indefinite" fill="hold">
                      <p:stCondLst>
                        <p:cond delay="indefinite"/>
                      </p:stCondLst>
                      <p:childTnLst>
                        <p:par>
                          <p:cTn id="6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5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5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777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Цели и задачи исследования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8229600" cy="3905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ь причины открытия зак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ь, что считал главным и основным Д.И.Менделеев в своём тру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,какие открытия сделал Менделе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ь,что Менделеев первооткрыватель зак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в литературе факты экспериментального подтверждения периодического зак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Звёздность»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системы и предсказание свойств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3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457200" y="1600200"/>
          <a:ext cx="8291520" cy="448164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</a:tr>
            </a:tbl>
          </a:graphicData>
        </a:graphic>
      </p:graphicFrame>
      <p:sp>
        <p:nvSpPr>
          <p:cNvPr id="526" name=""/>
          <p:cNvSpPr/>
          <p:nvPr/>
        </p:nvSpPr>
        <p:spPr>
          <a:xfrm flipV="1">
            <a:off x="5292720" y="2562120"/>
            <a:ext cx="1727280" cy="72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572000" y="2346480"/>
            <a:ext cx="712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2408040" y="2488680"/>
            <a:ext cx="1734840" cy="79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696760" y="3716280"/>
            <a:ext cx="13734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19640" y="3789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3933720"/>
            <a:ext cx="1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350028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481120" y="3429000"/>
            <a:ext cx="14464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dur="indefinite" fill="hold">
                      <p:stCondLst>
                        <p:cond delay="0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828360" cy="764064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И. Менделеев  предсказал существование 11 химических 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     Sc    Ge    Re    Po   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     Ac    Tc     Fr    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79560" y="3716280"/>
            <a:ext cx="73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 месте, где  должны были сто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звестные  элементы,  он оставил пу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еточк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dur="indefinite" fill="hold">
                      <p:stCondLst>
                        <p:cond delay="indefinite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268360" y="2060640"/>
            <a:ext cx="935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-260280"/>
            <a:ext cx="9144000" cy="711828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540" name=""/>
          <p:cNvSpPr/>
          <p:nvPr/>
        </p:nvSpPr>
        <p:spPr>
          <a:xfrm flipV="1">
            <a:off x="2268360" y="2488680"/>
            <a:ext cx="35892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268360" y="1985760"/>
            <a:ext cx="43200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32000" y="2489040"/>
            <a:ext cx="4320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796000" y="3930480"/>
            <a:ext cx="43164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932360" y="4433760"/>
            <a:ext cx="4316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39640" y="4938480"/>
            <a:ext cx="36036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2340000" y="4938480"/>
            <a:ext cx="36036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67280" y="4505040"/>
            <a:ext cx="36036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896400" y="6521400"/>
            <a:ext cx="36540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1688760" y="4938480"/>
            <a:ext cx="43812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6081840" y="2993760"/>
            <a:ext cx="36504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534960" y="260280"/>
            <a:ext cx="820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  галлий  открыл француз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ёный Буабодр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1480" y="220500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ольный и счас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л метал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писем из России никак не ожид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взял письмо, прочел его. От русского ученого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шибся я! Слыхали?! — Француз был удив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лаза не видел Галлий, а свойства знает о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 высчитал удельный точней, чем я, сток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-то Менделеев еще пять лет наз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за его сверкали, -  топорщились у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вот металл свой Галлий он кинул на весы!.. Ответ в Россию мчится: «Прекрасная Таблиц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ами восхищен! Проверен мной прак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периодиче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я категорически приветствую Закон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6373800" y="1482840"/>
            <a:ext cx="1944720" cy="162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564000" y="1444680"/>
            <a:ext cx="5400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ность открытия Менделеева заключалась в том, что с ростом атомной массы химических элементов их свойства меняются не монотонно, а периодически. После определённого количества разных по свойствам элементов, расположенных по возрастанию атомного веса, свойства начинают повторяться. Например, натрий похож на калий, фтор похож на хлор, а золото похоже на серебро и медь. Разумеется, свойства не повторяются в точности, к ним добавляются и изменения. Отличием работы Менделеева от работ его предшественников было то, что основ для классификации элементов у Менделеева была не одна, а две — атомная масса и химическое сходство. Для того, чтобы периодичность полностью соблюдалась, Менделеевым были предприняты очень смелые шаги: он исправил атомные массы некоторых элементов, несколько элементов разместил в своей системе вопреки принятым в то время представлениям об их сходстве с другими (например ,галлий, считавшийся щелочным металлом, он поместил в третью группу согласно его фактической максимальной валентности), оставил в таблице пустые клетки, где должны были разместиться пока не открытые элементы. В 1871 году  на основе этих работ Менделеев формулирует периодический за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6920" y="260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24000" y="14144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Подведение итогов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чины открытия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наук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ходимость класс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«Основ хим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лант и целеустремлё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56000" y="1557360"/>
            <a:ext cx="40388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крытия Д.И. Менделеева в ходе работы над зак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систематики атомный вес и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оставление групп несходны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: атомный вес среднего члена группы равен полу сумме атомных весов крайних чл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равление атомных весов элементов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, La, Y, Er, Ce, Th, 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ование  неоткрытых элементов и предсказание их свой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dur="indefinite" fill="hold">
                      <p:stCondLst>
                        <p:cond delay="0"/>
                      </p:stCondLst>
                      <p:childTnLst>
                        <p:par>
                          <p:cTn id="7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ременная  формулировка периодического За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ойства  простых тел, а  так  же  формы и свойства  их  соединений,  находятся в  периодической зависимости  от  величины заряда  атом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dur="indefinite" fill="hold">
                      <p:stCondLst>
                        <p:cond delay="0"/>
                      </p:stCondLst>
                      <p:childTnLst>
                        <p:par>
                          <p:cTn id="7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dur="indefinite" fill="hold">
                      <p:stCondLst>
                        <p:cond delay="indefinite"/>
                      </p:stCondLst>
                      <p:childTnLst>
                        <p:par>
                          <p:cTn id="7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 fill="hold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10348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6720" y="1363680"/>
            <a:ext cx="9013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Чтобы создать Периодический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Закон  химических элемент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Д. И. Менделееву  понадобил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один день.</a:t>
            </a:r>
            <a:br>
              <a:rPr sz="4800"/>
            </a:b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 Один день - И ВСЯ ЖИЗН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dur="indefinite" fill="hold">
                      <p:stCondLst>
                        <p:cond delay="indefinite"/>
                      </p:stCondLst>
                      <p:childTnLst>
                        <p:par>
                          <p:cTn id="7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олов К. Великие химики - М., Мир, 1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еня А.А., Рысев Ю.В. Д.И. Менделеев – М., Просвещение,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янов И.В., Трифонов Д.Н. Великий закон – М., Педагогика,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еня А.А., Трифонов Д.Н. Периодический закон Д.И. Менделеева – М., Просвещение, 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алков Ю.Я. В клетке №… - М., Детская литература, 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alhimik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dur="indefinite" fill="hold">
                      <p:stCondLst>
                        <p:cond delay="0"/>
                      </p:stCondLst>
                      <p:childTnLst>
                        <p:par>
                          <p:cTn id="7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 fill="hold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dur="indefinite" fill="hold">
                      <p:stCondLst>
                        <p:cond delay="indefinite"/>
                      </p:stCondLst>
                      <p:childTnLst>
                        <p:par>
                          <p:cTn id="7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dur="indefinite" fill="hold">
                      <p:stCondLst>
                        <p:cond delay="indefinite"/>
                      </p:stCondLst>
                      <p:childTnLst>
                        <p:par>
                          <p:cTn id="7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dur="indefinite" fill="hold">
                      <p:stCondLst>
                        <p:cond delay="indefinite"/>
                      </p:stCondLst>
                      <p:childTnLst>
                        <p:par>
                          <p:cTn id="7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dur="indefinite" fill="hold">
                      <p:stCondLst>
                        <p:cond delay="indefinite"/>
                      </p:stCondLst>
                      <p:childTnLst>
                        <p:par>
                          <p:cTn id="8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dur="indefinite" fill="hold">
                      <p:stCondLst>
                        <p:cond delay="indefinite"/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Выяснение конкретных причин установления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Установление открытий, сделанных Менделеевым в ходе работы над зак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Установление выводов, сделанных Менделеевым о своём зак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Доказательство первенства Менделеева в открытии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Установление фактов научного доказательства и развития периодического закона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747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73560" y="189000"/>
            <a:ext cx="53751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58880">
              <a:lnSpc>
                <a:spcPct val="100000"/>
              </a:lnSpc>
              <a:tabLst>
                <a:tab algn="l" pos="0"/>
                <a:tab algn="l" pos="7621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745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ругого ничего  в  природе  н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и здесь, ни там , в космических  глубинах  :всё - от песчинок   малых до -  планет  из  элемент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стоит   еди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С. Щипачёв.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(«Читая Менделеева»)                                      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421000"/>
            <a:ext cx="74898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ctr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 algn="ctr">
              <a:spcBef>
                <a:spcPts val="7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я открытия 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 algn="ctr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. И. Мендел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 algn="ctr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0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было известно до открытия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400040"/>
            <a:ext cx="784836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3333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Было известно 63 химических элемента. Далеко не все свойства этих элементов были достаточно изучены, даже атомные веса некоторых оказались неправильно или неточно определ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3333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ешением международного съезда химиков в городе Карлсруэ в 1860 году утвердилось атомно-молекулярное учение, приняты определения понятий молекулы, атома, атомного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3333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едпринято около 50 попыток классифицировать химические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74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вые попытки классификации химических  элемен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Всего в  науке  было предпринято  около  50  попыток  классифицировать химические  элем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реди  учёных  в  химии называют  в основном   имена  трёх учёных,  сыгравших  более существенную  роль при  классификации.  К  ним  относ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ы  Джона Рейна Ньюленд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59092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6666" t="19918" r="6401" b="15439"/>
          <a:stretch/>
        </p:blipFill>
        <p:spPr>
          <a:xfrm>
            <a:off x="611280" y="1628640"/>
            <a:ext cx="4392360" cy="324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76360" y="5373720"/>
            <a:ext cx="583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ий хими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жон Александе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1865 году предлож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кон окта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13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Джон Ньюлендс 1865г.</a:t>
            </a:r>
            <a:br>
              <a:rPr sz="4400"/>
            </a:b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Закон «Окта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0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LA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13:33Z</dcterms:created>
  <dc:creator>Admin</dc:creator>
  <dc:description/>
  <dc:language>en-US</dc:language>
  <cp:lastModifiedBy>USER_NAME</cp:lastModifiedBy>
  <dcterms:modified xsi:type="dcterms:W3CDTF">2010-07-12T10:18:01Z</dcterms:modified>
  <cp:revision>12</cp:revision>
  <dc:subject/>
  <dc:title>Слайд 1</dc:title>
</cp:coreProperties>
</file>