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7.jpeg" ContentType="image/jpeg"/>
  <Override PartName="/ppt/media/CLAP.WAV" ContentType="audio/x-wav"/>
  <Override PartName="/ppt/media/image6.jpeg" ContentType="image/jpeg"/>
  <Override PartName="/ppt/media/image27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2.jpeg" ContentType="image/jpeg"/>
  <Override PartName="/ppt/media/GLASS.WAV" ContentType="audio/x-wav"/>
  <Override PartName="/ppt/media/image1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PROJCTOR.WAV" ContentType="audio/x-wav"/>
  <Override PartName="/ppt/media/image1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C251-F5B3-4B14-9DF5-F2337B34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6C34-B4DD-408D-82F7-A51AE7CB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817-E932-4D18-B4C8-03452579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559D-300E-4021-8365-9F7BAA15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4B8-8AC5-466E-8222-C75F8EC9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AA22-5A15-4B88-AFF0-9A221C1D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A8FB-DEFF-4E7F-A7EC-E1C81C2E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BDC-6073-47DA-88C2-BB08BA2D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3EA2-B54B-455A-BD8C-D51D99A7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1BF-CE00-4AC3-BA2C-A4D39FB1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6B79-F107-463D-B265-3C3BCBAF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EB6-ECE2-4136-B361-0BAE364E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89CF7-5A72-415E-BDC7-90AC84C2EC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GLASS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0"/>
            <a:ext cx="7632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Stencil Std"/>
              </a:rPr>
              <a:t>           </a:t>
            </a:r>
            <a:r>
              <a:rPr b="1" lang="ru-RU" sz="4000" spc="-1" strike="noStrike">
                <a:solidFill>
                  <a:srgbClr val="000000"/>
                </a:solidFill>
                <a:latin typeface="Stencil Std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Stencil Std"/>
              </a:rPr>
              <a:t>Один день…</a:t>
            </a:r>
            <a:r>
              <a:rPr b="1" i="1" lang="ru-RU" sz="4000" spc="-1" strike="noStrike">
                <a:solidFill>
                  <a:srgbClr val="000000"/>
                </a:solidFill>
                <a:latin typeface="Stencil Std"/>
              </a:rPr>
              <a:t>   ил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Stencil Std"/>
              </a:rPr>
              <a:t>          </a:t>
            </a:r>
            <a:r>
              <a:rPr b="1" i="1" lang="ru-RU" sz="3600" spc="-1" strike="noStrike">
                <a:solidFill>
                  <a:srgbClr val="000000"/>
                </a:solidFill>
                <a:latin typeface="Stencil Std"/>
              </a:rPr>
              <a:t>Как  был  откры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Stencil Std"/>
              </a:rPr>
              <a:t>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Stencil Std"/>
              </a:rPr>
              <a:t>Великий зак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19640" y="3357720"/>
            <a:ext cx="36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:  Епанешнико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л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-ся  9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 Ноовоо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итель:  Шурыг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алина  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4716720" cy="35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боты  Л. Мей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2664000" cy="2665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419640" y="1989000"/>
            <a:ext cx="5580000" cy="3230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9840" y="5157720"/>
            <a:ext cx="8093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864 году немецкий исследовател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отар Мей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лож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у для 27 элементов, разбитых на 6 групп, согласно их вален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dur="indefinite" fill="hold">
                      <p:stCondLst>
                        <p:cond delay="0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боты И.В Деберейн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313080" cy="3817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2924280"/>
            <a:ext cx="4659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мецкий хим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оган-Вольфган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берейнер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де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ементы по тр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ТРИ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dur="indefinite" fill="hold">
                      <p:stCondLst>
                        <p:cond delay="0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flipH="1">
            <a:off x="5981760" y="3576600"/>
            <a:ext cx="1465200" cy="16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149800" y="2903400"/>
            <a:ext cx="1689120" cy="113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625640" y="2208240"/>
            <a:ext cx="1622520" cy="67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890880" y="1438200"/>
            <a:ext cx="204336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120840" y="533520"/>
            <a:ext cx="2825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-1755720"/>
            <a:ext cx="5791320" cy="5791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829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ТРИА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оган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берейн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28600"/>
            <a:ext cx="2666880" cy="762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     Na    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,9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3,0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9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1371600"/>
            <a:ext cx="2667240" cy="762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     Sr     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,1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87,6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7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2514600"/>
            <a:ext cx="2667240" cy="762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    As     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,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4,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1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3657600"/>
            <a:ext cx="2667240" cy="762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    Se     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9,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7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00600"/>
            <a:ext cx="2666880" cy="762120"/>
          </a:xfrm>
          <a:prstGeom prst="rect">
            <a:avLst/>
          </a:prstGeom>
          <a:gradFill rotWithShape="0">
            <a:gsLst>
              <a:gs pos="0">
                <a:srgbClr val="8e718e"/>
              </a:gs>
              <a:gs pos="50000">
                <a:srgbClr val="ffccff"/>
              </a:gs>
              <a:gs pos="100000">
                <a:srgbClr val="8e718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     Br    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,5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79,9      126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5943600"/>
            <a:ext cx="3962520" cy="6094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6,9+39,1):2 = 23,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dur="indefinite" fill="hold">
                      <p:stCondLst>
                        <p:cond delay="0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2" name="GLASS.WAV"/>
                            </p:tgtEl>
                          </p:cMediaNode>
                        </p:audio>
                        <p:par>
                          <p:cTn id="232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PROJCTOR.WAV"/>
                            </p:tgtEl>
                          </p:cMediaNode>
                        </p:audio>
                        <p:par>
                          <p:cTn id="23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PROJCTOR.WAV"/>
                            </p:tgtEl>
                          </p:cMediaNode>
                        </p:audio>
                        <p:par>
                          <p:cTn id="246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5" name="PROJCTOR.WAV"/>
                            </p:tgtEl>
                          </p:cMediaNode>
                        </p:audio>
                        <p:par>
                          <p:cTn id="25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6" name="PROJCTOR.WAV"/>
                            </p:tgtEl>
                          </p:cMediaNode>
                        </p:audio>
                        <p:par>
                          <p:cTn id="260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7" name="PROJCTOR.WAV"/>
                            </p:tgtEl>
                          </p:cMediaNode>
                        </p:audio>
                        <p:par>
                          <p:cTn id="267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8" name="PROJCTOR.WAV"/>
                            </p:tgtEl>
                          </p:cMediaNode>
                        </p:audio>
                        <p:par>
                          <p:cTn id="272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27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9" name="PROJCTOR.WAV"/>
                            </p:tgtEl>
                          </p:cMediaNode>
                        </p:audio>
                        <p:par>
                          <p:cTn id="277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10" name="PROJCTOR.WAV"/>
                            </p:tgtEl>
                          </p:cMediaNode>
                        </p:audio>
                        <p:par>
                          <p:cTn id="282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28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11" name="PROJCTOR.WAV"/>
                            </p:tgtEl>
                          </p:cMediaNode>
                        </p:audio>
                        <p:par>
                          <p:cTn id="287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12" name="PROJCTOR.WAV"/>
                            </p:tgtEl>
                          </p:cMediaNode>
                        </p:audio>
                        <p:par>
                          <p:cTn id="292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29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dur="indefinite" fill="hold">
                      <p:stCondLst>
                        <p:cond delay="indefinite"/>
                      </p:stCondLst>
                      <p:childTnLst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dur="indefinite" fill="hold">
                      <p:stCondLst>
                        <p:cond delay="indefinite"/>
                      </p:stCondLst>
                      <p:childTnLst>
                        <p:par>
                          <p:cTn id="3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dur="indefinite" fill="hold">
                      <p:stCondLst>
                        <p:cond delay="indefinite"/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dur="indefinite" fill="hold">
                      <p:stCondLst>
                        <p:cond delay="indefinite"/>
                      </p:stCondLst>
                      <p:childTnLst>
                        <p:par>
                          <p:cTn id="3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dur="indefinite" fill="hold">
                      <p:stCondLst>
                        <p:cond delay="indefinite"/>
                      </p:stCondLst>
                      <p:childTnLst>
                        <p:par>
                          <p:cTn id="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dur="indefinite" fill="hold">
                      <p:stCondLst>
                        <p:cond delay="indefinite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bright="46000"/>
          </a:blip>
          <a:stretch/>
        </p:blipFill>
        <p:spPr>
          <a:xfrm>
            <a:off x="0" y="0"/>
            <a:ext cx="9144000" cy="8567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ата рождения  периодического зако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то произошло в пасмурный и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о-зимнему сырой петербургски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14 февраля  1869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(1 Марта – по новому стил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dur="indefinite" fill="hold">
                      <p:stCondLst>
                        <p:cond delay="0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dur="indefinite" fill="hold">
                      <p:stCondLst>
                        <p:cond delay="indefinite"/>
                      </p:stCondLst>
                      <p:childTnLst>
                        <p:par>
                          <p:cTn id="3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dur="indefinite" fill="hold">
                      <p:stCondLst>
                        <p:cond delay="indefinite"/>
                      </p:stCondLst>
                      <p:childTnLst>
                        <p:par>
                          <p:cTn id="3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dur="indefinite" fill="hold">
                      <p:stCondLst>
                        <p:cond delay="indefinite"/>
                      </p:stCondLst>
                      <p:childTnLst>
                        <p:par>
                          <p:cTn id="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484360" y="0"/>
            <a:ext cx="46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ждение зак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197000"/>
            <a:ext cx="456228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Случилось в Петербурге э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ессор универс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ал учебник для студентов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умался невольно 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ак рассказать про элемен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ьзя ли тут найти закон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али многие' решен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, проходя лишь полпу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осали. Мучило сомнень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 можно ли закон найти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 состоит из'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В то время знали шестьдесят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сколько их всего? На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ьзя ответить науг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не гадал, а верил 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Тут должен, должен быть закон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ямо он искал реш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л Труд, Надежда и Терпенье, 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ера в то, что он найд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так работал цел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292720" y="1627200"/>
            <a:ext cx="3043080" cy="4530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dur="indefinite" fill="hold">
                      <p:stCondLst>
                        <p:cond delay="0"/>
                      </p:stCondLst>
                      <p:childTnLst>
                        <p:par>
                          <p:cTn id="3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dur="indefinite" fill="hold">
                      <p:stCondLst>
                        <p:cond delay="indefinite"/>
                      </p:stCondLst>
                      <p:childTnLst>
                        <p:par>
                          <p:cTn id="3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16000" y="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гда, усталостью сражен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ег на диван и видит сон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1447920"/>
            <a:ext cx="51847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 кружилис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 мелька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 водили хоровод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 взрывалис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 пыла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 шипе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 сверка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 в покое пребыва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люминий, Натрий, Кал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тор, Бериллий, Водород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путались все    свойст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далеко до беды. Вдруг коман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ойся, войско! —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али строиться в ряды. Во втором ряду волненье: все боятся окисленья. Третий ряд! Трубите сбо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тр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гн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люмин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емн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сфор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р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ло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порядк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зако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менты встали в ря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3924360" cy="32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dur="indefinite" fill="hold">
                      <p:stCondLst>
                        <p:cond delay="0"/>
                      </p:stCondLst>
                      <p:childTnLst>
                        <p:par>
                          <p:cTn id="3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dur="indefinite" fill="hold">
                      <p:stCondLst>
                        <p:cond delay="indefinite"/>
                      </p:stCondLst>
                      <p:childTnLst>
                        <p:par>
                          <p:cTn id="3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0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32000" y="522360"/>
            <a:ext cx="518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выходит, что в колонну все похожие стоя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            O         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           S          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мечательный     подбор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яд  пристраивая к ряду ,  а рядов – то десять к ряд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таллы под металлами,  едкие под едким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вкие под ковкими  идут своими клет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порядку всё стоит,  вот природы Алфави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56000" y="1052640"/>
            <a:ext cx="1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134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314172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 я отобрал тела с наименьшим атомным весом и расположил их по поряд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чины их атомного веса. При этом оказалось, что существует как б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йств простых тел, и даже по атом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лементы следуют друг за друг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рядке арифметической последовательности величины их п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 = 7;     Be = 9,4;      B = 11;       C = 12;     N = 14;    O = 16;      F = 1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=23;   Mg = 24;     Al = 27,4;    Si = 28;    P = 31;     S = 32;      Cl = 35,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39;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0;      ----------  ;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50;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51;    ---------;     ---------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ряде элементов, имеющих пай более 100, встречаем аналоги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ерывный ря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 = 108; Cd = 112; Ur = 116; Sn =118; Sb = 122; Te = 128; J = 12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8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dur="indefinite" fill="hold">
                      <p:stCondLst>
                        <p:cond delay="indefinite"/>
                      </p:stCondLst>
                      <p:childTnLst>
                        <p:par>
                          <p:cTn id="4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dur="indefinite" fill="hold">
                      <p:stCondLst>
                        <p:cond delay="indefinite"/>
                      </p:stCondLst>
                      <p:childTnLst>
                        <p:par>
                          <p:cTn id="5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улировка Периодического Закон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.И. Менделеев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войства  простых тел, а  так  же  формы и свойства  их  соединений,  находятся в  периодической зависимости  от  величины  атомных  весов элемент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dur="indefinite" fill="hold">
                      <p:stCondLst>
                        <p:cond delay="0"/>
                      </p:stCondLst>
                      <p:childTnLst>
                        <p:par>
                          <p:cTn id="5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dur="indefinite" fill="hold">
                      <p:stCondLst>
                        <p:cond delay="indefinite"/>
                      </p:stCondLst>
                      <p:childTnLst>
                        <p:par>
                          <p:cTn id="5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dur="indefinite" fill="hold">
                      <p:stCondLst>
                        <p:cond delay="indefinite"/>
                      </p:stCondLst>
                      <p:childTnLst>
                        <p:par>
                          <p:cTn id="5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c00ac"/>
                </a:solidFill>
                <a:latin typeface="Arial"/>
              </a:rPr>
              <a:t>Таблица известных элементов к моменту открытия зако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24000" y="1628640"/>
            <a:ext cx="8496000" cy="4824720"/>
            <a:chOff x="324000" y="1628640"/>
            <a:chExt cx="8496000" cy="4824720"/>
          </a:xfrm>
        </p:grpSpPr>
        <p:grpSp>
          <p:nvGrpSpPr>
            <p:cNvPr id="119" name=""/>
            <p:cNvGrpSpPr/>
            <p:nvPr/>
          </p:nvGrpSpPr>
          <p:grpSpPr>
            <a:xfrm>
              <a:off x="330120" y="1630440"/>
              <a:ext cx="8481960" cy="4822920"/>
              <a:chOff x="330120" y="1630440"/>
              <a:chExt cx="8481960" cy="482292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330120" y="1630440"/>
                <a:ext cx="1022400" cy="217440"/>
                <a:chOff x="330120" y="1630440"/>
                <a:chExt cx="1022400" cy="2174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19040" y="163044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30120" y="163044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352520" y="1630440"/>
                <a:ext cx="1805040" cy="217440"/>
                <a:chOff x="1352520" y="1630440"/>
                <a:chExt cx="1805040" cy="2174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441440" y="163044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еребро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352520" y="163044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157560" y="1630440"/>
                <a:ext cx="934920" cy="217440"/>
                <a:chOff x="3157560" y="1630440"/>
                <a:chExt cx="934920" cy="2174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246480" y="163044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157560" y="163044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092480" y="1630440"/>
                <a:ext cx="1890720" cy="217440"/>
                <a:chOff x="4092480" y="1630440"/>
                <a:chExt cx="1890720" cy="2174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181400" y="163044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одород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092480" y="163044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985000" y="1630440"/>
                <a:ext cx="847440" cy="217440"/>
                <a:chOff x="5985000" y="1630440"/>
                <a:chExt cx="847440" cy="2174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073920" y="163044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985000" y="163044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834240" y="1630440"/>
                <a:ext cx="1977840" cy="217440"/>
                <a:chOff x="6834240" y="1630440"/>
                <a:chExt cx="1977840" cy="2174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923160" y="163044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од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834240" y="163044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330120" y="1846440"/>
                <a:ext cx="1022400" cy="217440"/>
                <a:chOff x="330120" y="1846440"/>
                <a:chExt cx="1022400" cy="2174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19040" y="184644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30120" y="184644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352520" y="1846440"/>
                <a:ext cx="1805040" cy="217440"/>
                <a:chOff x="1352520" y="1846440"/>
                <a:chExt cx="1805040" cy="2174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441440" y="184644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люмин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352520" y="184644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157560" y="1846440"/>
                <a:ext cx="934920" cy="217440"/>
                <a:chOff x="3157560" y="1846440"/>
                <a:chExt cx="934920" cy="2174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246480" y="184644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157560" y="184644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092480" y="1846440"/>
                <a:ext cx="1890720" cy="217440"/>
                <a:chOff x="4092480" y="1846440"/>
                <a:chExt cx="1890720" cy="217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181400" y="184644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туть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092480" y="184644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5985000" y="1846440"/>
                <a:ext cx="847440" cy="217440"/>
                <a:chOff x="5985000" y="1846440"/>
                <a:chExt cx="847440" cy="2174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073920" y="184644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u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985000" y="184644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6834240" y="1846440"/>
                <a:ext cx="1977840" cy="217440"/>
                <a:chOff x="6834240" y="1846440"/>
                <a:chExt cx="1977840" cy="2174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923160" y="184644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утен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834240" y="184644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30120" y="2063880"/>
                <a:ext cx="1022400" cy="217440"/>
                <a:chOff x="330120" y="2063880"/>
                <a:chExt cx="1022400" cy="217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19040" y="206388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30120" y="206388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52520" y="2063880"/>
                <a:ext cx="1805040" cy="217440"/>
                <a:chOff x="1352520" y="2063880"/>
                <a:chExt cx="1805040" cy="2174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41440" y="206388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ышьяк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52520" y="206388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157560" y="2063880"/>
                <a:ext cx="934920" cy="217440"/>
                <a:chOff x="3157560" y="2063880"/>
                <a:chExt cx="934920" cy="2174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246480" y="206388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157560" y="206388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4092480" y="2063880"/>
                <a:ext cx="1890720" cy="217440"/>
                <a:chOff x="4092480" y="2063880"/>
                <a:chExt cx="1890720" cy="2174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4181400" y="206388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нд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092480" y="206388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985000" y="2063880"/>
                <a:ext cx="847440" cy="217440"/>
                <a:chOff x="5985000" y="2063880"/>
                <a:chExt cx="847440" cy="2174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073920" y="206388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985000" y="206388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6834240" y="2063880"/>
                <a:ext cx="1977840" cy="217440"/>
                <a:chOff x="6834240" y="2063880"/>
                <a:chExt cx="1977840" cy="2174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6923160" y="206388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ер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834240" y="206388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30120" y="2281320"/>
                <a:ext cx="1022400" cy="217440"/>
                <a:chOff x="330120" y="2281320"/>
                <a:chExt cx="1022400" cy="2174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19040" y="228132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30120" y="228132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352520" y="2281320"/>
                <a:ext cx="1805040" cy="217440"/>
                <a:chOff x="1352520" y="2281320"/>
                <a:chExt cx="1805040" cy="2174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441440" y="228132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золото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352520" y="228132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157560" y="2281320"/>
                <a:ext cx="934920" cy="217440"/>
                <a:chOff x="3157560" y="2281320"/>
                <a:chExt cx="934920" cy="2174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46480" y="228132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157560" y="228132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4092480" y="2281320"/>
                <a:ext cx="1890720" cy="217440"/>
                <a:chOff x="4092480" y="2281320"/>
                <a:chExt cx="1890720" cy="2174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81400" y="228132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рид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092480" y="228132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5985000" y="2281320"/>
                <a:ext cx="847440" cy="217440"/>
                <a:chOff x="5985000" y="2281320"/>
                <a:chExt cx="847440" cy="2174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073920" y="228132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b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985000" y="228132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834240" y="2281320"/>
                <a:ext cx="1977840" cy="217440"/>
                <a:chOff x="6834240" y="2281320"/>
                <a:chExt cx="1977840" cy="2174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923160" y="228132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урьм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834240" y="228132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30120" y="2496960"/>
                <a:ext cx="1022400" cy="217800"/>
                <a:chOff x="330120" y="2496960"/>
                <a:chExt cx="1022400" cy="2178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419040" y="2496960"/>
                  <a:ext cx="8445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30120" y="2496960"/>
                  <a:ext cx="102240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352520" y="2496960"/>
                <a:ext cx="1805040" cy="217800"/>
                <a:chOff x="1352520" y="2496960"/>
                <a:chExt cx="1805040" cy="2178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441440" y="2496960"/>
                  <a:ext cx="16272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ор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352520" y="2496960"/>
                  <a:ext cx="18050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157560" y="2496960"/>
                <a:ext cx="934920" cy="217800"/>
                <a:chOff x="3157560" y="2496960"/>
                <a:chExt cx="934920" cy="2178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246480" y="2496960"/>
                  <a:ext cx="7570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157560" y="2496960"/>
                  <a:ext cx="9349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092480" y="2496960"/>
                <a:ext cx="1890720" cy="217800"/>
                <a:chOff x="4092480" y="2496960"/>
                <a:chExt cx="1890720" cy="2178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181400" y="2496960"/>
                  <a:ext cx="17146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йод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092480" y="2496960"/>
                  <a:ext cx="18907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985000" y="2496960"/>
                <a:ext cx="847440" cy="217800"/>
                <a:chOff x="5985000" y="2496960"/>
                <a:chExt cx="847440" cy="2178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073920" y="2496960"/>
                  <a:ext cx="6699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985000" y="2496960"/>
                  <a:ext cx="8474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834240" y="2496960"/>
                <a:ext cx="1977840" cy="217800"/>
                <a:chOff x="6834240" y="2496960"/>
                <a:chExt cx="1977840" cy="2178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923160" y="2496960"/>
                  <a:ext cx="18000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елен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834240" y="2496960"/>
                  <a:ext cx="19778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30120" y="2714760"/>
                <a:ext cx="1022400" cy="217440"/>
                <a:chOff x="330120" y="2714760"/>
                <a:chExt cx="1022400" cy="2174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19040" y="271476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30120" y="271476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352520" y="2714760"/>
                <a:ext cx="1805040" cy="217440"/>
                <a:chOff x="1352520" y="2714760"/>
                <a:chExt cx="1805040" cy="2174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441440" y="271476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ар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352520" y="271476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157560" y="2714760"/>
                <a:ext cx="934920" cy="217440"/>
                <a:chOff x="3157560" y="2714760"/>
                <a:chExt cx="934920" cy="2174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246480" y="271476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157560" y="271476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092480" y="2714760"/>
                <a:ext cx="1890720" cy="217440"/>
                <a:chOff x="4092480" y="2714760"/>
                <a:chExt cx="1890720" cy="2174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181400" y="271476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ал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092480" y="271476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5985000" y="2714760"/>
                <a:ext cx="847440" cy="217440"/>
                <a:chOff x="5985000" y="2714760"/>
                <a:chExt cx="847440" cy="2174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073920" y="271476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985000" y="271476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834240" y="2714760"/>
                <a:ext cx="1977840" cy="217440"/>
                <a:chOff x="6834240" y="2714760"/>
                <a:chExt cx="1977840" cy="2174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6923160" y="271476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ремний, силиций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834240" y="271476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30120" y="2932200"/>
                <a:ext cx="1022400" cy="217440"/>
                <a:chOff x="330120" y="2932200"/>
                <a:chExt cx="1022400" cy="2174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19040" y="293220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30120" y="293220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1352520" y="2932200"/>
                <a:ext cx="1805040" cy="217440"/>
                <a:chOff x="1352520" y="2932200"/>
                <a:chExt cx="1805040" cy="2174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441440" y="293220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ериллий, глиций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352520" y="293220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157560" y="2932200"/>
                <a:ext cx="934920" cy="217440"/>
                <a:chOff x="3157560" y="2932200"/>
                <a:chExt cx="934920" cy="2174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246480" y="293220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157560" y="293220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092480" y="2932200"/>
                <a:ext cx="1890720" cy="217440"/>
                <a:chOff x="4092480" y="2932200"/>
                <a:chExt cx="1890720" cy="2174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181400" y="293220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лантан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092480" y="293220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985000" y="2932200"/>
                <a:ext cx="847440" cy="217440"/>
                <a:chOff x="5985000" y="2932200"/>
                <a:chExt cx="847440" cy="2174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073920" y="293220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985000" y="293220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834240" y="2932200"/>
                <a:ext cx="1977840" cy="217440"/>
                <a:chOff x="6834240" y="2932200"/>
                <a:chExt cx="1977840" cy="2174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923160" y="293220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лово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834240" y="293220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30120" y="3147840"/>
                <a:ext cx="1022400" cy="217800"/>
                <a:chOff x="330120" y="3147840"/>
                <a:chExt cx="1022400" cy="2178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19040" y="3147840"/>
                  <a:ext cx="8445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30120" y="3147840"/>
                  <a:ext cx="102240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1352520" y="3147840"/>
                <a:ext cx="1805040" cy="217800"/>
                <a:chOff x="1352520" y="3147840"/>
                <a:chExt cx="1805040" cy="2178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1441440" y="3147840"/>
                  <a:ext cx="16272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исму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352520" y="3147840"/>
                  <a:ext cx="18050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157560" y="3147840"/>
                <a:ext cx="934920" cy="217800"/>
                <a:chOff x="3157560" y="3147840"/>
                <a:chExt cx="934920" cy="2178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246480" y="3147840"/>
                  <a:ext cx="7570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157560" y="3147840"/>
                  <a:ext cx="9349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092480" y="3147840"/>
                <a:ext cx="1890720" cy="217800"/>
                <a:chOff x="4092480" y="3147840"/>
                <a:chExt cx="1890720" cy="217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181400" y="3147840"/>
                  <a:ext cx="17146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лит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092480" y="3147840"/>
                  <a:ext cx="18907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985000" y="3147840"/>
                <a:ext cx="847440" cy="217800"/>
                <a:chOff x="5985000" y="3147840"/>
                <a:chExt cx="847440" cy="2178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073920" y="3147840"/>
                  <a:ext cx="6699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985000" y="3147840"/>
                  <a:ext cx="8474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834240" y="3147840"/>
                <a:ext cx="1977840" cy="217800"/>
                <a:chOff x="6834240" y="3147840"/>
                <a:chExt cx="1977840" cy="21780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923160" y="3147840"/>
                  <a:ext cx="18000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тронц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834240" y="3147840"/>
                  <a:ext cx="19778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330120" y="3365640"/>
                <a:ext cx="1022400" cy="217440"/>
                <a:chOff x="330120" y="3365640"/>
                <a:chExt cx="1022400" cy="2174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19040" y="336564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30120" y="336564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1352520" y="3365640"/>
                <a:ext cx="1805040" cy="217440"/>
                <a:chOff x="1352520" y="3365640"/>
                <a:chExt cx="1805040" cy="2174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441440" y="336564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р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352520" y="336564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157560" y="3365640"/>
                <a:ext cx="934920" cy="217440"/>
                <a:chOff x="3157560" y="3365640"/>
                <a:chExt cx="934920" cy="2174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246480" y="336564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157560" y="336564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092480" y="3365640"/>
                <a:ext cx="1890720" cy="217440"/>
                <a:chOff x="4092480" y="3365640"/>
                <a:chExt cx="1890720" cy="2174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181400" y="336564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агн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092480" y="336564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985000" y="3365640"/>
                <a:ext cx="847440" cy="217440"/>
                <a:chOff x="5985000" y="3365640"/>
                <a:chExt cx="847440" cy="2174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6073920" y="336564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985000" y="336564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834240" y="3365640"/>
                <a:ext cx="1977840" cy="217440"/>
                <a:chOff x="6834240" y="3365640"/>
                <a:chExt cx="1977840" cy="2174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923160" y="336564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антал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834240" y="336564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330120" y="3583080"/>
                <a:ext cx="1022400" cy="217440"/>
                <a:chOff x="330120" y="3583080"/>
                <a:chExt cx="1022400" cy="2174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419040" y="358308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30120" y="358308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1352520" y="3583080"/>
                <a:ext cx="1805040" cy="217440"/>
                <a:chOff x="1352520" y="3583080"/>
                <a:chExt cx="1805040" cy="2174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1441440" y="358308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углерод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352520" y="358308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3157560" y="3583080"/>
                <a:ext cx="934920" cy="217440"/>
                <a:chOff x="3157560" y="3583080"/>
                <a:chExt cx="934920" cy="21744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246480" y="358308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157560" y="358308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092480" y="3583080"/>
                <a:ext cx="1890720" cy="217440"/>
                <a:chOff x="4092480" y="3583080"/>
                <a:chExt cx="1890720" cy="21744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181400" y="358308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арганец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092480" y="358308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985000" y="3583080"/>
                <a:ext cx="847440" cy="217440"/>
                <a:chOff x="5985000" y="3583080"/>
                <a:chExt cx="847440" cy="21744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073920" y="358308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b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985000" y="358308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834240" y="3583080"/>
                <a:ext cx="1977840" cy="217440"/>
                <a:chOff x="6834240" y="3583080"/>
                <a:chExt cx="1977840" cy="2174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923160" y="358308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«тербий»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834240" y="358308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330120" y="3798720"/>
                <a:ext cx="1022400" cy="217800"/>
                <a:chOff x="330120" y="3798720"/>
                <a:chExt cx="1022400" cy="2178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419040" y="3798720"/>
                  <a:ext cx="8445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30120" y="3798720"/>
                  <a:ext cx="102240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1352520" y="3798720"/>
                <a:ext cx="1805040" cy="217800"/>
                <a:chOff x="1352520" y="3798720"/>
                <a:chExt cx="1805040" cy="2178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441440" y="3798720"/>
                  <a:ext cx="16272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альц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352520" y="3798720"/>
                  <a:ext cx="18050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3157560" y="3798720"/>
                <a:ext cx="934920" cy="217800"/>
                <a:chOff x="3157560" y="3798720"/>
                <a:chExt cx="934920" cy="2178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3246480" y="3798720"/>
                  <a:ext cx="7570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157560" y="3798720"/>
                  <a:ext cx="9349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092480" y="3798720"/>
                <a:ext cx="1890720" cy="217800"/>
                <a:chOff x="4092480" y="3798720"/>
                <a:chExt cx="1890720" cy="2178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181400" y="3798720"/>
                  <a:ext cx="17146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олибден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092480" y="3798720"/>
                  <a:ext cx="18907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985000" y="3798720"/>
                <a:ext cx="847440" cy="217800"/>
                <a:chOff x="5985000" y="3798720"/>
                <a:chExt cx="847440" cy="2178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6073920" y="3798720"/>
                  <a:ext cx="6699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985000" y="3798720"/>
                  <a:ext cx="8474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834240" y="3798720"/>
                <a:ext cx="1977840" cy="217800"/>
                <a:chOff x="6834240" y="3798720"/>
                <a:chExt cx="1977840" cy="2178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923160" y="3798720"/>
                  <a:ext cx="18000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еллур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834240" y="3798720"/>
                  <a:ext cx="19778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330120" y="4016520"/>
                <a:ext cx="1022400" cy="217440"/>
                <a:chOff x="330120" y="4016520"/>
                <a:chExt cx="1022400" cy="21744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419040" y="401652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30120" y="401652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1352520" y="4016520"/>
                <a:ext cx="1805040" cy="217440"/>
                <a:chOff x="1352520" y="4016520"/>
                <a:chExt cx="1805040" cy="21744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1441440" y="401652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адм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352520" y="401652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3157560" y="4016520"/>
                <a:ext cx="934920" cy="217440"/>
                <a:chOff x="3157560" y="4016520"/>
                <a:chExt cx="934920" cy="21744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246480" y="401652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157560" y="401652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092480" y="4016520"/>
                <a:ext cx="1890720" cy="217440"/>
                <a:chOff x="4092480" y="4016520"/>
                <a:chExt cx="1890720" cy="21744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4181400" y="401652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зо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092480" y="401652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985000" y="4016520"/>
                <a:ext cx="847440" cy="217440"/>
                <a:chOff x="5985000" y="4016520"/>
                <a:chExt cx="847440" cy="21744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6073920" y="401652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985000" y="401652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834240" y="4016520"/>
                <a:ext cx="1977840" cy="217440"/>
                <a:chOff x="6834240" y="4016520"/>
                <a:chExt cx="1977840" cy="2174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923160" y="401652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ор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834240" y="401652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330120" y="4233960"/>
                <a:ext cx="1022400" cy="217440"/>
                <a:chOff x="330120" y="4233960"/>
                <a:chExt cx="1022400" cy="2174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19040" y="423396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30120" y="423396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1352520" y="4233960"/>
                <a:ext cx="1805040" cy="217440"/>
                <a:chOff x="1352520" y="4233960"/>
                <a:chExt cx="1805040" cy="2174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1441440" y="423396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цер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352520" y="423396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3157560" y="4233960"/>
                <a:ext cx="934920" cy="217440"/>
                <a:chOff x="3157560" y="4233960"/>
                <a:chExt cx="934920" cy="2174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3246480" y="423396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157560" y="423396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092480" y="4233960"/>
                <a:ext cx="1890720" cy="217440"/>
                <a:chOff x="4092480" y="4233960"/>
                <a:chExt cx="1890720" cy="2174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4181400" y="423396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атр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092480" y="423396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985000" y="4233960"/>
                <a:ext cx="847440" cy="217440"/>
                <a:chOff x="5985000" y="4233960"/>
                <a:chExt cx="847440" cy="2174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6073920" y="423396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985000" y="423396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834240" y="4233960"/>
                <a:ext cx="1977840" cy="217440"/>
                <a:chOff x="6834240" y="4233960"/>
                <a:chExt cx="1977840" cy="2174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923160" y="423396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итан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834240" y="423396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330120" y="4449600"/>
                <a:ext cx="1022400" cy="217800"/>
                <a:chOff x="330120" y="4449600"/>
                <a:chExt cx="1022400" cy="21780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419040" y="4449600"/>
                  <a:ext cx="8445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30120" y="4449600"/>
                  <a:ext cx="102240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1352520" y="4449600"/>
                <a:ext cx="1805040" cy="217800"/>
                <a:chOff x="1352520" y="4449600"/>
                <a:chExt cx="1805040" cy="2178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1441440" y="4449600"/>
                  <a:ext cx="16272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лор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352520" y="4449600"/>
                  <a:ext cx="18050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3157560" y="4449600"/>
                <a:ext cx="934920" cy="217800"/>
                <a:chOff x="3157560" y="4449600"/>
                <a:chExt cx="934920" cy="2178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3246480" y="4449600"/>
                  <a:ext cx="7570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b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157560" y="4449600"/>
                  <a:ext cx="9349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092480" y="4449600"/>
                <a:ext cx="1890720" cy="217800"/>
                <a:chOff x="4092480" y="4449600"/>
                <a:chExt cx="1890720" cy="2178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181400" y="4449600"/>
                  <a:ext cx="17146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иоб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092480" y="4449600"/>
                  <a:ext cx="18907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985000" y="4449600"/>
                <a:ext cx="847440" cy="217800"/>
                <a:chOff x="5985000" y="4449600"/>
                <a:chExt cx="847440" cy="2178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6073920" y="4449600"/>
                  <a:ext cx="6699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985000" y="4449600"/>
                  <a:ext cx="8474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834240" y="4449600"/>
                <a:ext cx="1977840" cy="217800"/>
                <a:chOff x="6834240" y="4449600"/>
                <a:chExt cx="1977840" cy="2178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923160" y="4449600"/>
                  <a:ext cx="18000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алл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834240" y="4449600"/>
                  <a:ext cx="19778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330120" y="4667400"/>
                <a:ext cx="1022400" cy="217440"/>
                <a:chOff x="330120" y="4667400"/>
                <a:chExt cx="1022400" cy="2174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419040" y="466740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30120" y="466740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1352520" y="4667400"/>
                <a:ext cx="1805040" cy="217440"/>
                <a:chOff x="1352520" y="4667400"/>
                <a:chExt cx="1805040" cy="2174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1441440" y="466740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обаль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352520" y="466740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157560" y="4667400"/>
                <a:ext cx="934920" cy="217440"/>
                <a:chOff x="3157560" y="4667400"/>
                <a:chExt cx="934920" cy="21744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246480" y="466740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157560" y="466740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092480" y="4667400"/>
                <a:ext cx="1890720" cy="217440"/>
                <a:chOff x="4092480" y="4667400"/>
                <a:chExt cx="1890720" cy="21744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181400" y="466740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икель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092480" y="466740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985000" y="4667400"/>
                <a:ext cx="847440" cy="217440"/>
                <a:chOff x="5985000" y="4667400"/>
                <a:chExt cx="847440" cy="21744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6073920" y="466740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985000" y="466740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834240" y="4667400"/>
                <a:ext cx="1977840" cy="217440"/>
                <a:chOff x="6834240" y="4667400"/>
                <a:chExt cx="1977840" cy="2174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923160" y="466740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уран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834240" y="466740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330120" y="4884840"/>
                <a:ext cx="1022400" cy="217440"/>
                <a:chOff x="330120" y="4884840"/>
                <a:chExt cx="1022400" cy="21744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419040" y="488484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30120" y="488484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1352520" y="4884840"/>
                <a:ext cx="1805040" cy="217440"/>
                <a:chOff x="1352520" y="4884840"/>
                <a:chExt cx="1805040" cy="21744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1441440" y="488484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р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352520" y="488484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3157560" y="4884840"/>
                <a:ext cx="934920" cy="217440"/>
                <a:chOff x="3157560" y="4884840"/>
                <a:chExt cx="934920" cy="2174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3246480" y="488484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157560" y="488484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092480" y="4884840"/>
                <a:ext cx="1890720" cy="217440"/>
                <a:chOff x="4092480" y="4884840"/>
                <a:chExt cx="1890720" cy="21744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4181400" y="488484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ислород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092480" y="488484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985000" y="4884840"/>
                <a:ext cx="847440" cy="217440"/>
                <a:chOff x="5985000" y="4884840"/>
                <a:chExt cx="847440" cy="21744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6073920" y="488484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985000" y="488484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834240" y="4884840"/>
                <a:ext cx="1977840" cy="217440"/>
                <a:chOff x="6834240" y="4884840"/>
                <a:chExt cx="1977840" cy="21744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923160" y="488484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анадий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834240" y="488484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330120" y="5100480"/>
                <a:ext cx="1022400" cy="217800"/>
                <a:chOff x="330120" y="5100480"/>
                <a:chExt cx="1022400" cy="2178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419040" y="5100480"/>
                  <a:ext cx="8445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330120" y="5100480"/>
                  <a:ext cx="102240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1352520" y="5100480"/>
                <a:ext cx="1805040" cy="217800"/>
                <a:chOff x="1352520" y="5100480"/>
                <a:chExt cx="1805040" cy="2178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441440" y="5100480"/>
                  <a:ext cx="16272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цез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352520" y="5100480"/>
                  <a:ext cx="18050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3157560" y="5100480"/>
                <a:ext cx="934920" cy="217800"/>
                <a:chOff x="3157560" y="5100480"/>
                <a:chExt cx="934920" cy="21780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3246480" y="5100480"/>
                  <a:ext cx="7570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157560" y="5100480"/>
                  <a:ext cx="9349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092480" y="5100480"/>
                <a:ext cx="1890720" cy="217800"/>
                <a:chOff x="4092480" y="5100480"/>
                <a:chExt cx="1890720" cy="21780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4181400" y="5100480"/>
                  <a:ext cx="17146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см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092480" y="5100480"/>
                  <a:ext cx="18907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985000" y="5100480"/>
                <a:ext cx="847440" cy="217800"/>
                <a:chOff x="5985000" y="5100480"/>
                <a:chExt cx="847440" cy="21780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073920" y="5100480"/>
                  <a:ext cx="6699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985000" y="5100480"/>
                  <a:ext cx="8474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834240" y="5100480"/>
                <a:ext cx="1977840" cy="217800"/>
                <a:chOff x="6834240" y="5100480"/>
                <a:chExt cx="1977840" cy="21780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923160" y="5100480"/>
                  <a:ext cx="18000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ольфрам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834240" y="5100480"/>
                  <a:ext cx="19778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330120" y="5318280"/>
                <a:ext cx="1022400" cy="217440"/>
                <a:chOff x="330120" y="5318280"/>
                <a:chExt cx="1022400" cy="2174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419040" y="531828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u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30120" y="531828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1352520" y="5318280"/>
                <a:ext cx="1805040" cy="217440"/>
                <a:chOff x="1352520" y="5318280"/>
                <a:chExt cx="1805040" cy="21744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1441440" y="531828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едь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1352520" y="531828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3157560" y="5318280"/>
                <a:ext cx="934920" cy="217440"/>
                <a:chOff x="3157560" y="5318280"/>
                <a:chExt cx="934920" cy="2174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246480" y="531828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157560" y="531828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092480" y="5318280"/>
                <a:ext cx="1890720" cy="217440"/>
                <a:chOff x="4092480" y="5318280"/>
                <a:chExt cx="1890720" cy="21744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4181400" y="531828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фосфор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092480" y="531828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985000" y="5318280"/>
                <a:ext cx="847440" cy="217440"/>
                <a:chOff x="5985000" y="5318280"/>
                <a:chExt cx="847440" cy="21744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6073920" y="531828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985000" y="531828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834240" y="5318280"/>
                <a:ext cx="1977840" cy="217440"/>
                <a:chOff x="6834240" y="5318280"/>
                <a:chExt cx="1977840" cy="21744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923160" y="531828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ттр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834240" y="531828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330120" y="5535720"/>
                <a:ext cx="1022400" cy="217440"/>
                <a:chOff x="330120" y="5535720"/>
                <a:chExt cx="1022400" cy="21744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419040" y="553572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30120" y="553572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1352520" y="5535720"/>
                <a:ext cx="1805040" cy="217440"/>
                <a:chOff x="1352520" y="5535720"/>
                <a:chExt cx="1805040" cy="21744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1441440" y="553572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«</a:t>
                  </a: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дидимий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»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352520" y="553572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3157560" y="5535720"/>
                <a:ext cx="934920" cy="217440"/>
                <a:chOff x="3157560" y="5535720"/>
                <a:chExt cx="934920" cy="21744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3246480" y="553572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b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157560" y="553572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4092480" y="5535720"/>
                <a:ext cx="1890720" cy="217440"/>
                <a:chOff x="4092480" y="5535720"/>
                <a:chExt cx="1890720" cy="21744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4181400" y="553572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винец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092480" y="553572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5985000" y="5535720"/>
                <a:ext cx="847440" cy="217440"/>
                <a:chOff x="5985000" y="5535720"/>
                <a:chExt cx="847440" cy="2174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073920" y="553572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Z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985000" y="553572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6834240" y="5535720"/>
                <a:ext cx="1977840" cy="217440"/>
                <a:chOff x="6834240" y="5535720"/>
                <a:chExt cx="1977840" cy="2174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6923160" y="553572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цинк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834240" y="553572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330120" y="5751360"/>
                <a:ext cx="1022400" cy="266760"/>
                <a:chOff x="330120" y="5751360"/>
                <a:chExt cx="1022400" cy="2667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19040" y="5751360"/>
                  <a:ext cx="844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30120" y="5751360"/>
                  <a:ext cx="1022400" cy="266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1352520" y="5751360"/>
                <a:ext cx="1805040" cy="266760"/>
                <a:chOff x="1352520" y="5751360"/>
                <a:chExt cx="1805040" cy="26676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1441440" y="5751360"/>
                  <a:ext cx="16272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«</a:t>
                  </a: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эрбий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»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352520" y="5751360"/>
                  <a:ext cx="1805040" cy="266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3157560" y="5751360"/>
                <a:ext cx="934920" cy="266760"/>
                <a:chOff x="3157560" y="5751360"/>
                <a:chExt cx="934920" cy="26676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3246480" y="5751360"/>
                  <a:ext cx="75708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157560" y="5751360"/>
                  <a:ext cx="934920" cy="266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4092480" y="5751360"/>
                <a:ext cx="1890720" cy="266760"/>
                <a:chOff x="4092480" y="5751360"/>
                <a:chExt cx="1890720" cy="26676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4181400" y="5751360"/>
                  <a:ext cx="171468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аллад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092480" y="5751360"/>
                  <a:ext cx="1890720" cy="266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5985000" y="5751360"/>
                <a:ext cx="847440" cy="266760"/>
                <a:chOff x="5985000" y="5751360"/>
                <a:chExt cx="847440" cy="2667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6073920" y="5751360"/>
                  <a:ext cx="6699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Z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985000" y="5751360"/>
                  <a:ext cx="847440" cy="266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6834240" y="5751360"/>
                <a:ext cx="1977840" cy="266760"/>
                <a:chOff x="6834240" y="5751360"/>
                <a:chExt cx="1977840" cy="2667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6923160" y="5751360"/>
                  <a:ext cx="1800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Цирконий, циркон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834240" y="5751360"/>
                  <a:ext cx="1977840" cy="266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330120" y="6018120"/>
                <a:ext cx="1022400" cy="217440"/>
                <a:chOff x="330120" y="6018120"/>
                <a:chExt cx="1022400" cy="21744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19040" y="601812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30120" y="601812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1352520" y="6018120"/>
                <a:ext cx="1805040" cy="217440"/>
                <a:chOff x="1352520" y="6018120"/>
                <a:chExt cx="1805040" cy="21744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1441440" y="601812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Фтор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352520" y="601812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3157560" y="6018120"/>
                <a:ext cx="934920" cy="217440"/>
                <a:chOff x="3157560" y="6018120"/>
                <a:chExt cx="934920" cy="21744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246480" y="601812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157560" y="601812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4092480" y="6018120"/>
                <a:ext cx="1890720" cy="217440"/>
                <a:chOff x="4092480" y="6018120"/>
                <a:chExt cx="1890720" cy="21744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4181400" y="601812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латин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092480" y="601812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5985000" y="6018120"/>
                <a:ext cx="847440" cy="217440"/>
                <a:chOff x="5985000" y="6018120"/>
                <a:chExt cx="847440" cy="2174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073920" y="601812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985000" y="601812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6834240" y="6018120"/>
                <a:ext cx="1977840" cy="217440"/>
                <a:chOff x="6834240" y="6018120"/>
                <a:chExt cx="1977840" cy="2174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6923160" y="601812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834240" y="601812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330120" y="6235560"/>
                <a:ext cx="1022400" cy="217800"/>
                <a:chOff x="330120" y="6235560"/>
                <a:chExt cx="1022400" cy="2178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419040" y="6235560"/>
                  <a:ext cx="8445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30120" y="6235560"/>
                  <a:ext cx="102240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1352520" y="6235560"/>
                <a:ext cx="1805040" cy="217800"/>
                <a:chOff x="1352520" y="6235560"/>
                <a:chExt cx="1805040" cy="2178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441440" y="6235560"/>
                  <a:ext cx="16272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железо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352520" y="6235560"/>
                  <a:ext cx="18050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3157560" y="6235560"/>
                <a:ext cx="934920" cy="217800"/>
                <a:chOff x="3157560" y="6235560"/>
                <a:chExt cx="934920" cy="2178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246480" y="6235560"/>
                  <a:ext cx="7570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b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157560" y="6235560"/>
                  <a:ext cx="9349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4092480" y="6235560"/>
                <a:ext cx="1890720" cy="217800"/>
                <a:chOff x="4092480" y="6235560"/>
                <a:chExt cx="1890720" cy="21780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4181400" y="6235560"/>
                  <a:ext cx="17146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убид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4092480" y="6235560"/>
                  <a:ext cx="18907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5985000" y="6235560"/>
                <a:ext cx="847440" cy="217800"/>
                <a:chOff x="5985000" y="6235560"/>
                <a:chExt cx="847440" cy="2178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6073920" y="6235560"/>
                  <a:ext cx="6699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985000" y="6235560"/>
                  <a:ext cx="8474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6834240" y="6235560"/>
                <a:ext cx="1977840" cy="217800"/>
                <a:chOff x="6834240" y="6235560"/>
                <a:chExt cx="1977840" cy="21780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6923160" y="6235560"/>
                  <a:ext cx="18000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834240" y="6235560"/>
                  <a:ext cx="19778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6" name=""/>
            <p:cNvSpPr/>
            <p:nvPr/>
          </p:nvSpPr>
          <p:spPr>
            <a:xfrm>
              <a:off x="324000" y="1628640"/>
              <a:ext cx="8496000" cy="4824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dur="indefinite" fill="hold">
                      <p:stCondLst>
                        <p:cond delay="0"/>
                      </p:stCondLst>
                      <p:childTnLst>
                        <p:par>
                          <p:cTn id="5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1042920" y="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четвертый ряд нарушен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924360" y="1413000"/>
            <a:ext cx="504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л четвертый ряд наруш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мент не обнаруж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мент не обнаружен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т, что в этом месте нуж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напрасно беспокой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ествует где-то он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Я найду сначала свой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оможет мне закон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ельный вес назвал и цв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уч на воздухе иль нет,  как плавится, в чем раствори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ном пользуясь сво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 элемента предсказ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будто их в глаза видал!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ть может, раз в тысячелет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ршить подобное да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348156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dur="indefinite" fill="hold">
                      <p:stCondLst>
                        <p:cond delay="indefinite"/>
                      </p:stCondLst>
                      <p:childTnLst>
                        <p:par>
                          <p:cTn id="6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dur="indefinite" fill="hold">
                      <p:stCondLst>
                        <p:cond delay="indefinite"/>
                      </p:stCondLst>
                      <p:childTnLst>
                        <p:par>
                          <p:cTn id="6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0" fill="hold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0" fill="hold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0" fill="hold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0" fill="hold"/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0" fill="hold"/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5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5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5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5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0" fill="hold"/>
                                        <p:tgtEl>
                                          <p:spTgt spid="5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0" fill="hold"/>
                                        <p:tgtEl>
                                          <p:spTgt spid="5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0" fill="hold"/>
                                        <p:tgtEl>
                                          <p:spTgt spid="5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0" fill="hold"/>
                                        <p:tgtEl>
                                          <p:spTgt spid="5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5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0" fill="hold"/>
                                        <p:tgtEl>
                                          <p:spTgt spid="5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dur="indefinite" fill="hold">
                      <p:stCondLst>
                        <p:cond delay="indefinite"/>
                      </p:stCondLst>
                      <p:childTnLst>
                        <p:par>
                          <p:cTn id="6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 fill="hold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66560" y="-360"/>
            <a:ext cx="7777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cc"/>
                </a:solidFill>
                <a:latin typeface="Arial"/>
              </a:rPr>
              <a:t>Цели и задачи исследования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3124080"/>
            <a:ext cx="8229600" cy="39052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ить причины открытия зако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ить, что считал главным и основным Д.И.Менделеев в своём тру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ь,какие открытия сделал Менделе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ь,что Менделеев первооткрыватель зако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в литературе факты экспериментального подтверждения периодического зак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0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Звёздность»</a:t>
            </a: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 системы и предсказание свойств эле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03848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5" name=""/>
          <p:cNvGraphicFramePr/>
          <p:nvPr/>
        </p:nvGraphicFramePr>
        <p:xfrm>
          <a:off x="457200" y="1600200"/>
          <a:ext cx="8291520" cy="4481640"/>
        </p:xfrm>
        <a:graphic>
          <a:graphicData uri="http://schemas.openxmlformats.org/drawingml/2006/table">
            <a:tbl>
              <a:tblPr/>
              <a:tblGrid>
                <a:gridCol w="2763720"/>
                <a:gridCol w="2764080"/>
                <a:gridCol w="2763720"/>
              </a:tblGrid>
              <a:tr h="15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</a:tr>
              <a:tr h="150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66"/>
                    </a:solidFill>
                  </a:tcPr>
                </a:tc>
              </a:tr>
            </a:tbl>
          </a:graphicData>
        </a:graphic>
      </p:graphicFrame>
      <p:sp>
        <p:nvSpPr>
          <p:cNvPr id="526" name=""/>
          <p:cNvSpPr/>
          <p:nvPr/>
        </p:nvSpPr>
        <p:spPr>
          <a:xfrm flipV="1">
            <a:off x="5292720" y="2562120"/>
            <a:ext cx="1727280" cy="72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4572000" y="2346480"/>
            <a:ext cx="7128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2408040" y="2488680"/>
            <a:ext cx="1734840" cy="79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2696760" y="3716280"/>
            <a:ext cx="13734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219640" y="3789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0" y="3933720"/>
            <a:ext cx="14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364000" y="3500280"/>
            <a:ext cx="1584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2481120" y="3429000"/>
            <a:ext cx="14464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dur="indefinite" fill="hold">
                      <p:stCondLst>
                        <p:cond delay="0"/>
                      </p:stCondLst>
                      <p:childTnLst>
                        <p:par>
                          <p:cTn id="6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dur="indefinite" fill="hold">
                      <p:stCondLst>
                        <p:cond delay="indefinite"/>
                      </p:stCondLst>
                      <p:childTnLst>
                        <p:par>
                          <p:cTn id="6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2000" fill="hold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828360" cy="764064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.И. Менделеев  предсказал существование 11 химических  эле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     Sc    Ge    Re    Po   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     Ac    Tc     Fr    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979560" y="3716280"/>
            <a:ext cx="73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 месте, где  должны были сто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известные  элементы,  он оставил пус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еточк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dur="indefinite" fill="hold">
                      <p:stCondLst>
                        <p:cond delay="indefinite"/>
                      </p:stCondLst>
                      <p:childTnLst>
                        <p:par>
                          <p:cTn id="6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dur="indefinite" fill="hold">
                      <p:stCondLst>
                        <p:cond delay="indefinite"/>
                      </p:stCondLst>
                      <p:childTnLst>
                        <p:par>
                          <p:cTn id="6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dur="indefinite" fill="hold">
                      <p:stCondLst>
                        <p:cond delay="indefinite"/>
                      </p:stCondLst>
                      <p:childTnLst>
                        <p:par>
                          <p:cTn id="7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dur="indefinite" fill="hold">
                      <p:stCondLst>
                        <p:cond delay="indefinite"/>
                      </p:stCondLst>
                      <p:childTnLst>
                        <p:par>
                          <p:cTn id="7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2268360" y="2060640"/>
            <a:ext cx="935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0" y="-260280"/>
            <a:ext cx="9144000" cy="711828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sp>
        <p:nvSpPr>
          <p:cNvPr id="540" name=""/>
          <p:cNvSpPr/>
          <p:nvPr/>
        </p:nvSpPr>
        <p:spPr>
          <a:xfrm flipV="1">
            <a:off x="2268360" y="2488680"/>
            <a:ext cx="358920" cy="29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268360" y="1985760"/>
            <a:ext cx="432000" cy="29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132000" y="2489040"/>
            <a:ext cx="43200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796000" y="3930480"/>
            <a:ext cx="43164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932360" y="4433760"/>
            <a:ext cx="43164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39640" y="4938480"/>
            <a:ext cx="360360" cy="29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2340000" y="4938480"/>
            <a:ext cx="36036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867280" y="4505040"/>
            <a:ext cx="36036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896400" y="6521400"/>
            <a:ext cx="36540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1688760" y="4938480"/>
            <a:ext cx="438120" cy="29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6081840" y="2993760"/>
            <a:ext cx="36504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dur="indefinite" fill="hold">
                      <p:stCondLst>
                        <p:cond delay="indefinite"/>
                      </p:stCondLst>
                      <p:childTnLst>
                        <p:par>
                          <p:cTn id="7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5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534960" y="260280"/>
            <a:ext cx="820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емент  галлий  открыл француз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ёный Буабодр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01480" y="2205000"/>
            <a:ext cx="864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вольный и счастл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матривал метал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писем из России никак не ожида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взял письмо, прочел его. От русского ученого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шибся я! Слыхали?! — Француз был удивл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глаза не видел Галлий, а свойства знает он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 высчитал удельный точней, чем я, стокр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й-то Менделеев еще пять лет наза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за его сверкали, -  топорщились у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вот металл свой Галлий он кинул на весы!.. Ответ в Россию мчится: «Прекрасная Таблиц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Вами восхищен! Проверен мной практ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н периодичес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я категорически приветствую Закон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6373800" y="1482840"/>
            <a:ext cx="1944720" cy="1627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564000" y="1444680"/>
            <a:ext cx="5400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щность открытия Менделеева заключалась в том, что с ростом атомной массы химических элементов их свойства меняются не монотонно, а периодически. После определённого количества разных по свойствам элементов, расположенных по возрастанию атомного веса, свойства начинают повторяться. Например, натрий похож на калий, фтор похож на хлор, а золото похоже на серебро и медь. Разумеется, свойства не повторяются в точности, к ним добавляются и изменения. Отличием работы Менделеева от работ его предшественников было то, что основ для классификации элементов у Менделеева была не одна, а две — атомная масса и химическое сходство. Для того, чтобы периодичность полностью соблюдалась, Менделеевым были предприняты очень смелые шаги: он исправил атомные массы некоторых элементов, несколько элементов разместил в своей системе вопреки принятым в то время представлениям об их сходстве с другими (например ,галлий, считавшийся щелочным металлом, он поместил в третью группу согласно его фактической максимальной валентности), оставил в таблице пустые клетки, где должны были разместиться пока не открытые элементы. В 1871 году  на основе этих работ Менделеев формулирует периодический зак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6920" y="26028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ность открытия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324000" y="1414440"/>
            <a:ext cx="2736720" cy="338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"/>
              </a:rPr>
              <a:t>Подведение итогов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ичины открытия за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науки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бходимость класс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н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дагогическ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ка «Основ хим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лант и целеустремлё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356000" y="1557360"/>
            <a:ext cx="40388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ткрытия Д.И. Менделеева в ходе работы над зако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 систематики атомный вес и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поставление групп несходных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: атомный вес среднего члена группы равен полу сумме атомных весов крайних чле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равление атомных весов элементов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, La, Y, Er, Ce, Th, 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ествование  неоткрытых элементов и предсказание их свой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dur="indefinite" fill="hold">
                      <p:stCondLst>
                        <p:cond delay="0"/>
                      </p:stCondLst>
                      <p:childTnLst>
                        <p:par>
                          <p:cTn id="7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ременная  формулировка периодического Зак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войства  простых тел, а  так  же  формы и свойства  их  соединений,  находятся в  периодической зависимости  от  величины заряда  атом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dur="indefinite" fill="hold">
                      <p:stCondLst>
                        <p:cond delay="0"/>
                      </p:stCondLst>
                      <p:childTnLst>
                        <p:par>
                          <p:cTn id="7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dur="indefinite" fill="hold">
                      <p:stCondLst>
                        <p:cond delay="indefinite"/>
                      </p:stCondLst>
                      <p:childTnLst>
                        <p:par>
                          <p:cTn id="7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dur="indefinite" fill="hold">
                      <p:stCondLst>
                        <p:cond delay="indefinite"/>
                      </p:stCondLst>
                      <p:childTnLst>
                        <p:par>
                          <p:cTn id="7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 fill="hold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210348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6720" y="1363680"/>
            <a:ext cx="9013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Times New Roman"/>
              </a:rPr>
              <a:t>Чтобы создать Периодический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Times New Roman"/>
              </a:rPr>
              <a:t>Закон  химических элементо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Times New Roman"/>
              </a:rPr>
              <a:t>Д. И. Менделееву  понадобил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Times New Roman"/>
              </a:rPr>
              <a:t>один день.</a:t>
            </a:r>
            <a:br>
              <a:rPr sz="4800"/>
            </a:br>
            <a:r>
              <a:rPr b="1" lang="ru-RU" sz="4800" spc="-1" strike="noStrike">
                <a:solidFill>
                  <a:srgbClr val="006600"/>
                </a:solidFill>
                <a:latin typeface="Times New Roman"/>
              </a:rPr>
              <a:t> Один день - И ВСЯ ЖИЗНЬ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dur="indefinite" fill="hold">
                      <p:stCondLst>
                        <p:cond delay="indefinite"/>
                      </p:stCondLst>
                      <p:childTnLst>
                        <p:par>
                          <p:cTn id="7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нолов К. Великие химики - М., Мир, 19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ареня А.А., Рысев Ю.В. Д.И. Менделеев – М., Просвещение, 19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рянов И.В., Трифонов Д.Н. Великий закон – М., Педагогика, 19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ареня А.А., Трифонов Д.Н. Периодический закон Д.И. Менделеева – М., Просвещение, 19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алков Ю.Я. В клетке №… - М., Детская литература, 19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alhimik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dur="indefinite" fill="hold">
                      <p:stCondLst>
                        <p:cond delay="0"/>
                      </p:stCondLst>
                      <p:childTnLst>
                        <p:par>
                          <p:cTn id="7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 fill="hold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dur="indefinite" fill="hold">
                      <p:stCondLst>
                        <p:cond delay="indefinite"/>
                      </p:stCondLst>
                      <p:childTnLst>
                        <p:par>
                          <p:cTn id="7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dur="indefinite" fill="hold">
                      <p:stCondLst>
                        <p:cond delay="indefinite"/>
                      </p:stCondLst>
                      <p:childTnLst>
                        <p:par>
                          <p:cTn id="7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dur="indefinite" fill="hold">
                      <p:stCondLst>
                        <p:cond delay="indefinite"/>
                      </p:stCondLst>
                      <p:childTnLst>
                        <p:par>
                          <p:cTn id="7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dur="indefinite" fill="hold">
                      <p:stCondLst>
                        <p:cond delay="indefinite"/>
                      </p:stCondLst>
                      <p:childTnLst>
                        <p:par>
                          <p:cTn id="8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dur="indefinite" fill="hold">
                      <p:stCondLst>
                        <p:cond delay="indefinite"/>
                      </p:stCondLst>
                      <p:childTnLst>
                        <p:par>
                          <p:cTn id="8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dur="indefinite" fill="hold">
                      <p:stCondLst>
                        <p:cond delay="indefinite"/>
                      </p:stCondLst>
                      <p:childTnLst>
                        <p:par>
                          <p:cTn id="8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Выяснение конкретных причин установления зак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Установление открытий, сделанных Менделеевым в ходе работы над зако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Установление выводов, сделанных Менделеевым о своём зако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Доказательство первенства Менделеева в открытии зак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Установление фактов научного доказательства и развития периодического закона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2724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97476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73560" y="189000"/>
            <a:ext cx="537516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58880">
              <a:lnSpc>
                <a:spcPct val="100000"/>
              </a:lnSpc>
              <a:tabLst>
                <a:tab algn="l" pos="0"/>
                <a:tab algn="l" pos="7621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296280"/>
                <a:tab algn="l" pos="97455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ругого ничего  в  природе  не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и здесь, ни там , в космических  глубинах  :всё - от песчинок   малых до -  планет  из  элемент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стоит   еди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                            С. Щипачёв.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                     («Читая Менделеева»)                                      </a:t>
            </a: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2421000"/>
            <a:ext cx="74898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6240" algn="ctr">
              <a:spcBef>
                <a:spcPts val="1100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 algn="ctr">
              <a:spcBef>
                <a:spcPts val="7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исследова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>
              <a:spcBef>
                <a:spcPts val="601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>
              <a:spcBef>
                <a:spcPts val="601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тория открытия Периодического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 algn="ctr">
              <a:spcBef>
                <a:spcPts val="601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. И. Менделе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 algn="ctr">
              <a:spcBef>
                <a:spcPts val="1100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0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189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было известно до открытия зак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400040"/>
            <a:ext cx="784836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3333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Было известно 63 химических элемента. Далеко не все свойства этих элементов были достаточно изучены, даже атомные веса некоторых оказались неправильно или неточно определе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3333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Решением международного съезда химиков в городе Карлсруэ в 1860 году утвердилось атомно-молекулярное учение, приняты определения понятий молекулы, атома, атомного в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3333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едпринято около 50 попыток классифицировать химические эле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742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вые попытки классификации химических  элемент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Всего в  науке  было предпринято  около  50  попыток  классифицировать химические  элеме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Среди  учёных  в  химии называют  в основном   имена  трёх учёных,  сыгравших  более существенную  роль при  классификации.  К  ним  относя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0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боты  Джона Рейна Ньюленд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84720" y="1844640"/>
            <a:ext cx="2590920" cy="287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6666" t="19918" r="6401" b="15439"/>
          <a:stretch/>
        </p:blipFill>
        <p:spPr>
          <a:xfrm>
            <a:off x="611280" y="1628640"/>
            <a:ext cx="4392360" cy="3240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76360" y="5373720"/>
            <a:ext cx="5832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йский хими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жон Александер Рейна Ньюленд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1865 году предложи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кон окта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0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 -6 3.33333 -6  C 0.06892 3.33333 -6  0.125 0.02847  0.125 0.06389  C 0.125 0.09907  0.06892 0.12777  3.61111 -6 0.12777  C -0.0691 0.12777  -0.125 0.09907  -0.125 0.06389  C -0.125 0.02847  -0.0691 3.33333 -6  3.61111 -6 3.33333 -6  Z">
                                      <p:cBhvr>
                                        <p:cTn id="13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Джон Ньюлендс 1865г.</a:t>
            </a:r>
            <a:br>
              <a:rPr sz="4400"/>
            </a:b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Закон «Окта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480" y="2017800"/>
          <a:ext cx="8366400" cy="44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17800"/>
                    <a:ext cx="836640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0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CLAP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4:13:33Z</dcterms:created>
  <dc:creator>Admin</dc:creator>
  <dc:description/>
  <dc:language>en-US</dc:language>
  <cp:lastModifiedBy>USER_NAME</cp:lastModifiedBy>
  <dcterms:modified xsi:type="dcterms:W3CDTF">2010-07-12T10:18:01Z</dcterms:modified>
  <cp:revision>12</cp:revision>
  <dc:subject/>
  <dc:title>Слайд 1</dc:title>
</cp:coreProperties>
</file>