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D8B4-CFBB-489E-B604-F9A2723C5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E43A-B1D3-47AA-963F-FFE74F8EC3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16E-9322-4F95-B8EF-A806753A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163-6C00-4CBB-BA04-7D2FBBC2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3E90-D7CA-42DF-8E86-49BCAADE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912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920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5904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9912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920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884-63E5-4B67-8E15-72773CC9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7573-9805-4D0B-9DE3-9D78A5ED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B9A5-37C3-4026-9EF0-1C7D840F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B56A-462F-4CBE-AAB5-F99E45FC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815F-C2C5-4DEA-9732-4CD22B60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D2D6-BD9D-426D-A7B9-2FE432AE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59040" y="274320"/>
            <a:ext cx="72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7CB9-E66A-466C-B2BA-9FFF2D7A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367E-1ACA-4127-BD5D-40E7F278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6F9-8482-478A-AC49-5FCB9A7C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EF58-FEDF-4A58-896E-B9F2E05F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8D91-B152-423D-BC47-86E904C3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45C9-12D1-4FC1-ADD4-AF052FEF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5F33-83AD-43AC-8F90-18C3C492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9912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3920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5904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9912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3920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4C1A-1AE1-4595-8148-C8230AA4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BD7-1DD5-4461-821B-944383D9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67F-C253-4896-8B87-D1F1DFDA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F9A-4FDF-47AC-8F47-350355E7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59040" y="274320"/>
            <a:ext cx="72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D7D-3955-4EB3-BF4B-CFA2496C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674-8604-4CD0-9226-53E4D5D7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C1D-D888-4261-A4AE-8BE3F7DD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8A4-C150-4E62-9194-7AD21140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ДОУ детский сад №9 п. Каменский 2011г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CFC6-50EA-42FB-A06D-DF27163C1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ДОУ детский сад №9 п. Каменский 2011г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2765-4ED4-4E62-9912-8CEF233F50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12360" y="2136600"/>
            <a:ext cx="7945560" cy="23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Нравственно-патриотическое воспитание дет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средствами музы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858960" y="2840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КУ  ХМАО-Югры «Урайский специализированный  </a:t>
            </a:r>
            <a:endParaRPr b="0" i="1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Дом ребенка»</a:t>
            </a:r>
            <a:endParaRPr b="0" i="1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2001960" y="5924520"/>
            <a:ext cx="68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26a"/>
                </a:solidFill>
                <a:latin typeface="Lucida Sans Unicode"/>
              </a:rPr>
              <a:t>Подготовила: музыкальный руководитель</a:t>
            </a:r>
            <a:br>
              <a:rPr sz="1800"/>
            </a:br>
            <a:r>
              <a:rPr b="1" i="1" lang="ru-RU" sz="1800" spc="-1" strike="noStrike">
                <a:solidFill>
                  <a:srgbClr val="00226a"/>
                </a:solidFill>
                <a:latin typeface="Lucida Sans Unicode"/>
              </a:rPr>
              <a:t>Балакина Р.А.</a:t>
            </a:r>
            <a:endParaRPr b="0" i="1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"/>
          <p:cNvPicPr/>
          <p:nvPr/>
        </p:nvPicPr>
        <p:blipFill>
          <a:blip r:embed="rId2"/>
          <a:stretch/>
        </p:blipFill>
        <p:spPr>
          <a:xfrm>
            <a:off x="4489560" y="3376440"/>
            <a:ext cx="4471920" cy="3353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2" descr=""/>
          <p:cNvPicPr/>
          <p:nvPr/>
        </p:nvPicPr>
        <p:blipFill>
          <a:blip r:embed="rId3"/>
          <a:stretch/>
        </p:blipFill>
        <p:spPr>
          <a:xfrm>
            <a:off x="712800" y="3181320"/>
            <a:ext cx="2660760" cy="35481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"/>
          <p:cNvPicPr/>
          <p:nvPr/>
        </p:nvPicPr>
        <p:blipFill>
          <a:blip r:embed="rId4"/>
          <a:stretch/>
        </p:blipFill>
        <p:spPr>
          <a:xfrm>
            <a:off x="4070520" y="77760"/>
            <a:ext cx="4260600" cy="31957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"/>
          <p:cNvPicPr/>
          <p:nvPr/>
        </p:nvPicPr>
        <p:blipFill>
          <a:blip r:embed="rId5"/>
          <a:stretch/>
        </p:blipFill>
        <p:spPr>
          <a:xfrm>
            <a:off x="676440" y="77760"/>
            <a:ext cx="2734920" cy="34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0400" y="353520"/>
            <a:ext cx="858348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Особое значение в рамках нравственно – патриотического воспитания имеет тема</a:t>
            </a:r>
            <a:r>
              <a:rPr b="1" lang="ru-RU" sz="20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«Защитники Отечества»</a:t>
            </a:r>
            <a:r>
              <a:rPr b="0" lang="ru-RU" sz="20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2"/>
          <a:stretch/>
        </p:blipFill>
        <p:spPr>
          <a:xfrm>
            <a:off x="203040" y="4268880"/>
            <a:ext cx="3391200" cy="25383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"/>
          <p:cNvPicPr/>
          <p:nvPr/>
        </p:nvPicPr>
        <p:blipFill>
          <a:blip r:embed="rId3"/>
          <a:stretch/>
        </p:blipFill>
        <p:spPr>
          <a:xfrm>
            <a:off x="5037120" y="893880"/>
            <a:ext cx="3355920" cy="2516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"/>
          <p:cNvPicPr/>
          <p:nvPr/>
        </p:nvPicPr>
        <p:blipFill>
          <a:blip r:embed="rId4"/>
          <a:stretch/>
        </p:blipFill>
        <p:spPr>
          <a:xfrm>
            <a:off x="203040" y="952560"/>
            <a:ext cx="3024360" cy="3076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"/>
          <p:cNvPicPr/>
          <p:nvPr/>
        </p:nvPicPr>
        <p:blipFill>
          <a:blip r:embed="rId5"/>
          <a:stretch/>
        </p:blipFill>
        <p:spPr>
          <a:xfrm>
            <a:off x="4525920" y="3457440"/>
            <a:ext cx="4378320" cy="32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2720" y="0"/>
            <a:ext cx="625464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Главной остаётся тема Великой Победы, где раскрывается величие подвига советского нар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2"/>
          <a:stretch/>
        </p:blipFill>
        <p:spPr>
          <a:xfrm>
            <a:off x="324000" y="2687760"/>
            <a:ext cx="5271840" cy="39225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"/>
          <p:cNvPicPr/>
          <p:nvPr/>
        </p:nvPicPr>
        <p:blipFill>
          <a:blip r:embed="rId3"/>
          <a:stretch/>
        </p:blipFill>
        <p:spPr>
          <a:xfrm>
            <a:off x="5214960" y="1170000"/>
            <a:ext cx="3541680" cy="2633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"/>
          <p:cNvPicPr/>
          <p:nvPr/>
        </p:nvPicPr>
        <p:blipFill>
          <a:blip r:embed="rId4"/>
          <a:stretch/>
        </p:blipFill>
        <p:spPr>
          <a:xfrm>
            <a:off x="5756400" y="3886200"/>
            <a:ext cx="2458800" cy="28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4"/>
          <p:cNvSpPr/>
          <p:nvPr/>
        </p:nvSpPr>
        <p:spPr>
          <a:xfrm>
            <a:off x="0" y="16200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682"/>
                </a:solidFill>
                <a:latin typeface="Times New Roman"/>
                <a:ea typeface="Times New Roman"/>
              </a:rPr>
              <a:t>« В Душе и сердце Ребёнка должны быть поселены: </a:t>
            </a:r>
            <a:br>
              <a:rPr sz="2000"/>
            </a:br>
            <a:r>
              <a:rPr b="0" lang="ru-RU" sz="2000" spc="-1" strike="noStrike">
                <a:solidFill>
                  <a:srgbClr val="004682"/>
                </a:solidFill>
                <a:latin typeface="Times New Roman"/>
                <a:ea typeface="Times New Roman"/>
              </a:rPr>
              <a:t>светлые образы, мысли и мечтания- чувство прекрасного, устремлённость к благу; мужество и бесстрашие; чувство заботы и сострадания, радости и восхищения …» </a:t>
            </a:r>
            <a:br>
              <a:rPr sz="2000"/>
            </a:br>
            <a:r>
              <a:rPr b="0" lang="ru-RU" sz="2000" spc="-1" strike="noStrike">
                <a:solidFill>
                  <a:srgbClr val="004682"/>
                </a:solidFill>
                <a:latin typeface="Times New Roman"/>
                <a:ea typeface="Times New Roman"/>
              </a:rPr>
              <a:t>                                                           Ш.А. Амонашвили</a:t>
            </a:r>
            <a:endParaRPr b="0" i="1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34" name="Рисунок 1" descr=""/>
          <p:cNvPicPr/>
          <p:nvPr/>
        </p:nvPicPr>
        <p:blipFill>
          <a:blip r:embed="rId2"/>
          <a:stretch/>
        </p:blipFill>
        <p:spPr>
          <a:xfrm>
            <a:off x="5386320" y="4035600"/>
            <a:ext cx="3592440" cy="26953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" descr=""/>
          <p:cNvPicPr/>
          <p:nvPr/>
        </p:nvPicPr>
        <p:blipFill>
          <a:blip r:embed="rId3"/>
          <a:stretch/>
        </p:blipFill>
        <p:spPr>
          <a:xfrm>
            <a:off x="290520" y="4032360"/>
            <a:ext cx="3597120" cy="26985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3" descr=""/>
          <p:cNvPicPr/>
          <p:nvPr/>
        </p:nvPicPr>
        <p:blipFill>
          <a:blip r:embed="rId4"/>
          <a:stretch/>
        </p:blipFill>
        <p:spPr>
          <a:xfrm>
            <a:off x="576360" y="1141560"/>
            <a:ext cx="3720960" cy="2790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"/>
          <p:cNvPicPr/>
          <p:nvPr/>
        </p:nvPicPr>
        <p:blipFill>
          <a:blip r:embed="rId5"/>
          <a:stretch/>
        </p:blipFill>
        <p:spPr>
          <a:xfrm>
            <a:off x="4983120" y="1433520"/>
            <a:ext cx="3036960" cy="24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708440" y="791640"/>
            <a:ext cx="412776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682"/>
                </a:solidFill>
                <a:latin typeface="Times New Roman"/>
                <a:ea typeface="Times New Roman"/>
              </a:rPr>
              <a:t>Там живут дети, маленькие, хрупкие и очень  доверчивые,  любознательные, задорные, веселые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682"/>
                </a:solidFill>
                <a:latin typeface="Times New Roman"/>
                <a:ea typeface="Times New Roman"/>
              </a:rPr>
              <a:t>Они смотрят на мир широко открытыми глазам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682"/>
                </a:solidFill>
                <a:latin typeface="Times New Roman"/>
                <a:ea typeface="Times New Roman"/>
              </a:rPr>
              <a:t>В этом мире они  не од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682"/>
                </a:solidFill>
                <a:latin typeface="Times New Roman"/>
                <a:ea typeface="Times New Roman"/>
              </a:rPr>
              <a:t>С ними  рука об руку идем мы  взрослые, опора, надежда, вера, для каждого маленького чело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682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4682"/>
                </a:solidFill>
                <a:latin typeface="Times New Roman"/>
                <a:ea typeface="Times New Roman"/>
              </a:rPr>
              <a:t>Маленькие, беззащитные, они верят в нас взрослых, доверяют нам, любят нас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682"/>
                </a:solidFill>
                <a:latin typeface="Times New Roman"/>
                <a:ea typeface="Times New Roman"/>
              </a:rPr>
              <a:t>Мы, взрослые,  тоже любим наших детей, не правда ли, и должны им это показ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682"/>
                </a:solidFill>
                <a:latin typeface="Times New Roman"/>
                <a:ea typeface="Times New Roman"/>
              </a:rPr>
              <a:t>Любовь,  взаимопонимание, доверие, важные качества,  которые  живут в стране «Детств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1463760" y="541440"/>
            <a:ext cx="45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682"/>
                </a:solidFill>
                <a:latin typeface="Times New Roman"/>
                <a:ea typeface="Times New Roman"/>
              </a:rPr>
              <a:t>Детство – прекрасная пора, беззаботное, замечательное время.</a:t>
            </a:r>
            <a:endParaRPr b="0" i="1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40" name="Рисунок 1" descr=""/>
          <p:cNvPicPr/>
          <p:nvPr/>
        </p:nvPicPr>
        <p:blipFill>
          <a:blip r:embed="rId2"/>
          <a:stretch/>
        </p:blipFill>
        <p:spPr>
          <a:xfrm>
            <a:off x="0" y="2459160"/>
            <a:ext cx="4925880" cy="36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5"/>
          <p:cNvSpPr/>
          <p:nvPr/>
        </p:nvSpPr>
        <p:spPr>
          <a:xfrm>
            <a:off x="2048040" y="2798640"/>
            <a:ext cx="574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682"/>
                </a:solidFill>
                <a:latin typeface="Times New Roman"/>
                <a:ea typeface="Times New Roman"/>
              </a:rPr>
              <a:t>Спасибо за внимание!</a:t>
            </a:r>
            <a:endParaRPr b="0" i="1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9280" y="382680"/>
            <a:ext cx="8070840" cy="56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Невозможно переоценить роль музыки в нравственно -патриотическом воспитании ребёнка. Музыка способна воздействовать на чувства и настроение ребёнка, преобразовывать его нравственный и духовный мир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Задача музыкального образования- </a:t>
            </a:r>
            <a:r>
              <a:rPr b="0" lang="ru-RU" sz="32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воспитание души ребёнка средствами музыки, воздействие на процесс становления его нравственных кач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3720" y="285840"/>
            <a:ext cx="858996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Большие потенциальные возможности нравственно-патриотического воздействия  заключаются в народной музыке. Через народные песни и танцы в детях воспитывается чувство патриотизма национальной горд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Рисунок 1" descr=""/>
          <p:cNvPicPr/>
          <p:nvPr/>
        </p:nvPicPr>
        <p:blipFill>
          <a:blip r:embed="rId2"/>
          <a:stretch/>
        </p:blipFill>
        <p:spPr>
          <a:xfrm>
            <a:off x="5870520" y="3457440"/>
            <a:ext cx="3171960" cy="21146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"/>
          <p:cNvPicPr/>
          <p:nvPr/>
        </p:nvPicPr>
        <p:blipFill>
          <a:blip r:embed="rId3"/>
          <a:stretch/>
        </p:blipFill>
        <p:spPr>
          <a:xfrm>
            <a:off x="3151080" y="1676520"/>
            <a:ext cx="2595600" cy="38955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" descr=""/>
          <p:cNvPicPr/>
          <p:nvPr/>
        </p:nvPicPr>
        <p:blipFill>
          <a:blip r:embed="rId4"/>
          <a:stretch/>
        </p:blipFill>
        <p:spPr>
          <a:xfrm>
            <a:off x="60480" y="3349800"/>
            <a:ext cx="2966760" cy="22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2"/>
          <a:stretch/>
        </p:blipFill>
        <p:spPr>
          <a:xfrm>
            <a:off x="4713120" y="36385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3"/>
          <a:stretch/>
        </p:blipFill>
        <p:spPr>
          <a:xfrm>
            <a:off x="231840" y="363852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4"/>
          <a:stretch/>
        </p:blipFill>
        <p:spPr>
          <a:xfrm>
            <a:off x="2327400" y="100080"/>
            <a:ext cx="4572000" cy="34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67960" y="149040"/>
            <a:ext cx="768204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Большое место в приобщении детей к народной культуре должны занимать народные праздники и тради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2"/>
          <a:stretch/>
        </p:blipFill>
        <p:spPr>
          <a:xfrm>
            <a:off x="88920" y="4214880"/>
            <a:ext cx="4400640" cy="24764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"/>
          <p:cNvPicPr/>
          <p:nvPr/>
        </p:nvPicPr>
        <p:blipFill>
          <a:blip r:embed="rId3"/>
          <a:stretch/>
        </p:blipFill>
        <p:spPr>
          <a:xfrm>
            <a:off x="4597560" y="4214880"/>
            <a:ext cx="4400280" cy="24764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"/>
          <p:cNvPicPr/>
          <p:nvPr/>
        </p:nvPicPr>
        <p:blipFill>
          <a:blip r:embed="rId4"/>
          <a:stretch/>
        </p:blipFill>
        <p:spPr>
          <a:xfrm>
            <a:off x="2158920" y="863640"/>
            <a:ext cx="480384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0000" y="298080"/>
            <a:ext cx="7864200" cy="19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Нравственно –патриотическое воспитание ребёнка дошкольника-это</a:t>
            </a:r>
            <a:br>
              <a:rPr sz="2000"/>
            </a:br>
            <a:r>
              <a:rPr b="0" lang="ru-RU" sz="20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 прежде всего воспитание любви и уважения к матери.</a:t>
            </a:r>
            <a:br>
              <a:rPr sz="2000"/>
            </a:br>
            <a:r>
              <a:rPr b="0" lang="ru-RU" sz="20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 «Любовь к Родине начинается с любви к матери. </a:t>
            </a:r>
            <a:br>
              <a:rPr sz="2000"/>
            </a:br>
            <a:r>
              <a:rPr b="0" lang="ru-RU" sz="20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А человек начинается с его отношения к матери»             </a:t>
            </a:r>
            <a:br>
              <a:rPr sz="2000"/>
            </a:br>
            <a:r>
              <a:rPr b="0" lang="ru-RU" sz="20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                                                                                            Ю.Я.Яковл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96840" y="3081240"/>
            <a:ext cx="4413240" cy="3310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"/>
          <p:cNvPicPr/>
          <p:nvPr/>
        </p:nvPicPr>
        <p:blipFill>
          <a:blip r:embed="rId3"/>
          <a:stretch/>
        </p:blipFill>
        <p:spPr>
          <a:xfrm>
            <a:off x="4613400" y="3081240"/>
            <a:ext cx="4411440" cy="33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4" descr=""/>
          <p:cNvPicPr/>
          <p:nvPr/>
        </p:nvPicPr>
        <p:blipFill>
          <a:blip r:embed="rId2"/>
          <a:stretch/>
        </p:blipFill>
        <p:spPr>
          <a:xfrm>
            <a:off x="4808520" y="3559320"/>
            <a:ext cx="4189320" cy="31413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"/>
          <p:cNvPicPr/>
          <p:nvPr/>
        </p:nvPicPr>
        <p:blipFill>
          <a:blip r:embed="rId3"/>
          <a:stretch/>
        </p:blipFill>
        <p:spPr>
          <a:xfrm>
            <a:off x="114480" y="3559320"/>
            <a:ext cx="4251240" cy="3189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" descr=""/>
          <p:cNvPicPr/>
          <p:nvPr/>
        </p:nvPicPr>
        <p:blipFill>
          <a:blip r:embed="rId4"/>
          <a:stretch/>
        </p:blipFill>
        <p:spPr>
          <a:xfrm>
            <a:off x="2239920" y="65160"/>
            <a:ext cx="4545000" cy="34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5040" y="421920"/>
            <a:ext cx="72784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Для ребенка Родина – это мама, близкие и родные люди, окружающие его. Это дом, где он живет, двор, где играет, это воспитатели и дети, которые его окруж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1" descr=""/>
          <p:cNvPicPr/>
          <p:nvPr/>
        </p:nvPicPr>
        <p:blipFill>
          <a:blip r:embed="rId2"/>
          <a:stretch/>
        </p:blipFill>
        <p:spPr>
          <a:xfrm>
            <a:off x="291960" y="4148280"/>
            <a:ext cx="3440160" cy="25794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"/>
          <p:cNvPicPr/>
          <p:nvPr/>
        </p:nvPicPr>
        <p:blipFill>
          <a:blip r:embed="rId3"/>
          <a:stretch/>
        </p:blipFill>
        <p:spPr>
          <a:xfrm>
            <a:off x="5362560" y="4148280"/>
            <a:ext cx="3438720" cy="25794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"/>
          <p:cNvPicPr/>
          <p:nvPr/>
        </p:nvPicPr>
        <p:blipFill>
          <a:blip r:embed="rId4"/>
          <a:stretch/>
        </p:blipFill>
        <p:spPr>
          <a:xfrm>
            <a:off x="611280" y="1357200"/>
            <a:ext cx="3603600" cy="27003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" descr=""/>
          <p:cNvPicPr/>
          <p:nvPr/>
        </p:nvPicPr>
        <p:blipFill>
          <a:blip r:embed="rId5"/>
          <a:stretch/>
        </p:blipFill>
        <p:spPr>
          <a:xfrm>
            <a:off x="4905360" y="1380960"/>
            <a:ext cx="357192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1120" y="160200"/>
            <a:ext cx="8515440" cy="13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6a"/>
                </a:solidFill>
                <a:latin typeface="Times New Roman"/>
                <a:ea typeface="Times New Roman"/>
              </a:rPr>
              <a:t>Чувство любви к родной природе-одно из слагаемых патриотизма. Через восприятие музыкальных образов, вызывающих у детей разнообразные эмоциональные переживания  в процессе слушания музыкальных произведений  воспитывается отношение к образам при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2" descr=""/>
          <p:cNvPicPr/>
          <p:nvPr/>
        </p:nvPicPr>
        <p:blipFill>
          <a:blip r:embed="rId2"/>
          <a:stretch/>
        </p:blipFill>
        <p:spPr>
          <a:xfrm>
            <a:off x="411120" y="1468440"/>
            <a:ext cx="3841920" cy="25606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"/>
          <p:cNvPicPr/>
          <p:nvPr/>
        </p:nvPicPr>
        <p:blipFill>
          <a:blip r:embed="rId3"/>
          <a:stretch/>
        </p:blipFill>
        <p:spPr>
          <a:xfrm>
            <a:off x="4668840" y="1468440"/>
            <a:ext cx="4059360" cy="25034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"/>
          <p:cNvPicPr/>
          <p:nvPr/>
        </p:nvPicPr>
        <p:blipFill>
          <a:blip r:embed="rId4"/>
          <a:stretch/>
        </p:blipFill>
        <p:spPr>
          <a:xfrm>
            <a:off x="411120" y="4105440"/>
            <a:ext cx="3841920" cy="25621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"/>
          <p:cNvPicPr/>
          <p:nvPr/>
        </p:nvPicPr>
        <p:blipFill>
          <a:blip r:embed="rId5"/>
          <a:stretch/>
        </p:blipFill>
        <p:spPr>
          <a:xfrm>
            <a:off x="4668840" y="4033800"/>
            <a:ext cx="4059360" cy="270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05:35:31Z</dcterms:created>
  <dc:creator>д сад</dc:creator>
  <dc:description/>
  <dc:language>en-US</dc:language>
  <cp:lastModifiedBy>MoiHome</cp:lastModifiedBy>
  <dcterms:modified xsi:type="dcterms:W3CDTF">2022-04-08T16:46:03Z</dcterms:modified>
  <cp:revision>146</cp:revision>
  <dc:subject/>
  <dc:title>Слайд 1</dc:title>
</cp:coreProperties>
</file>