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25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663D-C112-4C9F-9DA7-D43276BA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FD9-78F7-4D55-95E7-03E8965D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837-B73D-4C1A-852C-9E8833F9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BAD-1631-41D4-ADB3-9085A0A1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C4E7-3847-455C-AE22-B63BCADE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8349-7B5F-41F6-9EB3-96406796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D9A0-2D14-47F3-A9A6-0202445D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8191-D250-439F-96CB-0AC95FA0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F3BB-21FB-469C-94F7-0C71D205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4624-F11B-4858-8169-A22E4DB5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9CF6-707A-4264-BEFE-9858EEF0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3BC8-4B39-4673-AB1B-DC90DCD9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29EF-C6CB-47DE-ABB5-A48EE348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D70C-68CF-4338-AAF6-28EF982A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6039-2546-4147-A1FC-6D2C7D5C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3C7F-653D-483A-9AD0-EC8D9634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65C6-A2A2-41DA-914B-24619501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53636-8DD6-42E0-B0EA-329DB733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337D-E376-4623-9779-01A334CB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83E15-A310-454B-B1A8-146B3EB3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F746B-73AD-4C9D-9753-E6480D75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1FAA-0CD7-4F51-9E1D-E664925D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80F-9DA3-4351-8580-67C5BC15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3C5E-B601-4301-A6B2-376D7CE5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AF69-070F-4CB1-98DB-195A197A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5AD0-D3D1-4AAB-98EE-0E0BACA0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883A-F1CD-466D-A1AA-FCF69874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907CA-1A26-42C8-9E84-6FE512AD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A9ACF-34BC-4760-A649-5661D967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25A8B-9A81-4590-B559-510D2BB3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51F3C-7B8A-4F70-8177-9932E5C2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EBAEB-24F2-4CA1-934C-3A5B7846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AC51E-4A90-449A-AA8E-8420BCB6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91D-AF64-4CA8-BB51-338D943E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CACEF-348F-419C-9D25-65890406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0DA95-F563-457B-B114-D91DA9D8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A702A-75B5-45CC-9BBD-4F0EA720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9E75E-E030-425E-959F-80BA0698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AF846-2E3B-4CE3-9A23-89315DA7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0BADC-A3A2-48DD-8E33-C0EB2F4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B0FA9-8EB5-4D13-88D7-ED749D49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2F0F9-2704-40F3-9053-611FA033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F7531-EA85-4AE0-946F-D1B28B9F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460-50FC-410E-9240-8361D7AC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AD2-BE78-4BAB-99A5-9B13E59F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005-3BAB-4915-983A-4D2C3654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E44-CB99-4BA0-B5E6-693E8A16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E5C-CD81-413F-9911-F016EF4C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3346-903A-475D-ACF8-94E0990928D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9581-F3D2-42DD-8DBB-C1DDD665B0D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6D19-FD8E-4EC5-88E5-F46CB9576E1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7490-5BEF-4C16-9E0B-51056DA4E1D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1474920"/>
            <a:ext cx="8388360" cy="2195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780000" y="4724280"/>
            <a:ext cx="42480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ОУ  №51 г. Иркутск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воспитатель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ыпкина Любовь Егоровн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"/>
          <p:cNvPicPr/>
          <p:nvPr/>
        </p:nvPicPr>
        <p:blipFill>
          <a:blip r:embed="rId2"/>
          <a:stretch/>
        </p:blipFill>
        <p:spPr>
          <a:xfrm>
            <a:off x="0" y="2997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042920" y="765000"/>
            <a:ext cx="7058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2.Разделить слово на слоги (паровозик)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ебёнок прикрепляет на нужный                                                                  сектор столько прищепок, сколько                                                         слогов в слове.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3.Определить ударный слог в слове                                                       (барабан)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ебёнок прикрепляет при                                                     щепку на сектор с номером ударного                                                                   слог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4.Составление звуковой схемы слов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                                                                                       С помощью красных, зелёных и синих                                                                            прищепок ребёнок составляет звуковую                                                                              схему слов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зависимости от целей занятия ребёнок может выполнить какие-то  определённые задания или сделать полный разбор слова.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25923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Calibri"/>
              </a:rPr>
              <a:t>Дидактическая игра по развитию речи </a:t>
            </a: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Calibri"/>
              </a:rPr>
              <a:t>«Волшебные сундучки»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16000" y="1267920"/>
            <a:ext cx="691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развитие фонематического слуха, звукового анализа в начале слова. Для детей 5-7 лет.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Материал: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ундучки красного, зеленого и синего цвета, предметные картинки.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Ход игры: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грают 1-2 ребёнка. В красный сундучок собираем те предметные картинки, которые начинаются с гласного звука, в зелёный сундучок согласные звуки мягкие, в синий сундучок, которые начинаются с согласного твёрдого звук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собие «Волшебные сундучки», используют в своей работе педагоги общеобразовательных групп детского                                                                                                              сада, для закрепления звукового анализ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6" descr="C:\Users\Люсик\Desktop\IMG_20170123_222932.JPG"/>
          <p:cNvPicPr/>
          <p:nvPr/>
        </p:nvPicPr>
        <p:blipFill>
          <a:blip r:embed="rId1"/>
          <a:stretch/>
        </p:blipFill>
        <p:spPr>
          <a:xfrm>
            <a:off x="3203640" y="3495600"/>
            <a:ext cx="26636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Дидактическая игра «Весёлая рыбалка»</a:t>
            </a:r>
            <a:br>
              <a:rPr sz="2000"/>
            </a:b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для детей дошкольного возраста (4-7 лет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42920" y="1268280"/>
            <a:ext cx="7058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Формировать фонетико-фонематические представления и слоговую структуру слова.                                                                                                        - Развивать лексико-грамматический строй речи, связную речь.                    - Стимулировать развитие психических и познавательных процессов.    - Поддерживать эмоционально-положительный комфорт.                         - Способствовать развитию общения детей, коммуникативных навыков.                              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писание игры: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данная игра состоит                                                                 из набора рыбок с картинками, «ак-                                                                       вариумы» с буквами, 2 удочки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нная игра может быть использова-                                                                на как в индивидуальной, так и в под                                                               групповой деятельности. Можно использовать рыбки  с картинками  как с одной группой звуков, так и разные.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Рисунок 3" descr=""/>
          <p:cNvPicPr/>
          <p:nvPr/>
        </p:nvPicPr>
        <p:blipFill>
          <a:blip r:embed="rId1"/>
          <a:stretch/>
        </p:blipFill>
        <p:spPr>
          <a:xfrm>
            <a:off x="5292720" y="3429000"/>
            <a:ext cx="30956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15640" y="764640"/>
            <a:ext cx="6985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уководство игрой: (варианты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Автоматизация звук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.Скажи правильно.                                                                                             2.Скажи чистоговорку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е фонетико-фоне-                                                                        матических представлений и сло-                                                                     говой структуры слова.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Определи первый звук в слове.                                                                      4.Назови последний звук в слове.                                                                     5.Определи, какие гласные звуки                                                                        спрятались в слове?                                                                                               6.Раздели слово.                                                                                                    7. Сосчитай количество звуков в                                                                            слове.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лексико-грамматического                                                                 строя речи.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.Кто это или что это?                                                                                           9.Один- мног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Рисунок 3" descr=""/>
          <p:cNvPicPr/>
          <p:nvPr/>
        </p:nvPicPr>
        <p:blipFill>
          <a:blip r:embed="rId1"/>
          <a:stretch/>
        </p:blipFill>
        <p:spPr>
          <a:xfrm>
            <a:off x="4716360" y="2852640"/>
            <a:ext cx="3240360" cy="18226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"/>
          <p:cNvPicPr/>
          <p:nvPr/>
        </p:nvPicPr>
        <p:blipFill>
          <a:blip r:embed="rId2"/>
          <a:stretch/>
        </p:blipFill>
        <p:spPr>
          <a:xfrm>
            <a:off x="4716360" y="836640"/>
            <a:ext cx="32403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258920" y="765000"/>
            <a:ext cx="6842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0. Какой? Какая? Какое?                                                                                             11.Скажи ласково.                                                                                                      12. Посчитай.                                                                                                             13. Продолжи ряд.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связной речи: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14. Составь предложение с данным                                                                  словом.                                                                                                                           15. Придумай загадк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Рисунок 3" descr=""/>
          <p:cNvPicPr/>
          <p:nvPr/>
        </p:nvPicPr>
        <p:blipFill>
          <a:blip r:embed="rId1"/>
          <a:stretch/>
        </p:blipFill>
        <p:spPr>
          <a:xfrm>
            <a:off x="3851280" y="3213000"/>
            <a:ext cx="41767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664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Дидактическая игра «Кто что ес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42920" y="1268280"/>
            <a:ext cx="7058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ебёнку предлагается прикрепить прищепки с мордочками животных на круг с видами пищи такой, как ест именно это животное. Всего 12 мордочек животных и двенадцать видов пищи. На другом круге написаны названия этих животных, для тех детей, кто уже  научился  чита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Рисунок 3" descr=""/>
          <p:cNvPicPr/>
          <p:nvPr/>
        </p:nvPicPr>
        <p:blipFill>
          <a:blip r:embed="rId1"/>
          <a:stretch/>
        </p:blipFill>
        <p:spPr>
          <a:xfrm>
            <a:off x="2124000" y="4581360"/>
            <a:ext cx="2038320" cy="13845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"/>
          <p:cNvPicPr/>
          <p:nvPr/>
        </p:nvPicPr>
        <p:blipFill>
          <a:blip r:embed="rId2"/>
          <a:stretch/>
        </p:blipFill>
        <p:spPr>
          <a:xfrm>
            <a:off x="2124000" y="3068640"/>
            <a:ext cx="2557440" cy="13683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"/>
          <p:cNvPicPr/>
          <p:nvPr/>
        </p:nvPicPr>
        <p:blipFill>
          <a:blip r:embed="rId3"/>
          <a:stretch/>
        </p:blipFill>
        <p:spPr>
          <a:xfrm>
            <a:off x="5076720" y="2924280"/>
            <a:ext cx="19288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-24336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Рисунок 1" descr=""/>
          <p:cNvPicPr/>
          <p:nvPr/>
        </p:nvPicPr>
        <p:blipFill>
          <a:blip r:embed="rId1"/>
          <a:stretch/>
        </p:blipFill>
        <p:spPr>
          <a:xfrm>
            <a:off x="2843280" y="2459160"/>
            <a:ext cx="345744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3" descr=""/>
          <p:cNvPicPr/>
          <p:nvPr/>
        </p:nvPicPr>
        <p:blipFill>
          <a:blip r:embed="rId1"/>
          <a:stretch/>
        </p:blipFill>
        <p:spPr>
          <a:xfrm>
            <a:off x="682560" y="182520"/>
            <a:ext cx="8394840" cy="22924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371600" y="2060640"/>
            <a:ext cx="64008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Дошкольный возраст - это период активного усвоения ребенком разговорного языка, становления и развития всех сторон реч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На развитие правильной речи направлены гимнастика дыхания и гимнастика губ, зубов, языка. Большое место отведено сложению слов из подвижных букв и письму. Дидактические игры – занятия с материалами и игрушками, направлены на анализ окружающего мира и закрепление представлений о нем в слове.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549000"/>
            <a:ext cx="65372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Гимнастика дых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42920" y="1341000"/>
            <a:ext cx="7058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речевого дыхания предполагает, в том числе, и выработку воздушной струи, которая считается одним из необходимых и значимых условий постановки звук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Рисунок 1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149364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«Волшебные диски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42920" y="1052280"/>
            <a:ext cx="7129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Серия дидактических игр для развития связной речи и обучения    грамоте «Волшебные диски»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Пособие окажет помощь в формировании слоговой структуры, в     совершенствовании грамматического строя речи и навыка чтения, расширении лексического запаса, развитии фонематического восприятия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000000"/>
                </a:solidFill>
                <a:uFillTx/>
                <a:latin typeface="Constantia"/>
              </a:rPr>
              <a:t>1.Дидактическая игра «Подбери рифму»:                                                                                 Цель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: учить подбирать пары рифмующихся слов; развивать фонематическое восприятие.                                                                                                                                       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Constantia"/>
              </a:rPr>
              <a:t>Варианты игры: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 Один из игроков раскручивает диск, другой играющий подбирает картинку, название которой звучит в рифму. Например: шишка- мишка и т.д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3" descr=""/>
          <p:cNvPicPr/>
          <p:nvPr/>
        </p:nvPicPr>
        <p:blipFill>
          <a:blip r:embed="rId1"/>
          <a:stretch/>
        </p:blipFill>
        <p:spPr>
          <a:xfrm>
            <a:off x="2509920" y="3068640"/>
            <a:ext cx="29257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042560" y="765000"/>
            <a:ext cx="698508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2.Дидактическая игра «Составь предложение»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учить детей составлять предложения различного вида, используя заданные слова, словесное творчество, фантазию.                       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ариант игры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Каждый из игроков раскручивает свой диск, затем по очереди играющие придумывают предложения с теми словами, которые совпали на дисках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пример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Можно заранее обговорить, какие должны быть предложения (с предлогами, из какого количества слов и т. Д.) За правильно составленное предложение играющий получает фишк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3. Дидактическая игра « Составь слово»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чтение и составление двусложных слов.            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арианты игры: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может один ребёнок составлять двусложные слова.     Могут играть педагог с ребёнком или двое детей. Один задаёт слог, другой подбирает к нему второй слог, чтобы получилось слово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042560" y="691920"/>
            <a:ext cx="6985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4.Дидактическая игра «Подбери букву»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упражнять детей в определении первого звука в слове. Закреплять знания детьми пройденных звуков и букв.                                        Для каждой картинки подбираем букву, с которой начинается слово.   Предварительно определив, какой первый звук слышится в названии картинк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Рисунок 3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2024280" cy="36003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4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2024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Дидактическое пособие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 «Домики»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 для развития речи дошкольников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42920" y="1484280"/>
            <a:ext cx="7058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писание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предлагаю вашему вниманию дидактическое пособие «Домики». Пособие предназначено для детей дошкольного возраста, также для детей с речевыми нарушениями. Применяется в образовательной области «Коммуникация», «Познание», «Чтение художественной литературы». Можно использовать как для индивидуальной работы, так и для работы с малыми подгруппами. Способствует развитию речи, закреплению полученных речевых уме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3" descr=""/>
          <p:cNvPicPr/>
          <p:nvPr/>
        </p:nvPicPr>
        <p:blipFill>
          <a:blip r:embed="rId1"/>
          <a:stretch/>
        </p:blipFill>
        <p:spPr>
          <a:xfrm>
            <a:off x="2484360" y="4149720"/>
            <a:ext cx="3456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042920" y="765000"/>
            <a:ext cx="7058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упражнять в делении слов на слоги. Педагог предлагает ребёнку поселить жильцов в домики в соответствии с тем номером домика, сколько слогов в имени каждого жильца.                                        - Назови каждого жильца. Прохлопай в ладоши количество слогов в каждом слове, и ты узнаешь, кто в каком домике он живё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Рисунок 3" descr=""/>
          <p:cNvPicPr/>
          <p:nvPr/>
        </p:nvPicPr>
        <p:blipFill>
          <a:blip r:embed="rId1"/>
          <a:stretch/>
        </p:blipFill>
        <p:spPr>
          <a:xfrm>
            <a:off x="2846520" y="2421000"/>
            <a:ext cx="3409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Дидактическая игра для развития навыка звукового 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анализа и синтеза «Разбери слово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42920" y="1600200"/>
            <a:ext cx="70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Ход игры: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На сектор со знаком вопроса прищепкой крепится картинка. Ребёнку предлагаются следующие задания.   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1. Определение места заданного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звука в слове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дельфин). Ребёнок                                                                         прикрепляет прищепку к нужному                                                                     месту на схеме.                     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Лёгкий вариан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                                                                                                           Ребёнок отмечает место звука                                                                            большой прищепкой .       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ложный вариан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                                                                                             Ребёнок определяет, какой это                                                                           звук и отмечает его положение                                                                           на схеме красной, синей или                                                                          зелёной прищепко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Рисунок 3" descr=""/>
          <p:cNvPicPr/>
          <p:nvPr/>
        </p:nvPicPr>
        <p:blipFill>
          <a:blip r:embed="rId1"/>
          <a:stretch/>
        </p:blipFill>
        <p:spPr>
          <a:xfrm>
            <a:off x="4643280" y="2359080"/>
            <a:ext cx="338472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PC</cp:lastModifiedBy>
  <dcterms:modified xsi:type="dcterms:W3CDTF">2022-04-05T05:52:19Z</dcterms:modified>
  <cp:revision>107</cp:revision>
  <dc:subject/>
  <dc:title>Презентация PowerPoint</dc:title>
</cp:coreProperties>
</file>