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DB45-6662-4437-843D-DA2878D6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F227-FC57-448E-9862-2537A339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DD29-B2A2-4C62-A016-C3354D2AA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3AAC-51D5-475B-9A6E-D9AD15C6E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B746-2ADF-4736-ADA9-DC9DCE85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A0A6-0711-4256-88B1-7AF3E463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7887-8D51-4D61-83CA-856A49AA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25EA-F1BB-4A22-BA56-658FAAA1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1A78-A5FA-4CAF-A2A5-FEACD6F2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DAB2-780C-4A18-979F-A8BCA334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A3CE-3E2B-43D1-B8BD-DFE6BEE1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4A99-7077-476D-901F-E9BFEC51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E5BC-3DB6-4C02-9E93-7CDACCB01C0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emakemaps.com/" TargetMode="External"/><Relationship Id="rId2" Type="http://schemas.openxmlformats.org/officeDocument/2006/relationships/hyperlink" Target="https://yandex.ru/maps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67920"/>
            <a:ext cx="84567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казенное обще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Каменская средняя общеобразовательная школа»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й проект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проекта: исследовательский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проекта: Мой край в координатах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45960" y="4076640"/>
            <a:ext cx="77263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проекта: Иваненко Юрий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ающийся 7 а класса  МКОУ 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к проекта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ина Сергеевна Мартов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енский,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жноуралзолото группа комп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423720" y="1052640"/>
            <a:ext cx="8612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ое акционерное общество «Южуралзолото Группа Компаний» -(ОАО "ЮГК") - одно из крупнейших золотодобывающих предприятий России по объёму производства и запасам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https://img.znak.com/1452875.jpg"/>
          <p:cNvPicPr/>
          <p:nvPr/>
        </p:nvPicPr>
        <p:blipFill>
          <a:blip r:embed="rId1"/>
          <a:stretch/>
        </p:blipFill>
        <p:spPr>
          <a:xfrm>
            <a:off x="179280" y="2374920"/>
            <a:ext cx="6553440" cy="4365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http://norilsk-zv.ru/aims/2012/02/16/marksheydery-1.jpg"/>
          <p:cNvPicPr/>
          <p:nvPr/>
        </p:nvPicPr>
        <p:blipFill>
          <a:blip r:embed="rId2"/>
          <a:stretch/>
        </p:blipFill>
        <p:spPr>
          <a:xfrm>
            <a:off x="1546200" y="379440"/>
            <a:ext cx="526428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ты в Великой Отечественной вой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https://avatars.mds.yandex.net/get-pdb/985790/de8dbda5-7a01-4159-80cb-02fbcb060377/s1200"/>
          <p:cNvPicPr/>
          <p:nvPr/>
        </p:nvPicPr>
        <p:blipFill>
          <a:blip r:embed="rId1"/>
          <a:stretch/>
        </p:blipFill>
        <p:spPr>
          <a:xfrm>
            <a:off x="457200" y="1417680"/>
            <a:ext cx="8440560" cy="4748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https://avatars.mds.yandex.net/get-zen_doc/1594832/pub_5e14f113a3f6e400b6cd6071_5e15b127ee5a8a00b1cc999b/scale_1200"/>
          <p:cNvPicPr/>
          <p:nvPr/>
        </p:nvPicPr>
        <p:blipFill>
          <a:blip r:embed="rId2"/>
          <a:stretch/>
        </p:blipFill>
        <p:spPr>
          <a:xfrm>
            <a:off x="1258920" y="1495440"/>
            <a:ext cx="6991200" cy="4660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https://avatars.mds.yandex.net/get-pdb/1893403/985114c9-c401-4fa4-ab74-ea3b28316404/s1200"/>
          <p:cNvPicPr/>
          <p:nvPr/>
        </p:nvPicPr>
        <p:blipFill>
          <a:blip r:embed="rId3"/>
          <a:stretch/>
        </p:blipFill>
        <p:spPr>
          <a:xfrm>
            <a:off x="200160" y="1197000"/>
            <a:ext cx="874224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67920"/>
            <a:ext cx="84567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Каменская средняя общеобразовательная школа»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й проект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проекта: исследовательский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проекта: Мой край в координатах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45960" y="4076640"/>
            <a:ext cx="77263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проекта: Иваненко Юрий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ающийся 7 а класса  МКОУ 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к проекта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ина Сергеевна Мартов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енский,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ипотез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е математики существует, по крайней мере, еще одна наука, где необходимы координ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ь различные сферы применения системы координат в родном кра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рать историческую справку возникновения системы координ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ь разные системы координ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ь место нахождения п. Камен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Яндекс К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сферы применения координ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дном кра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литератур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хтина Е.Н. Книга звёзд. Москва «Интербук», 19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барёва И.И., А.Г.Мордкович А.Г. Учебник математики 6 кл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вин А.А. Координаты // Квант. 1977. №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ресурс: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www.wemakemap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ресурс: http://voennizda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ресурс: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s://yandex.ru/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ресурс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ugold.ru/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возникновения координ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1127160" y="1189800"/>
            <a:ext cx="72597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не Декарт (1596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1650) , французский математи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3" descr="descartes"/>
          <p:cNvPicPr/>
          <p:nvPr/>
        </p:nvPicPr>
        <p:blipFill>
          <a:blip r:embed="rId1"/>
          <a:stretch/>
        </p:blipFill>
        <p:spPr>
          <a:xfrm>
            <a:off x="2700360" y="2060640"/>
            <a:ext cx="3166920" cy="4340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0" name="Rectangle 3"/>
          <p:cNvSpPr/>
          <p:nvPr/>
        </p:nvSpPr>
        <p:spPr>
          <a:xfrm>
            <a:off x="1698480" y="28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тная плоск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Прямая со стрелкой 5"/>
          <p:cNvCxnSpPr/>
          <p:nvPr/>
        </p:nvCxnSpPr>
        <p:spPr>
          <a:xfrm flipV="1">
            <a:off x="907920" y="9160920"/>
            <a:ext cx="3974400" cy="22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Овал 6"/>
          <p:cNvSpPr/>
          <p:nvPr/>
        </p:nvSpPr>
        <p:spPr>
          <a:xfrm>
            <a:off x="919080" y="9137520"/>
            <a:ext cx="4464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7"/>
          <p:cNvSpPr/>
          <p:nvPr/>
        </p:nvSpPr>
        <p:spPr>
          <a:xfrm flipH="1">
            <a:off x="1407600" y="9140760"/>
            <a:ext cx="11160" cy="1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8"/>
          <p:cNvSpPr/>
          <p:nvPr/>
        </p:nvSpPr>
        <p:spPr>
          <a:xfrm>
            <a:off x="1930320" y="9140760"/>
            <a:ext cx="0" cy="4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9"/>
          <p:cNvSpPr/>
          <p:nvPr/>
        </p:nvSpPr>
        <p:spPr>
          <a:xfrm>
            <a:off x="2409840" y="9140760"/>
            <a:ext cx="0" cy="4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0"/>
          <p:cNvSpPr/>
          <p:nvPr/>
        </p:nvSpPr>
        <p:spPr>
          <a:xfrm>
            <a:off x="2911320" y="9140760"/>
            <a:ext cx="0" cy="4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1"/>
          <p:cNvSpPr/>
          <p:nvPr/>
        </p:nvSpPr>
        <p:spPr>
          <a:xfrm>
            <a:off x="3400560" y="9140760"/>
            <a:ext cx="0" cy="4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12"/>
          <p:cNvSpPr/>
          <p:nvPr/>
        </p:nvSpPr>
        <p:spPr>
          <a:xfrm>
            <a:off x="3879720" y="914076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13"/>
          <p:cNvSpPr/>
          <p:nvPr/>
        </p:nvSpPr>
        <p:spPr>
          <a:xfrm>
            <a:off x="4359240" y="9140760"/>
            <a:ext cx="0" cy="4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-276120" y="284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-318960" y="419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7" descr="Координаты середины отрезка. Полные уроки - Гипермаркет знаний"/>
          <p:cNvPicPr/>
          <p:nvPr/>
        </p:nvPicPr>
        <p:blipFill>
          <a:blip r:embed="rId1"/>
          <a:stretch/>
        </p:blipFill>
        <p:spPr>
          <a:xfrm>
            <a:off x="276120" y="1389240"/>
            <a:ext cx="3754440" cy="42670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8" descr="http://kzbydocs.com/tw_files2/urls_7/29/d-28892/7z-docs/1_html_m60facd.png"/>
          <p:cNvPicPr/>
          <p:nvPr/>
        </p:nvPicPr>
        <p:blipFill>
          <a:blip r:embed="rId2"/>
          <a:stretch/>
        </p:blipFill>
        <p:spPr>
          <a:xfrm>
            <a:off x="4867200" y="1460520"/>
            <a:ext cx="334476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72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графическое место нахождени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лка Каменский Увельский рай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Прямоугольник 2" descr=""/>
          <p:cNvPicPr/>
          <p:nvPr/>
        </p:nvPicPr>
        <p:blipFill>
          <a:blip r:embed="rId1"/>
          <a:stretch/>
        </p:blipFill>
        <p:spPr>
          <a:xfrm>
            <a:off x="895320" y="5797440"/>
            <a:ext cx="6041880" cy="38412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3" descr=""/>
          <p:cNvPicPr/>
          <p:nvPr/>
        </p:nvPicPr>
        <p:blipFill>
          <a:blip r:embed="rId2"/>
          <a:stretch/>
        </p:blipFill>
        <p:spPr>
          <a:xfrm>
            <a:off x="895320" y="6168960"/>
            <a:ext cx="4707000" cy="37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https://sun3-10.userapi.com/NyTG3AgNsWYx4gOQ3uI7U0XTQk1yHW_psqT0uw/z-yg8xK1Qmw.jpg"/>
          <p:cNvPicPr/>
          <p:nvPr/>
        </p:nvPicPr>
        <p:blipFill>
          <a:blip r:embed="rId3"/>
          <a:stretch/>
        </p:blipFill>
        <p:spPr>
          <a:xfrm>
            <a:off x="449280" y="1125360"/>
            <a:ext cx="83217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72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графическое место нахождени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лка Каменский Увельский рай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900000" y="5805360"/>
            <a:ext cx="60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https://sun9-44.userapi.com/Hv7b8AKvoxJJQhVFC6iSEyE2h737Zkhbprd1Ug/avOBhyRLTsc.jpg"/>
          <p:cNvPicPr/>
          <p:nvPr/>
        </p:nvPicPr>
        <p:blipFill>
          <a:blip r:embed="rId1"/>
          <a:stretch/>
        </p:blipFill>
        <p:spPr>
          <a:xfrm>
            <a:off x="220680" y="1700280"/>
            <a:ext cx="884556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468360" y="836640"/>
            <a:ext cx="8280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72a47"/>
                </a:solidFill>
                <a:latin typeface="Times New Roman"/>
                <a:ea typeface="Times New Roman"/>
              </a:rPr>
              <a:t>Геодезия – это крупная научная отрасль, которая изучает методы и способы землемерия и определения формы и размеров участков мес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72a47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72a47"/>
                </a:solidFill>
                <a:latin typeface="Times New Roman"/>
                <a:ea typeface="Times New Roman"/>
              </a:rPr>
              <a:t>Учёные геодезисты занимаются самыми разнообразными вопросами – от строительных задач, до нанесения на карту материков и остров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Геодезические работы"/>
          <p:cNvPicPr/>
          <p:nvPr/>
        </p:nvPicPr>
        <p:blipFill>
          <a:blip r:embed="rId1"/>
          <a:stretch/>
        </p:blipFill>
        <p:spPr>
          <a:xfrm>
            <a:off x="179280" y="3284640"/>
            <a:ext cx="6121440" cy="34272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де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ный геодез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457200" y="1197000"/>
            <a:ext cx="79311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кшейдер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аботает под зем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исследует подземное пространство, составляет точное геометрическое описание расположения горных пород, грунтовых вод и полезных ископаем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https://pbs.twimg.com/media/C9DSuZaUMAMHyAD.jpg"/>
          <p:cNvPicPr/>
          <p:nvPr/>
        </p:nvPicPr>
        <p:blipFill>
          <a:blip r:embed="rId1"/>
          <a:stretch/>
        </p:blipFill>
        <p:spPr>
          <a:xfrm>
            <a:off x="179280" y="2630520"/>
            <a:ext cx="6356520" cy="4227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http://opis.pro/files/pages/2019/05/geol-2-foto599.jpeg"/>
          <p:cNvPicPr/>
          <p:nvPr/>
        </p:nvPicPr>
        <p:blipFill>
          <a:blip r:embed="rId2"/>
          <a:stretch/>
        </p:blipFill>
        <p:spPr>
          <a:xfrm>
            <a:off x="179280" y="2638440"/>
            <a:ext cx="63723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1</cp:lastModifiedBy>
  <dcterms:modified xsi:type="dcterms:W3CDTF">2022-04-12T12:59:13Z</dcterms:modified>
  <cp:revision>141</cp:revision>
  <dc:subject/>
  <dc:title>Diapositiva 1</dc:title>
</cp:coreProperties>
</file>