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975-30EB-448B-BA7D-3584BD01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958-526C-4FB3-9624-87DCD4E4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290-552B-4B13-9F43-7096C22F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3F3-3811-46F6-8268-03953BF5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873-06E6-4F4A-93D5-82C35B6A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B0E-821F-4EAB-9983-542F9110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6A1-A75B-4F68-A9E9-AD946BDF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34D-B3E2-4640-B96C-F7622A85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2C6-E35D-4194-A355-F27B61F8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B89-64A0-4321-8C89-0F42221D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1C4-0210-4327-83BD-A29AE0B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15B-7610-47F4-9B8D-10EB9B3A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D0FF-EFED-4EC0-A5BA-32CDDB0F76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makemaps.com/" TargetMode="External"/><Relationship Id="rId2" Type="http://schemas.openxmlformats.org/officeDocument/2006/relationships/hyperlink" Target="https://yandex.ru/map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845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аменская средняя общеобразовательная школ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й край в координат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5960" y="4076640"/>
            <a:ext cx="77263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Иваненко Юр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йся 7 а класса  МКОУ 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ергеевна Марто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ский,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уралзолото группа комп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423720" y="1052640"/>
            <a:ext cx="861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акционерное общество «Южуралзолото Группа Компаний» -(ОАО "ЮГК") - одно из крупнейших золотодобывающих предприятий России по объёму производства и запаса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img.znak.com/1452875.jpg"/>
          <p:cNvPicPr/>
          <p:nvPr/>
        </p:nvPicPr>
        <p:blipFill>
          <a:blip r:embed="rId1"/>
          <a:stretch/>
        </p:blipFill>
        <p:spPr>
          <a:xfrm>
            <a:off x="179280" y="2374920"/>
            <a:ext cx="6553440" cy="436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norilsk-zv.ru/aims/2012/02/16/marksheydery-1.jpg"/>
          <p:cNvPicPr/>
          <p:nvPr/>
        </p:nvPicPr>
        <p:blipFill>
          <a:blip r:embed="rId2"/>
          <a:stretch/>
        </p:blipFill>
        <p:spPr>
          <a:xfrm>
            <a:off x="1546200" y="379440"/>
            <a:ext cx="52642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в Великой Отечественной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s://avatars.mds.yandex.net/get-pdb/985790/de8dbda5-7a01-4159-80cb-02fbcb060377/s1200"/>
          <p:cNvPicPr/>
          <p:nvPr/>
        </p:nvPicPr>
        <p:blipFill>
          <a:blip r:embed="rId1"/>
          <a:stretch/>
        </p:blipFill>
        <p:spPr>
          <a:xfrm>
            <a:off x="457200" y="1417680"/>
            <a:ext cx="8440560" cy="474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s://avatars.mds.yandex.net/get-zen_doc/1594832/pub_5e14f113a3f6e400b6cd6071_5e15b127ee5a8a00b1cc999b/scale_1200"/>
          <p:cNvPicPr/>
          <p:nvPr/>
        </p:nvPicPr>
        <p:blipFill>
          <a:blip r:embed="rId2"/>
          <a:stretch/>
        </p:blipFill>
        <p:spPr>
          <a:xfrm>
            <a:off x="1258920" y="1495440"/>
            <a:ext cx="6991200" cy="466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s://avatars.mds.yandex.net/get-pdb/1893403/985114c9-c401-4fa4-ab74-ea3b28316404/s1200"/>
          <p:cNvPicPr/>
          <p:nvPr/>
        </p:nvPicPr>
        <p:blipFill>
          <a:blip r:embed="rId3"/>
          <a:stretch/>
        </p:blipFill>
        <p:spPr>
          <a:xfrm>
            <a:off x="200160" y="1197000"/>
            <a:ext cx="87422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845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аменская средняя общеобразовательная школ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й край в координат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5960" y="4076640"/>
            <a:ext cx="77263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Иваненко Юр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йся 7 а класса  МКОУ 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ергеевна Марто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ский,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математики существует, по крайней мере, еще одна наука, где необходимы коорди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различные сферы применения системы координат в родн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историческую справку возникновения системы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разные системы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место нахождения п. Кам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Яндекс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сферы применения коорди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дн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хтина Е.Н. Книга звёзд. Москва «Интербук»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рёва И.И., А.Г.Мордкович А.Г. Учебник математики 6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ин А.А. Координаты // Квант. 1977.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wemakemap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http://voennizda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s://yandex.ru/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ugold.ru/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озникновения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127160" y="1189800"/>
            <a:ext cx="7259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не Декарт (159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650) , французский математи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descartes"/>
          <p:cNvPicPr/>
          <p:nvPr/>
        </p:nvPicPr>
        <p:blipFill>
          <a:blip r:embed="rId1"/>
          <a:stretch/>
        </p:blipFill>
        <p:spPr>
          <a:xfrm>
            <a:off x="2700360" y="2060640"/>
            <a:ext cx="3166920" cy="434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Rectangle 3"/>
          <p:cNvSpPr/>
          <p:nvPr/>
        </p:nvSpPr>
        <p:spPr>
          <a:xfrm>
            <a:off x="1698480" y="28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н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5"/>
          <p:cNvCxnSpPr/>
          <p:nvPr/>
        </p:nvCxnSpPr>
        <p:spPr>
          <a:xfrm flipV="1">
            <a:off x="907920" y="9160920"/>
            <a:ext cx="3974400" cy="22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Овал 6"/>
          <p:cNvSpPr/>
          <p:nvPr/>
        </p:nvSpPr>
        <p:spPr>
          <a:xfrm>
            <a:off x="919080" y="9137520"/>
            <a:ext cx="4464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 flipH="1">
            <a:off x="1407600" y="9140760"/>
            <a:ext cx="1116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193032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240984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>
            <a:off x="291132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>
            <a:off x="340056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2"/>
          <p:cNvSpPr/>
          <p:nvPr/>
        </p:nvSpPr>
        <p:spPr>
          <a:xfrm>
            <a:off x="3879720" y="914076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>
            <a:off x="435924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-276120" y="284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-318960" y="419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7" descr="Координаты середины отрезка. Полные уроки - Гипермаркет знаний"/>
          <p:cNvPicPr/>
          <p:nvPr/>
        </p:nvPicPr>
        <p:blipFill>
          <a:blip r:embed="rId1"/>
          <a:stretch/>
        </p:blipFill>
        <p:spPr>
          <a:xfrm>
            <a:off x="276120" y="1389240"/>
            <a:ext cx="3754440" cy="42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8" descr="http://kzbydocs.com/tw_files2/urls_7/29/d-28892/7z-docs/1_html_m60facd.png"/>
          <p:cNvPicPr/>
          <p:nvPr/>
        </p:nvPicPr>
        <p:blipFill>
          <a:blip r:embed="rId2"/>
          <a:stretch/>
        </p:blipFill>
        <p:spPr>
          <a:xfrm>
            <a:off x="4867200" y="1460520"/>
            <a:ext cx="33447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72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место нах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лка Каменский Увель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2" descr=""/>
          <p:cNvPicPr/>
          <p:nvPr/>
        </p:nvPicPr>
        <p:blipFill>
          <a:blip r:embed="rId1"/>
          <a:stretch/>
        </p:blipFill>
        <p:spPr>
          <a:xfrm>
            <a:off x="895320" y="5797440"/>
            <a:ext cx="6041880" cy="3841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895320" y="6168960"/>
            <a:ext cx="470700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sun3-10.userapi.com/NyTG3AgNsWYx4gOQ3uI7U0XTQk1yHW_psqT0uw/z-yg8xK1Qmw.jpg"/>
          <p:cNvPicPr/>
          <p:nvPr/>
        </p:nvPicPr>
        <p:blipFill>
          <a:blip r:embed="rId3"/>
          <a:stretch/>
        </p:blipFill>
        <p:spPr>
          <a:xfrm>
            <a:off x="449280" y="1125360"/>
            <a:ext cx="8321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72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место нах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лка Каменский Увель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00000" y="5805360"/>
            <a:ext cx="60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s://sun9-44.userapi.com/Hv7b8AKvoxJJQhVFC6iSEyE2h737Zkhbprd1Ug/avOBhyRLTsc.jpg"/>
          <p:cNvPicPr/>
          <p:nvPr/>
        </p:nvPicPr>
        <p:blipFill>
          <a:blip r:embed="rId1"/>
          <a:stretch/>
        </p:blipFill>
        <p:spPr>
          <a:xfrm>
            <a:off x="220680" y="1700280"/>
            <a:ext cx="88455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68360" y="83664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Геодезия – это крупная научная отрасль, которая изучает методы и способы землемерия и определения формы и размеров участков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Учёные геодезисты занимаются самыми разнообразными вопросами – от строительных задач, до нанесения на карту материков и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Геодезические работы"/>
          <p:cNvPicPr/>
          <p:nvPr/>
        </p:nvPicPr>
        <p:blipFill>
          <a:blip r:embed="rId1"/>
          <a:stretch/>
        </p:blipFill>
        <p:spPr>
          <a:xfrm>
            <a:off x="179280" y="3284640"/>
            <a:ext cx="6121440" cy="3427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де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й геодез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457200" y="1197000"/>
            <a:ext cx="7931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шейд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ботает под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сследует подземное пространство, составляет точное геометрическое описание расположения горных пород, грунтовых вод и полезных ископае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s://pbs.twimg.com/media/C9DSuZaUMAMHyAD.jpg"/>
          <p:cNvPicPr/>
          <p:nvPr/>
        </p:nvPicPr>
        <p:blipFill>
          <a:blip r:embed="rId1"/>
          <a:stretch/>
        </p:blipFill>
        <p:spPr>
          <a:xfrm>
            <a:off x="179280" y="2630520"/>
            <a:ext cx="6356520" cy="4227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opis.pro/files/pages/2019/05/geol-2-foto599.jpeg"/>
          <p:cNvPicPr/>
          <p:nvPr/>
        </p:nvPicPr>
        <p:blipFill>
          <a:blip r:embed="rId2"/>
          <a:stretch/>
        </p:blipFill>
        <p:spPr>
          <a:xfrm>
            <a:off x="179280" y="2638440"/>
            <a:ext cx="6372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1</cp:lastModifiedBy>
  <dcterms:modified xsi:type="dcterms:W3CDTF">2022-04-12T12:59:13Z</dcterms:modified>
  <cp:revision>141</cp:revision>
  <dc:subject/>
  <dc:title>Diapositiva 1</dc:title>
</cp:coreProperties>
</file>