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BE9-7F6D-4331-A66F-F2F136C4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2E3-F5B6-47C0-B971-B0174FC8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7F4-9A20-48FC-A3F0-AF402A60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47A-8F68-4CF1-8933-532A461D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5478-50C3-4244-AD64-9E4324FF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FDF9-4B8A-49B3-BC90-D565196C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8497-0047-4CF2-842F-0FD1049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72C0-D31D-4355-B961-45A570F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B1-41C4-4132-85FD-14160FD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455-6C35-42B4-9C65-B326336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AA5B-642D-441C-AC10-5EF3BF3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434-601D-444D-AA5A-663457DD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A223-C82C-4440-A704-7C35F1D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BE1-D902-411D-A6DF-EF81FB1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432-DD2C-4172-9EBE-D69AD8A2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9BE7-425C-4551-A594-9B5352BE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7F72-9613-4227-A754-EAD77CF9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01E-5322-482B-A62B-434D2FD1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8FA-7C2E-4C5E-A05C-73DCB20E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D96-DC43-4B19-83DD-50E4607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E0C-13C2-4190-8D2A-3759A528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ED5-92E9-425F-A523-39B30A7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899-7FC4-46BC-8187-6CD1997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95A-DF67-4FAD-BD30-33AB294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BB4-6671-429F-BDA0-71F2668FF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166C-8CA5-40DA-9017-51683362E4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ый человек в космо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гагарин в скафандре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кульмину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511_2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  <p:pic>
        <p:nvPicPr>
          <p:cNvPr id="192" name="Я ракета танцы для детей.mp4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ентр подготовки космонав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9" descr="центр подготовки3"/>
          <p:cNvPicPr/>
          <p:nvPr/>
        </p:nvPicPr>
        <p:blipFill>
          <a:blip r:embed="rId1"/>
          <a:stretch/>
        </p:blipFill>
        <p:spPr>
          <a:xfrm>
            <a:off x="468360" y="1603440"/>
            <a:ext cx="3887640" cy="211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центр подготовки1"/>
          <p:cNvPicPr/>
          <p:nvPr/>
        </p:nvPicPr>
        <p:blipFill>
          <a:blip r:embed="rId2"/>
          <a:stretch/>
        </p:blipFill>
        <p:spPr>
          <a:xfrm>
            <a:off x="468360" y="4027320"/>
            <a:ext cx="3887640" cy="221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центр подготовки4"/>
          <p:cNvPicPr/>
          <p:nvPr/>
        </p:nvPicPr>
        <p:blipFill>
          <a:blip r:embed="rId3"/>
          <a:stretch/>
        </p:blipFill>
        <p:spPr>
          <a:xfrm>
            <a:off x="5003640" y="1628640"/>
            <a:ext cx="3673800" cy="2119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0016"/>
          <p:cNvPicPr/>
          <p:nvPr/>
        </p:nvPicPr>
        <p:blipFill>
          <a:blip r:embed="rId4"/>
          <a:stretch/>
        </p:blipFill>
        <p:spPr>
          <a:xfrm>
            <a:off x="5364000" y="3933720"/>
            <a:ext cx="2953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гагарин перед полетом"/>
          <p:cNvPicPr/>
          <p:nvPr/>
        </p:nvPicPr>
        <p:blipFill>
          <a:blip r:embed="rId1"/>
          <a:stretch/>
        </p:blipFill>
        <p:spPr>
          <a:xfrm>
            <a:off x="1692360" y="1268280"/>
            <a:ext cx="5715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рт космического кораб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000003"/>
          <p:cNvPicPr/>
          <p:nvPr/>
        </p:nvPicPr>
        <p:blipFill>
          <a:blip r:embed="rId1"/>
          <a:stretch/>
        </p:blipFill>
        <p:spPr>
          <a:xfrm>
            <a:off x="1258920" y="1600200"/>
            <a:ext cx="6913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ехал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000004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вращение на земл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гагарин после полета"/>
          <p:cNvPicPr/>
          <p:nvPr/>
        </p:nvPicPr>
        <p:blipFill>
          <a:blip r:embed="rId1"/>
          <a:stretch/>
        </p:blipFill>
        <p:spPr>
          <a:xfrm>
            <a:off x="468360" y="1628640"/>
            <a:ext cx="8085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гагарин2"/>
          <p:cNvPicPr/>
          <p:nvPr/>
        </p:nvPicPr>
        <p:blipFill>
          <a:blip r:embed="rId1"/>
          <a:stretch/>
        </p:blipFill>
        <p:spPr>
          <a:xfrm>
            <a:off x="2759040" y="1600200"/>
            <a:ext cx="3684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лентина Терешк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9" descr="Терешкова ВВ"/>
          <p:cNvPicPr/>
          <p:nvPr/>
        </p:nvPicPr>
        <p:blipFill>
          <a:blip r:embed="rId1"/>
          <a:stretch/>
        </p:blipFill>
        <p:spPr>
          <a:xfrm>
            <a:off x="755640" y="1622520"/>
            <a:ext cx="3600360" cy="4759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Учитель\Pictures\терешкова.jpg"/>
          <p:cNvPicPr/>
          <p:nvPr/>
        </p:nvPicPr>
        <p:blipFill>
          <a:blip r:embed="rId2"/>
          <a:stretch/>
        </p:blipFill>
        <p:spPr>
          <a:xfrm>
            <a:off x="5076720" y="1655640"/>
            <a:ext cx="3456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онид Леон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леонов"/>
          <p:cNvPicPr/>
          <p:nvPr/>
        </p:nvPicPr>
        <p:blipFill>
          <a:blip r:embed="rId1"/>
          <a:stretch/>
        </p:blipFill>
        <p:spPr>
          <a:xfrm>
            <a:off x="2340000" y="1628640"/>
            <a:ext cx="4073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11280" y="105228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ЕРВЫЙ В КОСМОС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71640" y="587700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 апреля – День космонав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гагарин"/>
          <p:cNvPicPr/>
          <p:nvPr/>
        </p:nvPicPr>
        <p:blipFill>
          <a:blip r:embed="rId1"/>
          <a:stretch/>
        </p:blipFill>
        <p:spPr>
          <a:xfrm>
            <a:off x="468360" y="981000"/>
            <a:ext cx="3936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орбит станц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 орбитальной стан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C:\Users\Учитель\Pictures\гаг\космон на орб станц.jpg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 Земли из космо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земля в космосе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циолковский"/>
          <p:cNvPicPr/>
          <p:nvPr/>
        </p:nvPicPr>
        <p:blipFill>
          <a:blip r:embed="rId1"/>
          <a:stretch/>
        </p:blipFill>
        <p:spPr>
          <a:xfrm>
            <a:off x="468360" y="1197000"/>
            <a:ext cx="3024000" cy="42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королев"/>
          <p:cNvPicPr/>
          <p:nvPr/>
        </p:nvPicPr>
        <p:blipFill>
          <a:blip r:embed="rId2"/>
          <a:stretch/>
        </p:blipFill>
        <p:spPr>
          <a:xfrm>
            <a:off x="3924360" y="170028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 Э. Циолковский                С. П. Королё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смодром Байкону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байконур"/>
          <p:cNvPicPr/>
          <p:nvPr/>
        </p:nvPicPr>
        <p:blipFill>
          <a:blip r:embed="rId1"/>
          <a:stretch/>
        </p:blipFill>
        <p:spPr>
          <a:xfrm>
            <a:off x="179280" y="1193760"/>
            <a:ext cx="87854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первый спутник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т в космос собаки Л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лайка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ет в космос Белки и Стре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белка и стрелка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06:29:23Z</dcterms:created>
  <dc:creator>User</dc:creator>
  <dc:description/>
  <dc:language>en-US</dc:language>
  <cp:lastModifiedBy>Наталья</cp:lastModifiedBy>
  <dcterms:modified xsi:type="dcterms:W3CDTF">2022-04-10T13:55:07Z</dcterms:modified>
  <cp:revision>13</cp:revision>
  <dc:subject/>
  <dc:title>ПЕРВЫЙ В КОСМОСЕ</dc:title>
</cp:coreProperties>
</file>