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8405-E236-4AED-A4DA-524926AE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0A6E-012D-42D2-BC50-99A98703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CDC9-9D5C-4D17-A47A-0FDBD003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F9C6-BDC6-48B7-AA1D-AE1DE955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29D1-0646-4BE4-9EC5-1F0DCDC2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B87D-C8EA-4370-9520-3CC16342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2312-AEDB-409F-913A-72FCBF52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16AC-2B80-48BE-B943-8C5D2AE6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A05F-73DB-4347-8AFB-DA672D3E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E310-2ABE-4EE4-B9A0-CF87430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93BD-2B90-4A3E-AF94-677F1A4F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D2FC5-DBFF-4F0D-96DD-B2D45725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9055-BE8E-4691-A878-FC413DD3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B8AB-D5D1-47D9-8C36-F35DC29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4107-5D56-4573-8FAB-2A44FD89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32B3-4321-4C66-8CED-0D48F546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D41D-666F-4104-AE49-6948A2F0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EE36-DD43-4A16-8A83-33B5A3B4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E818F-39A2-4A32-8DAC-ADDC13FB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9769-8388-4A7A-A6D9-87F2112E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AFBA-4357-480E-B24F-E96B86DA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B3F7-1FE2-4FB5-99D2-B2E83DAF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338F-E214-4E24-AABB-0DD9D52B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87A0-2150-4682-8D76-51D1C8BC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89DC-EBC6-423C-9A4D-1B987580E7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266F-E9FC-4B37-969B-D6B8D3BEC0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Georgia"/>
              </a:rPr>
              <a:t>«Играем в театр»</a:t>
            </a:r>
            <a:r>
              <a:rPr b="0" i="1" lang="ru-RU" sz="4400" spc="-1" strike="noStrike">
                <a:solidFill>
                  <a:srgbClr val="ffffcc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276720" y="4876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оспитатели высшей категории: Кухаренко Е. В.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Хилинская И. В.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Музыкальный руководитель высшей категори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анова Л. 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Сергей\Desktop\Новая папка (2)\SAM_6902.JPG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530"/>
                </a:solidFill>
                <a:latin typeface="Georgia"/>
              </a:rPr>
              <a:t>Театр би-ба-бо, театр резиновой игрушки, театр на варежке, масочны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2" descr="C:\Users\Сергей\Desktop\Новая папка (2)\SAM_6934.JPG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105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«Рукавичка» (би-ба-бо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«Курочка Ряба» (би-ба-бо)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«Перчатки-     котятки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масочны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2819160" cy="28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бибабо"/>
          <p:cNvPicPr/>
          <p:nvPr/>
        </p:nvPicPr>
        <p:blipFill>
          <a:blip r:embed="rId2"/>
          <a:stretch/>
        </p:blipFill>
        <p:spPr>
          <a:xfrm>
            <a:off x="2438280" y="2819520"/>
            <a:ext cx="3456000" cy="2563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A260011"/>
          <p:cNvPicPr/>
          <p:nvPr/>
        </p:nvPicPr>
        <p:blipFill>
          <a:blip r:embed="rId3"/>
          <a:stretch/>
        </p:blipFill>
        <p:spPr>
          <a:xfrm>
            <a:off x="5584680" y="4495680"/>
            <a:ext cx="3510000" cy="2632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aa68"/>
                </a:solidFill>
                <a:latin typeface="Georgia"/>
              </a:rPr>
              <a:t>Настольный объёмный </a:t>
            </a:r>
            <a:br>
              <a:rPr sz="3200"/>
            </a:br>
            <a:r>
              <a:rPr b="0" lang="ru-RU" sz="3200" spc="-1" strike="noStrike">
                <a:solidFill>
                  <a:srgbClr val="f2aa68"/>
                </a:solidFill>
                <a:latin typeface="Georgia"/>
              </a:rPr>
              <a:t>(на стаканчиках и на киндер-сюрпризе) сделанный своими руками педагогами и родителями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Users\Сергей\Desktop\Новая папка (2)\SAM_6939.JPG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Сергей\Desktop\Новая папка (2)\SAM_6922.JPG"/>
          <p:cNvPicPr/>
          <p:nvPr/>
        </p:nvPicPr>
        <p:blipFill>
          <a:blip r:embed="rId1"/>
          <a:stretch/>
        </p:blipFill>
        <p:spPr>
          <a:xfrm>
            <a:off x="76320" y="228600"/>
            <a:ext cx="373356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Сергей\Desktop\Новая папка (2)\SAM_6910.JPG"/>
          <p:cNvPicPr/>
          <p:nvPr/>
        </p:nvPicPr>
        <p:blipFill>
          <a:blip r:embed="rId2"/>
          <a:stretch/>
        </p:blipFill>
        <p:spPr>
          <a:xfrm>
            <a:off x="3124080" y="1905120"/>
            <a:ext cx="3581640" cy="2361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Сергей\Desktop\Новая папка (2)\SAM_6907.JPG"/>
          <p:cNvPicPr/>
          <p:nvPr/>
        </p:nvPicPr>
        <p:blipFill>
          <a:blip r:embed="rId3"/>
          <a:stretch/>
        </p:blipFill>
        <p:spPr>
          <a:xfrm>
            <a:off x="5943600" y="3581280"/>
            <a:ext cx="3200400" cy="281952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1"/>
          <p:cNvSpPr/>
          <p:nvPr/>
        </p:nvSpPr>
        <p:spPr>
          <a:xfrm>
            <a:off x="480060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Театр с кухонной полки на стаканчиках и лопатк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2971800" y="4876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Шумовой теа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DSCN0171"/>
          <p:cNvPicPr/>
          <p:nvPr/>
        </p:nvPicPr>
        <p:blipFill>
          <a:blip r:embed="rId1"/>
          <a:stretch/>
        </p:blipFill>
        <p:spPr>
          <a:xfrm>
            <a:off x="228600" y="350532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SCN0172"/>
          <p:cNvPicPr/>
          <p:nvPr/>
        </p:nvPicPr>
        <p:blipFill>
          <a:blip r:embed="rId2"/>
          <a:stretch/>
        </p:blipFill>
        <p:spPr>
          <a:xfrm>
            <a:off x="4648320" y="106668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4"/>
          <p:cNvSpPr/>
          <p:nvPr/>
        </p:nvSpPr>
        <p:spPr>
          <a:xfrm>
            <a:off x="1143000" y="609480"/>
            <a:ext cx="48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7530"/>
                </a:solidFill>
                <a:latin typeface="Georgia"/>
              </a:rPr>
              <a:t>Магнит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380880" y="24382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Ширма с использованием съемного фона по разным временам года (разноцветны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Сергей\Desktop\Новая папка (2)\SAM_6893.JPG"/>
          <p:cNvPicPr/>
          <p:nvPr/>
        </p:nvPicPr>
        <p:blipFill>
          <a:blip r:embed="rId1"/>
          <a:stretch/>
        </p:blipFill>
        <p:spPr>
          <a:xfrm>
            <a:off x="5257800" y="2895480"/>
            <a:ext cx="4191120" cy="3200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Сергей\Desktop\Новая папка (2)\SAM_6889.JPG"/>
          <p:cNvPicPr/>
          <p:nvPr/>
        </p:nvPicPr>
        <p:blipFill>
          <a:blip r:embed="rId2"/>
          <a:stretch/>
        </p:blipFill>
        <p:spPr>
          <a:xfrm>
            <a:off x="76320" y="2895480"/>
            <a:ext cx="3733560" cy="3200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Сергей\Desktop\Новая папка (2)\SAM_6890.JPG"/>
          <p:cNvPicPr/>
          <p:nvPr/>
        </p:nvPicPr>
        <p:blipFill>
          <a:blip r:embed="rId3"/>
          <a:stretch/>
        </p:blipFill>
        <p:spPr>
          <a:xfrm>
            <a:off x="3200400" y="343080"/>
            <a:ext cx="2438280" cy="29336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"/>
          <p:cNvSpPr/>
          <p:nvPr/>
        </p:nvSpPr>
        <p:spPr>
          <a:xfrm>
            <a:off x="228600" y="4572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агнитный театр может быть использован как на ширме, магнитной доске, так и на прищепк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530"/>
                </a:solidFill>
                <a:latin typeface="Georgia"/>
              </a:rPr>
              <a:t>Для развития театрализованной деятельности используются  настольно-печатные игры и дидактически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Объект 3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705360" cy="422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  <a:ea typeface="Arial"/>
              </a:rPr>
              <a:t>Дидактические игры по развитию творческих способносте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  <a:ea typeface="Arial"/>
              </a:rPr>
              <a:t>«Чудесный мешочек»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9" descr="P3170061"/>
          <p:cNvPicPr/>
          <p:nvPr/>
        </p:nvPicPr>
        <p:blipFill>
          <a:blip r:embed="rId1"/>
          <a:stretch/>
        </p:blipFill>
        <p:spPr>
          <a:xfrm>
            <a:off x="228600" y="1523880"/>
            <a:ext cx="2936880" cy="2438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P3170057"/>
          <p:cNvPicPr/>
          <p:nvPr/>
        </p:nvPicPr>
        <p:blipFill>
          <a:blip r:embed="rId2"/>
          <a:stretch/>
        </p:blipFill>
        <p:spPr>
          <a:xfrm>
            <a:off x="2873520" y="3733920"/>
            <a:ext cx="3200400" cy="2361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P3170063"/>
          <p:cNvPicPr/>
          <p:nvPr/>
        </p:nvPicPr>
        <p:blipFill>
          <a:blip r:embed="rId3"/>
          <a:stretch/>
        </p:blipFill>
        <p:spPr>
          <a:xfrm>
            <a:off x="5943600" y="1523880"/>
            <a:ext cx="297180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Georgia"/>
                <a:ea typeface="Arial"/>
              </a:rPr>
              <a:t>Разнообразие видов театра развивает у детей связную речь, моторику рук, эмоциональную выразительность, фантазию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5" descr="P4210069"/>
          <p:cNvPicPr/>
          <p:nvPr/>
        </p:nvPicPr>
        <p:blipFill>
          <a:blip r:embed="rId1"/>
          <a:stretch/>
        </p:blipFill>
        <p:spPr>
          <a:xfrm>
            <a:off x="304920" y="3733920"/>
            <a:ext cx="335124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PA020009"/>
          <p:cNvPicPr/>
          <p:nvPr/>
        </p:nvPicPr>
        <p:blipFill>
          <a:blip r:embed="rId2"/>
          <a:stretch/>
        </p:blipFill>
        <p:spPr>
          <a:xfrm>
            <a:off x="5883120" y="3733920"/>
            <a:ext cx="3227400" cy="2319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PA310022"/>
          <p:cNvPicPr/>
          <p:nvPr/>
        </p:nvPicPr>
        <p:blipFill>
          <a:blip r:embed="rId3"/>
          <a:stretch/>
        </p:blipFill>
        <p:spPr>
          <a:xfrm>
            <a:off x="3048120" y="1523880"/>
            <a:ext cx="32097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903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Georgia"/>
              </a:rPr>
              <a:t>«Театр – это чудо, сказка, волшебный мир, где ребенок радуется играя, а в игре он познает мир…»</a:t>
            </a:r>
            <a:br>
              <a:rPr sz="3600"/>
            </a:br>
            <a:br>
              <a:rPr sz="2800"/>
            </a:br>
            <a:r>
              <a:rPr b="1" i="1" lang="ru-RU" sz="2800" spc="-1" strike="noStrike">
                <a:solidFill>
                  <a:srgbClr val="ffffcc"/>
                </a:solidFill>
                <a:latin typeface="Georgia"/>
              </a:rPr>
              <a:t>                                                          </a:t>
            </a:r>
            <a:r>
              <a:rPr b="1" i="1" lang="ru-RU" sz="1800" spc="-1" strike="noStrike">
                <a:solidFill>
                  <a:srgbClr val="ffffcc"/>
                </a:solidFill>
                <a:latin typeface="Georgia"/>
              </a:rPr>
              <a:t>С. И. Мерзлякова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рагмент сказки «Теремо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Театр «Матреш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Объект 8" descr=""/>
          <p:cNvPicPr/>
          <p:nvPr/>
        </p:nvPicPr>
        <p:blipFill>
          <a:blip r:embed="rId1"/>
          <a:stretch/>
        </p:blipFill>
        <p:spPr>
          <a:xfrm>
            <a:off x="5184720" y="2174760"/>
            <a:ext cx="2962440" cy="3951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7530"/>
                </a:solidFill>
                <a:latin typeface="Georgia"/>
              </a:rPr>
              <a:t>Детский костюмированный театр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2aa68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Объект 12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2963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Georgia"/>
              </a:rPr>
              <a:t>В уголке также находится костюмы и атрибуты для игр драматизац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7" name="Объект 3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08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7530"/>
                </a:solidFill>
                <a:latin typeface="Georgia"/>
              </a:rPr>
              <a:t>Спасибо </a:t>
            </a:r>
            <a:br>
              <a:rPr sz="8000"/>
            </a:br>
            <a:r>
              <a:rPr b="1" i="1" lang="ru-RU" sz="8000" spc="-1" strike="noStrike">
                <a:solidFill>
                  <a:srgbClr val="ff7530"/>
                </a:solidFill>
                <a:latin typeface="Georgia"/>
              </a:rPr>
              <a:t>за внимание!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838080" y="533520"/>
            <a:ext cx="7467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дним из самых эффективных средств развития и воспитания ребенка в младшем дошкольном возрасте является театр и театрализованные игры, т.к. игра - ведущий вид деятельности детей дошкольного возраста, а театр - один из самых демократичных и доступных видов искусства, который позволяет решать многие актуальные проблемы педагогики и психологии, связанные с художественным и нравственным воспитанием, развитием коммуникативных качеств личности, развитием воображения, фантазии, инициативност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7530"/>
                </a:solidFill>
                <a:uFillTx/>
                <a:latin typeface="Georgia"/>
              </a:rPr>
              <a:t>Цель:</a:t>
            </a:r>
            <a:r>
              <a:rPr b="1" i="1" lang="ru-RU" sz="3200" spc="-1" strike="noStrike">
                <a:solidFill>
                  <a:srgbClr val="ff7530"/>
                </a:solidFill>
                <a:latin typeface="Georgia"/>
              </a:rPr>
              <a:t> развитие творческих способностей детей через театрализованную деятельность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Сергей\Desktop\Новая папка (2)\SAM_6956.JPG"/>
          <p:cNvPicPr/>
          <p:nvPr/>
        </p:nvPicPr>
        <p:blipFill>
          <a:blip r:embed="rId1"/>
          <a:stretch/>
        </p:blipFill>
        <p:spPr>
          <a:xfrm>
            <a:off x="420840" y="15228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eorgia"/>
              </a:rPr>
              <a:t>Виды театров, используемых в работе</a:t>
            </a:r>
            <a:r>
              <a:rPr b="1" lang="en-US" sz="28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Georgia"/>
              </a:rPr>
              <a:t>с детьми младшего возрас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Пальчиков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Настольный театр плоскост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Театр резиновой игруш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Настольный объёмный (на стаканчиках и на киндер-сюрприз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Магнитный театр (на дисках магнитный и на прищепках,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Би-ба-б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Театр на лопат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Театр на вареж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Масочный теат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Настольно-печатные игры по театрализован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Детский костюмированный теат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aa6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530"/>
                </a:solidFill>
                <a:latin typeface="Georgia"/>
              </a:rPr>
              <a:t>Пальчиковы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Объект 6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7530"/>
                </a:solidFill>
                <a:latin typeface="Georgia"/>
              </a:rPr>
              <a:t>Сделанный своими руками и приобретенный в магазинах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Три медвед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Три поросен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Театр на скрепках «Веселые мордашк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Колобо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«Реп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7530"/>
                </a:solidFill>
                <a:latin typeface="Georgia"/>
              </a:rPr>
              <a:t>Театр настольный плоскостно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Объект 3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2:34:31Z</dcterms:created>
  <dc:creator>GaMeR</dc:creator>
  <dc:description/>
  <dc:language>en-US</dc:language>
  <cp:lastModifiedBy>107</cp:lastModifiedBy>
  <dcterms:modified xsi:type="dcterms:W3CDTF">2022-04-12T04:47:0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