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43C-F4F5-4FE0-A937-9895230D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456-15FA-4D82-983A-AF7F03B1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1FC-1994-4354-A4FB-821CDCFC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C38-4FF7-493D-9434-EEFDDA67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3CE-7692-4446-AA5A-3F2C5670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BDAC-3377-46EE-8C4B-C1BE0C1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94C8-3E7B-4278-B4D3-B4432C4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29CA-BD81-421E-9A0A-287402A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DF7-1F64-43CB-BBA3-84EB03AC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A22-A8AA-42B3-840F-50B78201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E989-CEE4-4714-9A40-B17E20C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CB8-1B52-4A49-BBE4-61EEA4A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4C13-6C5D-40E6-B38B-67FB727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16FC-3A71-4514-8431-B0F79BE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83A0-F290-4D55-84AF-610DBC86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9B3B-A4E5-4F62-B9CB-66655CE1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D3D-9FE7-4954-8576-F2B14BC3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91B-1F67-46FA-A2A4-7549362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A92-833D-4CF0-9938-B84378B2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AC9-F9B1-4274-88FB-C141D89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E7D-0255-4E68-B6C5-4FC1D0DD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759-9066-4883-8BF4-C7A2A08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FFA-F73F-4A26-ABCC-2F6ECC5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147-1C02-4F80-B89B-02A0C0A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3B63-B2FB-4CAE-BDF1-90D7800864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C5F-1E87-472E-BA3A-12A1CA27F1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cc00"/>
                </a:solidFill>
                <a:latin typeface="Arial Black"/>
              </a:rPr>
              <a:t>«Спряжение глаголов»</a:t>
            </a:r>
            <a:r>
              <a:rPr b="1" lang="ru-RU" sz="3200" spc="-1" strike="noStrike">
                <a:solidFill>
                  <a:srgbClr val="ffffb7"/>
                </a:solidFill>
                <a:latin typeface="comic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закреп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92360" y="4508640"/>
            <a:ext cx="360036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Глаголы исключ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4140360" y="3500280"/>
            <a:ext cx="158256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п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5219640" y="1413000"/>
            <a:ext cx="237672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гн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3851280" y="2276640"/>
            <a:ext cx="273672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ерж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6300720" y="2997360"/>
            <a:ext cx="259236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ыш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6227640" y="3860640"/>
            <a:ext cx="273528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084720" y="4797360"/>
            <a:ext cx="295308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терп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4859280" y="5734080"/>
            <a:ext cx="316872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верт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1476360" y="5734080"/>
            <a:ext cx="295272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обид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24"/>
          <p:cNvSpPr/>
          <p:nvPr/>
        </p:nvSpPr>
        <p:spPr>
          <a:xfrm>
            <a:off x="468360" y="4653000"/>
            <a:ext cx="3456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ненавид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26"/>
          <p:cNvSpPr/>
          <p:nvPr/>
        </p:nvSpPr>
        <p:spPr>
          <a:xfrm>
            <a:off x="755640" y="3645000"/>
            <a:ext cx="316872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вис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28"/>
          <p:cNvSpPr/>
          <p:nvPr/>
        </p:nvSpPr>
        <p:spPr>
          <a:xfrm>
            <a:off x="755640" y="2637000"/>
            <a:ext cx="302436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вид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2"/>
          <p:cNvSpPr/>
          <p:nvPr/>
        </p:nvSpPr>
        <p:spPr>
          <a:xfrm>
            <a:off x="1258920" y="1557360"/>
            <a:ext cx="309708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мотре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75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75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75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175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75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Глаголы исключ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924360" y="2924280"/>
            <a:ext cx="2016000" cy="18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1042920" y="3500280"/>
            <a:ext cx="28814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бри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5940360" y="3573360"/>
            <a:ext cx="28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тели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роверь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ышишь              слыш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идишь               обид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ишь                  вид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нишь                   гон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навидишь          ненавид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пишь                терп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ровер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двумя зайцами погонишься – ни одного не поймае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ло чего постараешься, тому и порадуеш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хвалишься, на том и провалиш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зеваешься, так воды нахлебаеш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Распредели 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900000" y="1916280"/>
            <a:ext cx="367200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спря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932360" y="1916280"/>
            <a:ext cx="3745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ря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826920" y="2565360"/>
            <a:ext cx="7993080" cy="352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тов.м, рису.м, посмотр.шь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.шь, искупа.шь, подыш.шь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ад.те, слома.те, скле.т, разве.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стел.шь, молот.т, подерж.шь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ыщ.т, завян.т, надкус.т, сбре.шь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у.шь, замерзн.те, загон.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971640" y="1844640"/>
            <a:ext cx="7848360" cy="4897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Arial"/>
              </a:rPr>
              <a:t>Исключи на строке </a:t>
            </a:r>
            <a:br>
              <a:rPr sz="5400"/>
            </a:br>
            <a:r>
              <a:rPr b="1" lang="ru-RU" sz="5400" spc="-1" strike="noStrike">
                <a:solidFill>
                  <a:srgbClr val="ffcc00"/>
                </a:solidFill>
                <a:latin typeface="Arial"/>
              </a:rPr>
              <a:t>лишнее слов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РИТЬ   СТРОИТЬ   СТЕЛ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ПАТЬ    ГНАТЬ    МИР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ТЬ    ЗНАТЬ  ПОДКОВАТЬ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ВАЛИТЬ ОБИДЕТЬ  ВИД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ГРАТЬ  ГРЕТЬ  ВЕРТ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РПЕТЬ  СМОТРЕТЬ СМ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>
            <a:hlinkClick r:id="rId1" action="ppaction://hlinksldjump"/>
          </p:cNvPr>
          <p:cNvSpPr/>
          <p:nvPr/>
        </p:nvSpPr>
        <p:spPr>
          <a:xfrm>
            <a:off x="8101080" y="6021360"/>
            <a:ext cx="720720" cy="64764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ОДБЕРИ К СЛОВАМ ОДНОКОРЕННОЙ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ГЛАГО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ида, терпение, плавание, полёт, зависимость, работа, читател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унок, мечта, отдых,  путешественни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итва, рассказчик, строитель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900000" y="4653000"/>
            <a:ext cx="7848720" cy="180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уй форму 2-го лиц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динствен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множественного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Оце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 трудность урока и сложность материала для в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 долю своего участия в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 своё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Улыбающееся лицо 3"/>
          <p:cNvSpPr/>
          <p:nvPr/>
        </p:nvSpPr>
        <p:spPr>
          <a:xfrm>
            <a:off x="1357200" y="4857840"/>
            <a:ext cx="1428840" cy="1285920"/>
          </a:xfrm>
          <a:prstGeom prst="smileyFace">
            <a:avLst>
              <a:gd name="adj" fmla="val 9282"/>
            </a:avLst>
          </a:prstGeom>
          <a:solidFill>
            <a:srgbClr val="dbdb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Улыбающееся лицо 4"/>
          <p:cNvSpPr/>
          <p:nvPr/>
        </p:nvSpPr>
        <p:spPr>
          <a:xfrm>
            <a:off x="5000760" y="4786200"/>
            <a:ext cx="1428480" cy="1357560"/>
          </a:xfrm>
          <a:prstGeom prst="smileyFace">
            <a:avLst>
              <a:gd name="adj" fmla="val 9282"/>
            </a:avLst>
          </a:prstGeom>
          <a:solidFill>
            <a:srgbClr val="c4c4c4"/>
          </a:solidFill>
          <a:ln w="2556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521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просы учебной тем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аком случае необходимо определять спряжение глагол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пределить спряжение глагол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окончаниях каких глаголов пишется буква Е, а в каких – 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 правила написания окончаний глаголов исключ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8102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Arial Black"/>
              </a:rPr>
              <a:t>Дидактические цели урока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*умение увидеть орфограмму и наметить пути её решения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*приобретение навыков самостоятельной рабо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5400" spc="-1" strike="noStrike">
                <a:solidFill>
                  <a:srgbClr val="ffcc00"/>
                </a:solidFill>
                <a:latin typeface="Arial Black"/>
              </a:rPr>
              <a:t>Методические задачи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773000"/>
            <a:ext cx="840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*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ормирование умения распознавать спряжение глаго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*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точнение знаний об особенностях глаголов- исклю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*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мотрение правила написания букв Е и И в безударных личных окончаниях глаголов настоящего и будущег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и время глаго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611280" y="3500280"/>
            <a:ext cx="3168720" cy="180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059280" y="4653000"/>
            <a:ext cx="3384360" cy="18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5796000" y="3429000"/>
            <a:ext cx="3095640" cy="18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дел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буд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ать?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987640" y="2997360"/>
            <a:ext cx="1800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4716360" y="2997360"/>
            <a:ext cx="187164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4788000" y="306864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826920" y="3740040"/>
            <a:ext cx="257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ела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дела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3059280" y="1197000"/>
            <a:ext cx="3457440" cy="180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971640" y="400536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едш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3564000" y="515772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ел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3708720" y="522936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оя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24"/>
          <p:cNvSpPr/>
          <p:nvPr/>
        </p:nvSpPr>
        <p:spPr>
          <a:xfrm>
            <a:off x="5724360" y="3429000"/>
            <a:ext cx="3168720" cy="18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у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4"/>
          <p:cNvSpPr/>
          <p:nvPr/>
        </p:nvSpPr>
        <p:spPr>
          <a:xfrm>
            <a:off x="2124000" y="476280"/>
            <a:ext cx="597708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конч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468360" y="2924280"/>
            <a:ext cx="3743280" cy="23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едше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468360" y="2924280"/>
            <a:ext cx="3743280" cy="23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5003640" y="2924280"/>
            <a:ext cx="3816360" cy="23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оящее врем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уще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003640" y="2924280"/>
            <a:ext cx="3816360" cy="23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859280" y="1700280"/>
            <a:ext cx="19447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>
            <a:off x="2556000" y="1700280"/>
            <a:ext cx="23032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и спряжение глаго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987640" y="1916280"/>
            <a:ext cx="3529080" cy="1584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глаго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11280" y="3860640"/>
            <a:ext cx="8137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вь глагол в неопределённую фор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>
            <a:off x="826920" y="5084640"/>
            <a:ext cx="367380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ИТЬ?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27"/>
          <p:cNvSpPr/>
          <p:nvPr/>
        </p:nvSpPr>
        <p:spPr>
          <a:xfrm>
            <a:off x="4788000" y="5084640"/>
            <a:ext cx="403200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а ИТЬ?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4716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0"/>
          <p:cNvSpPr/>
          <p:nvPr/>
        </p:nvSpPr>
        <p:spPr>
          <a:xfrm flipH="1">
            <a:off x="2556000" y="4869000"/>
            <a:ext cx="2087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4643280" y="4869000"/>
            <a:ext cx="23050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Окончания глаголов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II 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спря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900000" y="1916280"/>
            <a:ext cx="3672000" cy="1441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стве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076720" y="1916280"/>
            <a:ext cx="3743280" cy="1441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жестве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763640" y="3500280"/>
            <a:ext cx="792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771640" y="3500280"/>
            <a:ext cx="1008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763640" y="4292640"/>
            <a:ext cx="201780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1763640" y="5229360"/>
            <a:ext cx="20178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5867280" y="3429000"/>
            <a:ext cx="223200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5867280" y="4292640"/>
            <a:ext cx="223200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5867280" y="5229360"/>
            <a:ext cx="107964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7020000" y="5229360"/>
            <a:ext cx="1081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Окончания глаголов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спря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900000" y="1916280"/>
            <a:ext cx="3600720" cy="129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ств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5219640" y="1916280"/>
            <a:ext cx="3600360" cy="129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жестве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692360" y="3284640"/>
            <a:ext cx="7189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556000" y="3284640"/>
            <a:ext cx="93636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692360" y="4149720"/>
            <a:ext cx="180000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692360" y="5013360"/>
            <a:ext cx="180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6084720" y="3284640"/>
            <a:ext cx="180036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6084720" y="4149720"/>
            <a:ext cx="1800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6084720" y="5084640"/>
            <a:ext cx="86544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7020000" y="5084640"/>
            <a:ext cx="936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0:11:11Z</dcterms:created>
  <dc:creator>user3</dc:creator>
  <dc:description/>
  <dc:language>en-US</dc:language>
  <cp:lastModifiedBy>Вера</cp:lastModifiedBy>
  <dcterms:modified xsi:type="dcterms:W3CDTF">2017-12-19T13:18:36Z</dcterms:modified>
  <cp:revision>23</cp:revision>
  <dc:subject/>
  <dc:title>Слайд 1</dc:title>
</cp:coreProperties>
</file>