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941-E9FA-43D8-B883-DA1C6B74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F8A-4AB4-43FE-BF85-489E69C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8CF-C131-4CC6-9C3F-FC807F3C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18C-0187-4750-BCF8-4B3BB26D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B47-F4A3-421D-87A9-A567026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ECF-3091-4940-9AF0-57B2C25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AA7-2D2C-48F0-9B9F-811680F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398-07A1-401D-BF30-02FFECC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B0C-9594-4B20-8630-8819C34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58E-7924-42AF-BF20-3B5F1A3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E2F-ACE9-4EF0-893A-07B1747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4C1-A689-4255-90E7-2CE44E0A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CD9C-60B3-4807-9CF7-0A0DA7909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691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ЧЕСКИЙ ЗАКОН И ПЕРИОДИЧЕСКАЯ СИСТЕМА ХИМИЧЕСКИХ ЭЛЕМЕНТОВ Д.И.МЕНДЕЛЕ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:   КОСТЫЧЕВ АНД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-СЯ 9 КЛАССА  МАОУ СОШ№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 НОВООР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ЕЛЬ: ШУРЫГИНА ГА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ЕКСАНДРОВ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ХИМ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12840" y="333360"/>
            <a:ext cx="8831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ая  и побочная  подгруппы  подчёркиваются  смещением  одн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ментов  влево,  а  других  вправо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ую  подгруппу составляют  типические элементы (свойства котор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яются    закономерно от типического металла до  благородного газ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элементы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периодов  и сходные с  ними по  химически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йствам  элементы  больших  период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бочную  подгруппу составляют  только  металлы – элементы больш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иодов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имические  свойства  элементов  главных  и  побочных  подгрупп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о  различаются.     Например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группе  главную подгруппу  составляют  неметаллы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Br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бочную – металл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n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 подгруппы  объединяют  наиболее  сходные  между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ой  элемен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26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Элементы главных подгрупп"/>
          <p:cNvPicPr/>
          <p:nvPr/>
        </p:nvPicPr>
        <p:blipFill>
          <a:blip r:embed="rId1"/>
          <a:stretch/>
        </p:blipFill>
        <p:spPr>
          <a:xfrm>
            <a:off x="2057400" y="333360"/>
            <a:ext cx="4800600" cy="4535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26920" y="5229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– главные подгрупп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63640" y="59691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– побочные подгрупп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ктиноиды и лантано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иоде вслед за лантаном  располагаются 14 элементов с порядковыми  номерами  58-71  по свойствам  похожие на лантан – поэтому их назвали – лантанои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ая же ситуация  наблюдается 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иоде у элементов с порядковыми номерами  90 – 103.   Их свойства  похожи на актиний, и называются они актино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mendele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определить, какая подгруппа — главная, а какая — побочная, важно помнить, что в состав главных подгрупп входят элементы как малых, так и больших период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очные подгруппы образованы только элементами больших периодов. Например, в состав главной подгруппы II группы входят элементы второго и третьего периодов — бериллий Be и магний Mg. Побочная подгруппа начинается с элемента четвертого (большого) периода — цинка Zn. И еще одно отличие: главная подгруппа, как правило, состоит из большего числа элементов, чем побочная (в VIII группе наоборот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ая  система химических  элементов существует в двух вариантах:  длинный и корот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 Д.И. Менделеев предложил  вариант  длинной  формы,  в котором все периоды располагались одной стро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 недостаток этой этого варианта – растянутость,  некомпактность,  т.к.  часть  клеток  системы пуст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а периодической таблицы элементов, рекомендованная ИЮ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риант  короткой  фор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ВАРИАНТ БОЛЕЕ КОМПАКТНЫЙ,  ОДНАКО ЕГО СУЩЕСТВЕННЫЙ НЕДОСТАТОК – СОЧЕТАНИЕ В ОДНОЙ ГРУППЕ  НЕСХОДНЫХ ЭЛЕМЕНТОВ, Т.Е. СИЛЬНОЕ РАЗЛИЧИЕ СВОЙСТВ ЭЛЕМЕНТОВ ГЛАВНЫХ И  ПОБОЧНЫХ ПОДГРУПП.  ЭТО В КАКОЙ -ТО  МЕРЕ «ЗАТУШЁВЫВАЕТ»  ПЕРИОДИЧНОСТЬ СВОЙСТВ ЭЛЕМЕНТОВ  И  ЗАТРУДНЯЕТ  ПОЛЬЗОВАНИЕ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408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1773360"/>
            <a:ext cx="890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  ОБРАЗОМ,  из  всего  сказанного  следует,  то, чт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АЯ СИСТЕМА химических элементов 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 ЗАКОН – БРАТЬЯ – БЛИЗНЕЦЫ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 говорим «ПЕРИОДИЧЕСКИЙ  ЗАКОН»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разумеваем  ПЕРИОДИЧЕСКАЯ СИСТЕМА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 говорим «ПЕРИОДИЧЕСКАЯ  СИСТЕМА» -  подразумеваем   «ПЕРИОДИЧЕСКИЙ ЗАКОН»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афошин Н.П. Периодический закон и периодическая система элементов Д.И. Менделеева. — М.: Просвещение, 1973. — 208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Рысев Ю.В. Д.И. Менделеев. — М.: Просвещение, 1983. — 128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еня А.А., Трифонов Д.Н. Периодический закон Д.И. Менделеева. — М.: Просвещение, 1969. — 160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75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АТЬСЯ ПРЕДСКАЗАТЬ БУДУЩЕЕ ПЕРИОДИЧЕСКОЙ СИСТЕМЫ НА ОСНОВЕ ИМЕЮЩИХСЯ Ф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ЕСКИЙ ЗАКОНИ ПЕРИОДИЧЕСКАЯ СИСТЕМА ХИМИЧЕСКИХ ЭЛЕМЕНТОВ Д.И.МЕНДЕЛЕЕ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endele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ИЗУЧИТЬ ИСТОРИЮ ОТКРЫТИЯ ПЕРИОДИЧЕСКОГО ЗАКОНА,А ТАКЖЕ ПРЕДПОСЫЛКИ ЕГО ОТКРЫ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ИССЛЕДОВАТЬ ФАКТЫ, ЯВЛЯЮЩИЕСЯ ЭКСПЕРИМЕНТАЛЬНЫМ ПОДТВЕРЖДЕНИЕМ СПРАВЕДЛИВОСТИ ЗАКОНА,ЕГО ИСТОРИЧЕСКОЙ ВА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РАВНИТЬ СВОЙСТВА ЭЛЕМЕНТОВ ПРЕДСКАЗАННЫЕ УЧЕНЫМИ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Е,СО СВОЙСТВАМИ ЭЛЕМЕНТОВ,СИНТЕЗИРОВАННЫХ В КОНЦ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НА ОСНОВЕ ИЗУЧЕННОГО МАТЕРИАЛА ПОПЫТАТЬСЯ ПРЕДСКАЗАТЬ БУДУЩЕЕ ПЕРИОДИЧЕСКОЙ СИСТЕ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96000" y="731880"/>
            <a:ext cx="3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42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Е О СТРОЕНИИ АТОМОВ ВСКРЫЛО  ГЛУБОКИЙ ФИЗИЧЕСКИЙ СМЫСЛ  ПЕРИОДИЧЕСКОГО ЗАКО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Й ХАРАКТЕРИСТИКОЙ АТОМА  ЯВЛЯЕТСЯ ПОЛОЖИТЕЛЬНЫЙ  ЗАРЯД, РАСПОЛОЖЕННЫЙ В ЦЕНТРЕ АТОМА,  А ЗНАЧИТ, И ЭЛЕМЕНТ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ЯД ЯДРА ОПРЕДЕЛЯЕТ ЧИСЛО ЭЛЕКТРОНОВ В ЭЛЕКТРОННОЙ ОБОЛОЧКЕ АТОМА , ЕЁ СТРОЕНИЕ, А ТЕМ САМЫМ  ВСЕ СВОЙСТВА ЭЛЕМЕНТА И ЕГО ПОЛОЖЕНИЕ В ПЕРИОДИЧЕСКОЙ СИСТЕМ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 ЯВЛЯЕТСЯ ГРАФИЧЕСКИМ ОТОБРА ЖЕНИЕМ ПЕРИОДИЧЕСКОГО З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7"/>
          <p:cNvSpPr/>
          <p:nvPr/>
        </p:nvSpPr>
        <p:spPr>
          <a:xfrm>
            <a:off x="395280" y="3284640"/>
            <a:ext cx="1297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867280" y="1989000"/>
            <a:ext cx="1584360" cy="574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403280" y="1989000"/>
            <a:ext cx="1798560" cy="64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635280" y="260280"/>
            <a:ext cx="2665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635280" y="333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аблица  химически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мен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619280" y="2133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ио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227640" y="206064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пп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97440" y="34290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2556000" y="3357720"/>
            <a:ext cx="12747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5292720" y="3068640"/>
            <a:ext cx="1728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2"/>
          <p:cNvSpPr/>
          <p:nvPr/>
        </p:nvSpPr>
        <p:spPr>
          <a:xfrm>
            <a:off x="6732720" y="4437000"/>
            <a:ext cx="1692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6877080" y="5445000"/>
            <a:ext cx="165564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оч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594036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608472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6012000" y="3789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485928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3"/>
          <p:cNvSpPr/>
          <p:nvPr/>
        </p:nvSpPr>
        <p:spPr>
          <a:xfrm>
            <a:off x="349236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 flipH="1">
            <a:off x="2626920" y="17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270036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219564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547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313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 flipH="1">
            <a:off x="118692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1187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2"/>
          <p:cNvSpPr/>
          <p:nvPr/>
        </p:nvSpPr>
        <p:spPr>
          <a:xfrm>
            <a:off x="630072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6948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539640" y="2060640"/>
            <a:ext cx="432000" cy="43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7812000" y="2060640"/>
            <a:ext cx="433440" cy="4316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826920" y="4149720"/>
            <a:ext cx="432000" cy="4316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3059280" y="4221000"/>
            <a:ext cx="504720" cy="432000"/>
          </a:xfrm>
          <a:prstGeom prst="rect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3"/>
          <p:cNvSpPr/>
          <p:nvPr/>
        </p:nvSpPr>
        <p:spPr>
          <a:xfrm>
            <a:off x="6588000" y="2565360"/>
            <a:ext cx="0" cy="647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уктура   периодической сис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000276674-pre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иодическая  система  хим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ментов  Д.И. Менделеева имеет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 периодов  (большой и  малый)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рядов (чётный и нечётны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 групп  (главная  и  побоч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одом называется ряд элементов, расположенных в порядке возрастания атомных масс, начинающийся со щелочного металла (за исключением первого периода; он начинается с водорода) и заканчивающийся инертным газом. В первый период входят только два элемента, во второй и третий — по восемь (эти периоды называются малыми). Четвертый период образован восемнадцатью элементами, а пятый и шестой — еще большим числом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называют большими пери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ётный и нечетный ря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системе  10  рядов.  Каждый  малый  период  состоит из одного ряда;  чётного (верхнего)  и нечётного (нижнего).  В чётных  рядах больших периодов ( 4; 6; 8 и 10)  находятся одни металлы,  и свойства  элементов  в ряду  слева направо  изменяются  слаб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нечётных  рядах  больших периодов  ( 5; 7 и 9)  свойства  элементов  в  ряду  слева  направо  изменяются  как у тип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признаком,  по которому элементы разделены на два ряда,  является степень окисления  (во времена Менделеева – валентност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475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уппы  элемен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400" y="2155680"/>
            <a:ext cx="87624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– это  вертикальный  ряд  элементов,  имеющ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инаковое количество  электронов  на внешнем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ергетическом  уровне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группы  связан со степенью окисления  элемент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являемой  ими  в соединениях.  Как  правило,  высш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ая степень окисления равна номеру групп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ая  группа  делится  на  две  подгруппы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ая  и  побочна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0:03:55Z</dcterms:created>
  <dc:creator>Завуч</dc:creator>
  <dc:description/>
  <dc:language>en-US</dc:language>
  <cp:lastModifiedBy>Галина</cp:lastModifiedBy>
  <dcterms:modified xsi:type="dcterms:W3CDTF">2022-03-16T12:47:59Z</dcterms:modified>
  <cp:revision>8</cp:revision>
  <dc:subject/>
  <dc:title>ПЕРИОДИЧЕСКИЙ ЗАКОН И ПЕРИОДИЧЕСКАЯ СИСТЕМА ХИМИЧЕСКИХ ЭЛЕМЕНТОВ Д.И.МЕНДЕЛЕЕВА.</dc:title>
</cp:coreProperties>
</file>