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2.jpeg" ContentType="image/jpeg"/>
  <Override PartName="/ppt/media/image7.jpeg" ContentType="image/jpeg"/>
  <Override PartName="/ppt/media/image11.gif" ContentType="image/gif"/>
  <Override PartName="/ppt/media/image6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9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4CA-82F8-4234-8C03-CB12F528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C2B-7D65-46F8-A306-DB73705D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796-E443-421F-A234-F96D247C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E72-BC82-417E-B042-99159A79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39C0-2F0E-4456-B77F-FA46D0E9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07C1-38C8-464F-8DD5-48F4DDBE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63F3-81D7-4A78-A22C-23B9AC89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D63C-CC8E-4949-B3B0-2C5333D2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FBB6-DBC6-45B2-BF6E-F0852B63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5F3C-1735-478D-81BD-FEA65C90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C3BF-6E73-4CCD-B607-63DA1C9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CF0-8C9F-4DA0-9C70-CA742DF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A280-53BA-42E1-BC0B-7E7E0A9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9321-932F-441A-AFD1-BC7DA31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4C3D-E0EF-47B7-94A9-333F7BDB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DAD7-7028-4D80-8EA6-CF502A0C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53B6-DFDF-47DE-A8FF-9D686C05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08C5-7237-4996-AA5B-A1002601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BD99-B3E4-44A6-A94C-649F3E85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1351-DCC6-47AE-BB30-231F1D97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A99C5-F4CB-4CB6-9BDF-7F972048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4124-EEF3-40BD-A88E-CA7FD1D2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68A-8AFB-49FC-838A-CE2AE3B2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9DCF-3FDC-4CEA-A7B1-3C35183D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1930-FE25-45D3-846F-92BA19E2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64DB-8E64-4235-B8DD-268A1DE9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58A3-FE55-4A5B-B4C0-9F280164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78DC-3C21-47B8-BA7A-B8EE6C1B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8113-2D54-43E9-A74F-D3FA3E10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888E-FC82-4872-B2BC-746046D0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05C3-1ADF-4F91-B326-05F9558C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3815-690D-4926-AD1F-3E4C59FF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66CBC-E677-4C72-83F0-C9322AFD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9EC-7F4A-491D-A629-048CF04E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BD13-3D99-4795-8E20-08495BB2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B910-0513-4466-9716-04BC51AC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54E7-D816-4167-84ED-445E857E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9EF2-AA00-4271-9B89-F9BEFF3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4A71-A660-4B7A-B053-C1DACD6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B2BF-FBFF-41E6-B81F-69EE1841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5E9F-688F-4AFB-8BB1-C066C184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0B221-0ED7-459A-B8C6-FF39B2B8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D729B-8334-49EB-9D28-B8D8732E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0AAD9-4C4B-4B32-9CC2-A7B1682C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A82-9272-4964-80B9-F41DCB9C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1628-27CF-44E2-A78C-BBEBC2E9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32747-25B6-4C1B-81BD-64CC583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9F10-76FB-47DF-A921-4E210E86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EBD1-2C18-4697-B807-F979D8B9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9703E-518D-420D-ADEC-D4DC6AD6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43267-9927-4B3B-A0D9-99A1D92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C4A2B-C521-4A16-BA0D-9C1885A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74DB6-0AE4-4B6C-9419-9563028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640FD-EC5C-4B3C-9418-A6782309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BE655-39E5-4671-A502-5DE08E92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A5A-2354-4D8E-B8EE-3FA4F7F4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8D3B3-EB93-494B-81E3-06AC5160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991F-16AF-41C7-950A-993E7B16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1396F-AFA0-460A-9730-B2C70B2B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E0CF2-C29F-4A6F-B244-10D30454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B5BEB-DDD7-4CF3-8334-30FD445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8B3F6-BAD1-4701-A493-14AC8D9A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375C-5F36-4171-9AFC-B63B6FD4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5E8C-2B16-4250-BD91-57A78D6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48B69-305A-4F62-A263-C316893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D0BF2-FC31-442C-B310-71B601BC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FFE-48CD-4393-B2E8-4274FEC6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CF3DC-EF2A-4FE7-973E-B90D31A6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96BBD-3922-4DFC-AA74-70C53167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62FE5-F33D-471F-A07D-558EA0E6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155AD-D0FF-4A55-A4AC-7C57AB7F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73B7D-1B90-4AE0-93A0-BA7B3ADB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74025-9411-4A15-A811-7C1A90A0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E4DD5-A398-4B97-AE74-2A3A3415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1E909-DBB3-40D7-943E-04E530DA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A836E-B9E5-4706-9C2B-24A131AA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7AB4C-9BB8-49BB-BE33-EC88881A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0A5-8820-4107-8BAE-D70DA3B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141A1-F22C-47D2-B6C1-ACC7EFB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F6D2-43F9-42A6-B9F3-80854639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D3AC9-A979-4950-8A8B-596CE12D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618C-41D4-4301-A033-49678928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A6F2E-60C9-4E22-AA16-0D510B13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48F-6EF9-40EC-B8BD-81E3C086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CF5A-0B69-4B77-A839-20F81182FD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984C-4E02-4787-AE97-5D88445DA9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D8B4-BCF6-4B38-821E-7EFDCD7275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FE75-387F-4C4C-944A-FE10B4439D3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206B-A276-41FD-9F16-33547AD345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6505-6E8D-4A08-8329-F0DD1FD0288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F020-BB79-47D5-80A0-A05B00B0019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Вместе весело шагать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357360"/>
            <a:ext cx="7407000" cy="93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Классный час во 2 класс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4211640" y="5084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7472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Какие слова, по-вашему, связаны со словом дружба? Запишите те, которые вспомнились сразу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сова.jpg"/>
          <p:cNvPicPr/>
          <p:nvPr/>
        </p:nvPicPr>
        <p:blipFill>
          <a:blip r:embed="rId1"/>
          <a:stretch/>
        </p:blipFill>
        <p:spPr>
          <a:xfrm>
            <a:off x="1071720" y="258444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071600" y="2636640"/>
            <a:ext cx="486252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5e01"/>
                </a:solidFill>
                <a:latin typeface="Corbel"/>
              </a:rPr>
              <a:t>Дру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5e01"/>
                </a:solidFill>
                <a:latin typeface="Corbel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5e01"/>
                </a:solidFill>
                <a:latin typeface="Corbel"/>
              </a:rPr>
              <a:t>Поддерж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5e01"/>
                </a:solidFill>
                <a:latin typeface="Corbel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5e01"/>
                </a:solidFill>
                <a:latin typeface="Corbel"/>
              </a:rPr>
              <a:t>Выруч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5e01"/>
                </a:solidFill>
                <a:latin typeface="Corbel"/>
              </a:rPr>
              <a:t>Забо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5e01"/>
                </a:solidFill>
                <a:latin typeface="Corbel"/>
              </a:rPr>
              <a:t>Прощ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4" descr="Анима (8).gif"/>
          <p:cNvPicPr/>
          <p:nvPr/>
        </p:nvPicPr>
        <p:blipFill>
          <a:blip r:embed="rId2"/>
          <a:stretch/>
        </p:blipFill>
        <p:spPr>
          <a:xfrm>
            <a:off x="6786720" y="4643280"/>
            <a:ext cx="19285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Перевал Дружба.jpg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42932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      </a:t>
            </a:r>
            <a:r>
              <a:rPr b="1" i="1" lang="ru-RU" sz="3900" spc="-1" strike="noStrike">
                <a:solidFill>
                  <a:srgbClr val="572314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572314"/>
                </a:solidFill>
                <a:latin typeface="Arial"/>
              </a:rPr>
              <a:t>Д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ружб</a:t>
            </a:r>
            <a:r>
              <a:rPr b="1" i="1" lang="ru-RU" sz="4000" spc="-1" strike="noStrike">
                <a:solidFill>
                  <a:srgbClr val="572314"/>
                </a:solidFill>
                <a:latin typeface="Arial"/>
              </a:rPr>
              <a:t>а</a:t>
            </a:r>
            <a:r>
              <a:rPr b="1" i="1" lang="ru-RU" sz="4000" spc="-1" strike="noStrike" u="sng">
                <a:solidFill>
                  <a:srgbClr val="572314"/>
                </a:solidFill>
                <a:uFillTx/>
                <a:latin typeface="Corbel"/>
              </a:rPr>
              <a:t> </a:t>
            </a: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00080" y="114264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Дружба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– близкие отношения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основанные на взаимном доверии,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привязанности, общности интерес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eb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Дружба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– главное чудо всегда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Сто открытий для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ерных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рузей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И любая беда – не беда,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 другом рядом и жить веселей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4" descr="Анима (99).gif"/>
          <p:cNvPicPr/>
          <p:nvPr/>
        </p:nvPicPr>
        <p:blipFill>
          <a:blip r:embed="rId2"/>
          <a:stretch/>
        </p:blipFill>
        <p:spPr>
          <a:xfrm>
            <a:off x="7858080" y="285840"/>
            <a:ext cx="82872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3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3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       </a:t>
            </a:r>
            <a:r>
              <a:rPr b="1" lang="ru-RU" sz="4300" spc="-1" strike="noStrike">
                <a:solidFill>
                  <a:srgbClr val="572314"/>
                </a:solidFill>
                <a:latin typeface="Arial"/>
              </a:rPr>
              <a:t>   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4300" spc="-1" strike="noStrike" u="sng">
                <a:solidFill>
                  <a:srgbClr val="ff0000"/>
                </a:solidFill>
                <a:uFillTx/>
                <a:latin typeface="Corbel"/>
              </a:rPr>
              <a:t>Правила дружб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е ссори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Уступ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Не бояться просить прощения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 если обидел друг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Быть вежлив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Не зли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Не жаднич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Помогать друг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Быть чест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Быть вниматель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4" descr="Гарфилд.jpg"/>
          <p:cNvPicPr/>
          <p:nvPr/>
        </p:nvPicPr>
        <p:blipFill>
          <a:blip r:embed="rId1"/>
          <a:stretch/>
        </p:blipFill>
        <p:spPr>
          <a:xfrm>
            <a:off x="1214280" y="0"/>
            <a:ext cx="1141560" cy="15001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5" descr="menu5_2.gif"/>
          <p:cNvPicPr/>
          <p:nvPr/>
        </p:nvPicPr>
        <p:blipFill>
          <a:blip r:embed="rId2"/>
          <a:srcRect l="0" t="17975" r="1360" b="0"/>
          <a:stretch/>
        </p:blipFill>
        <p:spPr>
          <a:xfrm>
            <a:off x="7072200" y="928800"/>
            <a:ext cx="2071800" cy="13032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7" descr="Анима (82).gif"/>
          <p:cNvPicPr/>
          <p:nvPr/>
        </p:nvPicPr>
        <p:blipFill>
          <a:blip r:embed="rId3"/>
          <a:stretch/>
        </p:blipFill>
        <p:spPr>
          <a:xfrm>
            <a:off x="5364000" y="1557360"/>
            <a:ext cx="642960" cy="603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:\Users\рпм\Desktop\1191177881_8.jpg"/>
          <p:cNvPicPr/>
          <p:nvPr/>
        </p:nvPicPr>
        <p:blipFill>
          <a:blip r:embed="rId4"/>
          <a:stretch/>
        </p:blipFill>
        <p:spPr>
          <a:xfrm>
            <a:off x="7093080" y="4076640"/>
            <a:ext cx="100008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3" descr="Открытки к 8 Марта (18).jpg"/>
          <p:cNvPicPr/>
          <p:nvPr/>
        </p:nvPicPr>
        <p:blipFill>
          <a:blip r:embed="rId1"/>
          <a:stretch/>
        </p:blipFill>
        <p:spPr>
          <a:xfrm>
            <a:off x="6357960" y="3643200"/>
            <a:ext cx="2535120" cy="30006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72314"/>
                </a:solidFill>
                <a:latin typeface="Corbel"/>
              </a:rPr>
              <a:t>     </a:t>
            </a:r>
            <a:r>
              <a:rPr b="1" lang="en-US" sz="3500" spc="-1" strike="noStrike">
                <a:solidFill>
                  <a:srgbClr val="572314"/>
                </a:solidFill>
                <a:latin typeface="Corbel"/>
              </a:rPr>
              <a:t>             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Ребята,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давайте жить дружно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3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Кто любит лгать, того нельзя в друзья брать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3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Лучше честный враг,                                            чем коварный друг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3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Не бойся враг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умного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</a:t>
            </a: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бойся друг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глупого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Рисунок 4" descr="Анима (99).gif"/>
          <p:cNvPicPr/>
          <p:nvPr/>
        </p:nvPicPr>
        <p:blipFill>
          <a:blip r:embed="rId2"/>
          <a:stretch/>
        </p:blipFill>
        <p:spPr>
          <a:xfrm>
            <a:off x="1143000" y="500040"/>
            <a:ext cx="85716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5" descr="1191179443_2.jpg"/>
          <p:cNvPicPr/>
          <p:nvPr/>
        </p:nvPicPr>
        <p:blipFill>
          <a:blip r:embed="rId1"/>
          <a:stretch/>
        </p:blipFill>
        <p:spPr>
          <a:xfrm>
            <a:off x="1214280" y="3143160"/>
            <a:ext cx="3500640" cy="30290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67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Тепер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ы зна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о дружбе всё!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0080" y="1499760"/>
            <a:ext cx="8143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Друзей находит тот,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         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кто сам встречает  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          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их улыбк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Удачи в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е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м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rbel"/>
              </a:rPr>
              <a:t>       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в поисках настоящего друга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Рисунок 3" descr="66i.jpeg"/>
          <p:cNvPicPr/>
          <p:nvPr/>
        </p:nvPicPr>
        <p:blipFill>
          <a:blip r:embed="rId2"/>
          <a:stretch/>
        </p:blipFill>
        <p:spPr>
          <a:xfrm>
            <a:off x="3995640" y="981000"/>
            <a:ext cx="1357560" cy="13575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6" descr="Анима(104).gif"/>
          <p:cNvPicPr/>
          <p:nvPr/>
        </p:nvPicPr>
        <p:blipFill>
          <a:blip r:embed="rId3"/>
          <a:stretch/>
        </p:blipFill>
        <p:spPr>
          <a:xfrm flipH="1">
            <a:off x="7380360" y="1125360"/>
            <a:ext cx="1589040" cy="229716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1" descr="Анима (29).gif"/>
          <p:cNvPicPr/>
          <p:nvPr/>
        </p:nvPicPr>
        <p:blipFill>
          <a:blip r:embed="rId4"/>
          <a:stretch/>
        </p:blipFill>
        <p:spPr>
          <a:xfrm flipH="1">
            <a:off x="6156000" y="4221000"/>
            <a:ext cx="1214280" cy="9874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2" descr="Анима (19).gif"/>
          <p:cNvPicPr/>
          <p:nvPr/>
        </p:nvPicPr>
        <p:blipFill>
          <a:blip r:embed="rId5"/>
          <a:stretch/>
        </p:blipFill>
        <p:spPr>
          <a:xfrm>
            <a:off x="1042920" y="476280"/>
            <a:ext cx="88596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BB FF</cp:lastModifiedBy>
  <dcterms:modified xsi:type="dcterms:W3CDTF">2022-04-12T17:56:05Z</dcterms:modified>
  <cp:revision>10</cp:revision>
  <dc:subject/>
  <dc:title>Вместе весело шагать</dc:title>
</cp:coreProperties>
</file>