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A66-5EA0-4FF3-8314-09A6727F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464-D2BB-4381-9CBE-68F6E76A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E52-FC41-460A-96E6-45FD65F0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54A-1C6C-4C89-BE76-6FC0ECDE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6DA-2878-4BE4-AA96-A9E0DDAF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4A3-B3F7-43B4-90EF-0BC7860F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76E-A8F8-4E67-BB41-9BDAC47D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DE3-6424-4B16-91F6-2A00BD7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1AC-58E2-4D17-B8E8-0837A96B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550-98E6-4BA8-991C-4C6095A0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B9F-C186-4D8E-BFB6-301C0BE7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400-3993-4F7B-8010-18C550C6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41A0-F257-4A4C-BE54-3443D2F5C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google.com.ua/imgres?imgurl=http://pic.ipicture.ru/uploads/090306/14851/WWRHwLLcEm.jpg&amp;imgrefurl=http://www.bookcase.kz/2009/03/07/artbook/pamyatniki-knige-2&amp;usg=__OevHoL4WV-IMbETUDIS5sjxd3rI=&amp;h=405&amp;w=450&amp;sz=80&amp;hl=ru&amp;start=4&amp;itbs=1&amp;tbnid=myhA57wzrCLK3M:&amp;tbnh=114&amp;tbnw=127&amp;prev=/images%3Fq%3D%25D0%25BF%25D0%25B0%25D0%25BC%25D1%258F%25D1%2582%25D0%25BD%25D0%25B8%25D0%25BA%25D0%25B8%2B%25D0%25BA%25D0%25BD%25D0%25B8%25D0%25B3%25D0%25B5%26hl%3Dru%26sa%3DG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piplz.ru/photo/Cervantes%2520Saavedra.jpg&amp;imgrefurl=http://www.piplz.ru/page-id-576.html&amp;usg=__b4UidyOopEtcT2N_vXNbFGzpJhU=&amp;h=267&amp;w=200&amp;sz=9&amp;hl=ru&amp;start=13&amp;itbs=1&amp;tbnid=7QBqWgBVMo-0gM:&amp;tbnh=113&amp;tbnw=85&amp;prev=/images%3Fq%3D%25D0%259C%25D0%25B8%25D0%25B3%25D0%25B5%25D0%25BB%25D1%258C%2B%25D0%2594%25D0%25B5%2B%25D0%25A1%25D0%25B5%25D1%2580%25D0%25B2%25D0%25B0%25D0%25BD%25D1%2582%25D0%25B5%25D1%2581%26hl%3Dru%26sa%3DG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ua/imgres?imgurl=http://www.topnews.in/files/Shakespeare_0.jpg&amp;imgrefurl=http://www.topnews.in/only-lifetime-shakespeare-portrait-unveiled-london-2137498&amp;usg=__joY6X1xrTT1cKi82myRZx9jFXZE=&amp;h=280&amp;w=298&amp;sz=18&amp;hl=ru&amp;start=70&amp;itbs=1&amp;tbnid=uSVsQyrwSuC0dM:&amp;tbnh=109&amp;tbnw=116&amp;prev=/images%3Fq%3D%25D0%25A3%25D0%25B8%25D0%25BB%25D1%258C%25D1%258F%25D0%25BC%2B%25D0%25A8%25D0%25B5%25D0%25BA%25D1%2581%25D0%25BF%25D0%25B8%25D1%2580%2B%25D0%25BF%25D0%25BE%25D1%2580%25D1%2582%25D1%2580%25D0%25B5%25D1%2582%26start%3D60%26hl%3Dru%26sa%3DN%26gbv%3D2%26ndsp%3D20%26tbs%3Disch: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.ua/imgres?imgurl=http://upload.wikimedia.org/wikipedia/commons/e/e0/El_Inca_Garcilaso_de_la_Vega.gif&amp;imgrefurl=http://ru.wikipedia.org/wiki/%25D0%259F%25D0%25B0%25D0%25B9%25D1%2582%25D0%25B8%25D1%2582%25D0%25B8&amp;usg=__DYUFVfCzqWolol-cg2VjgpTAaF0=&amp;h=304&amp;w=300&amp;sz=35&amp;hl=ru&amp;start=1&amp;itbs=1&amp;tbnid=h0IZRCVPFByuVM:&amp;tbnh=116&amp;tbnw=114&amp;prev=/images%3Fq%3D%25D0%2598%25D0%25BD%25D0%25BA%25D0%25B0%2B%25D0%2593%25D0%25B0%25D1%2580%25D1%2581%25D0%25B8%25D0%25BB%25D0%25B0%25D1%2581%25D0%25BE%2B%25D0%25B4%25D0%25B5%2B%25D0%25BB%25D0%25B0%2B%25D0%2592%25D0%25B5%25D0%25B3%25D0%25B0%2B%25D0%25BF%25D0%25BE%25D1%2580%25D1%2582%25D1%2580%25D0%25B5%25D1%2582%26hl%3Dru%26gbv%3D2%26tbs%3Disch:1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otpuskgid.com/wp-content/uploads/2010/01/katalonia.jpg&amp;imgrefurl=http://www.otpuskgid.com/kataloniya-v-miniatyure.html&amp;usg=__uEV1PQ9nd9PxD5CewCsrlpaaFjo=&amp;h=474&amp;w=555&amp;sz=152&amp;hl=ru&amp;start=17&amp;itbs=1&amp;tbnid=QLA7K1AF6m7A8M:&amp;tbnh=114&amp;tbnw=133&amp;prev=/images%3Fq%3D%25D0%259A%25D0%25B0%25D1%2582%25D0%25B0%25D0%25BB%25D0%25BE%25D0%25BD%25D0%25B8%25D1%258F%26hl%3Dru%26sa%3DG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mages.google.com.ua/imgres?imgurl=http://faqholiday.ru/wp-content/uploads/2009/02/00052big_flowers-199x300.jpg&amp;imgrefurl=http://faqholiday.ru/tag/cvety/&amp;usg=__dAHCvg0YspqlZfiGf7gFehMWvec=&amp;h=300&amp;w=199&amp;sz=17&amp;hl=ru&amp;start=4&amp;itbs=1&amp;tbnid=rO5VL4JggnD40M:&amp;tbnh=116&amp;tbnw=77&amp;prev=/images%3Fq%3D%25D0%25B4%25D0%25BB%25D0%25B8%25D0%25BD%25D0%25BD%25D0%25B0%25D1%258F%2B%25D1%2580%25D0%25BE%25D0%25B7%25D0%25B0%26hl%3Dru%26gbv%3D2%26tbs%3Disch: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upload.wikimedia.org/wikipedia/commons/thumb/a/a6/Printing3_Walk_of_Ideas_Berlin.JPG/220px-Printing3_Walk_of_Ideas_Berlin.JPG"/>
          <p:cNvPicPr/>
          <p:nvPr/>
        </p:nvPicPr>
        <p:blipFill>
          <a:blip r:embed="rId1"/>
          <a:stretch/>
        </p:blipFill>
        <p:spPr>
          <a:xfrm>
            <a:off x="-4307040" y="2622600"/>
            <a:ext cx="1433520" cy="1901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-43070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95280" y="2291400"/>
            <a:ext cx="38894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мирный день книг и авторского права – отмечается ежегодно 23 апреля, начиная с 1996 года. Всемирный день был провозглашен на 28-й сессии ЮНЕСКО 15 ноября 1995 года (Резолюция № 3.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ешение было принято с целью просвещения, развития осознания культурных традиций, а также с учетом того, что книги являются наибольшим средством распространения знания, самым надежным способом его сохранения. В резолюции отмечается эффективность проведения в этот день книжных выставок и ярма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WWRHwLLcE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2060640"/>
            <a:ext cx="286560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kniga"/>
          <p:cNvPicPr/>
          <p:nvPr/>
        </p:nvPicPr>
        <p:blipFill>
          <a:blip r:embed="rId4"/>
          <a:stretch/>
        </p:blipFill>
        <p:spPr>
          <a:xfrm>
            <a:off x="1187280" y="476280"/>
            <a:ext cx="24498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knigovka.ucoz.com/haifa-book.jpg"/>
          <p:cNvPicPr/>
          <p:nvPr/>
        </p:nvPicPr>
        <p:blipFill>
          <a:blip r:embed="rId1"/>
          <a:stretch/>
        </p:blipFill>
        <p:spPr>
          <a:xfrm>
            <a:off x="2786040" y="1071720"/>
            <a:ext cx="3333600" cy="4286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714240" y="357120"/>
            <a:ext cx="72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книге и письменности в городе Хайфа Изра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642960" y="5286240"/>
            <a:ext cx="700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омный том высотой 3 метра выполнен из бронзы. Из книги буквально «вываливаются» буквы и символы алфавитов мира. Памятник символизирует непрерывность развития книги и пись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knigovka.ucoz.com/zinzinati-book.jpg"/>
          <p:cNvPicPr/>
          <p:nvPr/>
        </p:nvPicPr>
        <p:blipFill>
          <a:blip r:embed="rId1"/>
          <a:stretch/>
        </p:blipFill>
        <p:spPr>
          <a:xfrm>
            <a:off x="1571760" y="7858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785880" y="3571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 Амелии Валерио Вайнберг. Цинциннати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85840" y="507204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лия Вайнберг в 1982 году завещала всё своё наследство в фонд местной Публичной библиотеки.  Этот благородный поступок увековечили созданием фонтана. Из стопок книг вытекает вода, символизируя непрерывный поток знаний необходимый человечеству дл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71640" y="26028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Monotype Corsiva"/>
              </a:rPr>
              <a:t>Всемирный день кни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45574185_UEbNTTwTB3"/>
          <p:cNvPicPr/>
          <p:nvPr/>
        </p:nvPicPr>
        <p:blipFill>
          <a:blip r:embed="rId1"/>
          <a:stretch/>
        </p:blipFill>
        <p:spPr>
          <a:xfrm>
            <a:off x="477720" y="1785960"/>
            <a:ext cx="3522960" cy="423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http://upload.wikimedia.org/wikipedia/commons/thumb/a/a6/Printing3_Walk_of_Ideas_Berlin.JPG/220px-Printing3_Walk_of_Ideas_Berlin.JPG"/>
          <p:cNvPicPr/>
          <p:nvPr/>
        </p:nvPicPr>
        <p:blipFill>
          <a:blip r:embed="rId2"/>
          <a:stretch/>
        </p:blipFill>
        <p:spPr>
          <a:xfrm>
            <a:off x="4651200" y="1857240"/>
            <a:ext cx="327852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760" y="3785760"/>
            <a:ext cx="3744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принятии решения учитывался опыт ряда стран и организаций, уже ранее проводящих «День книг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та была выбрана в память о том, что 23 апреля в 1616 году скончались Мигель Де Сервантес, Уильям Шекспир (по Юлианскому календарю), Инка Гарсиласо де ла Ве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ervantes%2520Saaved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2057400" cy="27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Shakespeare_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692280"/>
            <a:ext cx="2424240" cy="227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l_Inca_Garcilaso_de_la_Veg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3645000"/>
            <a:ext cx="2311560" cy="2352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4716360" y="602136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а Гарсиласо де ла В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220720" y="3048120"/>
            <a:ext cx="18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льям Шексп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701280" y="333540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ель Де Сервант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760" y="3357720"/>
            <a:ext cx="37432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 же традиция празднования Дня книги родилась в Каталонии, где 23 апреля (в День Св.Георга) за каждую купленную книгу дарили р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м праздником День книги по праву считают авторы, издатели, учителя, библиотекари и все, кто причастен к книжному делу. Традиционно в этот день во многих странах мира организовываются книжные ярмарки и выст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katalon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04640"/>
            <a:ext cx="2879640" cy="246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49765397_roza_kniga_krov"/>
          <p:cNvPicPr/>
          <p:nvPr/>
        </p:nvPicPr>
        <p:blipFill>
          <a:blip r:embed="rId3"/>
          <a:stretch/>
        </p:blipFill>
        <p:spPr>
          <a:xfrm>
            <a:off x="5076720" y="404640"/>
            <a:ext cx="2664000" cy="199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00052big_flowers-199x3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2852640"/>
            <a:ext cx="2054160" cy="3095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1908720" y="292428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тал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28400" y="3714840"/>
            <a:ext cx="367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им из важнейших достижений стало внедрение всемирного символа авторского права - © - в ходе организованной ЮНЕСКО в 1952 году конференции, во время которой была принята Всемирная конвенция об авторском пра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c7fc78d7cebefbc0a65d4fc70320655d_full"/>
          <p:cNvPicPr/>
          <p:nvPr/>
        </p:nvPicPr>
        <p:blipFill>
          <a:blip r:embed="rId1"/>
          <a:stretch/>
        </p:blipFill>
        <p:spPr>
          <a:xfrm>
            <a:off x="1143000" y="121428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-36360" y="476280"/>
            <a:ext cx="86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Monotype Corsiva"/>
              </a:rPr>
              <a:t>Всемирный символ авторского п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img33"/>
          <p:cNvPicPr/>
          <p:nvPr/>
        </p:nvPicPr>
        <p:blipFill>
          <a:blip r:embed="rId2"/>
          <a:stretch/>
        </p:blipFill>
        <p:spPr>
          <a:xfrm>
            <a:off x="4859280" y="2205000"/>
            <a:ext cx="2737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bb6e89b9f26443bf817b50c7cdc52e6c"/>
          <p:cNvPicPr/>
          <p:nvPr/>
        </p:nvPicPr>
        <p:blipFill>
          <a:blip r:embed="rId1"/>
          <a:stretch/>
        </p:blipFill>
        <p:spPr>
          <a:xfrm>
            <a:off x="2071800" y="1214280"/>
            <a:ext cx="4668840" cy="4186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571840" y="5500800"/>
            <a:ext cx="392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. Сим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ьяновс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роману Гончарова "Обломов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214280" y="500040"/>
            <a:ext cx="62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и книге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OgAAAAfvHXjiGKJZ2za5Cvg-zz8tq_2n8QQggyFHbacEAKGnYI0nvFxa3_HzOMmFBLfbKTQfv7B2UF8OSkCeu5cJrDcA15jOjJFGkuKe04I4hyCLp2EsGT7Ds1Oj"/>
          <p:cNvPicPr/>
          <p:nvPr/>
        </p:nvPicPr>
        <p:blipFill>
          <a:blip r:embed="rId1"/>
          <a:stretch/>
        </p:blipFill>
        <p:spPr>
          <a:xfrm>
            <a:off x="1285920" y="1500120"/>
            <a:ext cx="5757840" cy="4784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071720" y="57168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. Санкт -Петербург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на Университетской набереж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285840" y="5286240"/>
            <a:ext cx="757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ти метровый монумент представляет собой стопку из 17 книг с изображением на корешках фамилий ведущих немецких писателей, философов, ученых. Памятник был открыт 21 апреля 2006 года к чемпионату мира по футб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928800" y="35712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лице Германии увековечили одно из величайших изобретений человечества – книгопечат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s://knigovka.ucoz.com/berlin-book.jpg"/>
          <p:cNvPicPr/>
          <p:nvPr/>
        </p:nvPicPr>
        <p:blipFill>
          <a:blip r:embed="rId1"/>
          <a:stretch/>
        </p:blipFill>
        <p:spPr>
          <a:xfrm>
            <a:off x="2690640" y="1143000"/>
            <a:ext cx="3381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OgAAALVyZpq8yAd03-pYPvbcSaVJIxLBqMaIq3ash6otTTd9xSGk-ThGNydsEZ_7OBJKBDqSHOlqCOvF_B1Zza15oGEA15jOjJmenrRhxEj1lbT3TH6YM50yGHPn"/>
          <p:cNvPicPr/>
          <p:nvPr/>
        </p:nvPicPr>
        <p:blipFill>
          <a:blip r:embed="rId1"/>
          <a:stretch/>
        </p:blipFill>
        <p:spPr>
          <a:xfrm>
            <a:off x="2428920" y="785880"/>
            <a:ext cx="4213080" cy="4514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714240" y="357120"/>
            <a:ext cx="700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Э. Шарджа, памятник Коран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285920" y="53499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 площади города установлен единственный в своем роде памятник, изображающий 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тую книгу с тускло мерцающей золотой арабской вяз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35:23Z</dcterms:created>
  <dc:creator>books</dc:creator>
  <dc:description/>
  <dc:language>en-US</dc:language>
  <cp:lastModifiedBy>Atom</cp:lastModifiedBy>
  <dcterms:modified xsi:type="dcterms:W3CDTF">2022-04-12T11:11:23Z</dcterms:modified>
  <cp:revision>26</cp:revision>
  <dc:subject/>
  <dc:title>Всемирный день книг и авторского права</dc:title>
</cp:coreProperties>
</file>