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818-5006-46F4-89C3-BF790AA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990-D95C-404C-95C1-3EFFF780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FE6-EF17-46FE-8CFA-201CDE8E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982-1F5A-431F-9089-AD6AA387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5F3-C792-4D43-B586-31A3E1F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259-A512-4ED0-9E2A-A2B8454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019-5C51-483A-AEAE-9CF71A0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6B8-F616-4F61-84B2-148A11D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B2A-FB39-4920-A787-42FCF5F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20A-4972-472C-9B90-1F09708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3C1-E6A9-4638-B06B-02D0C2AB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397-2F0B-4A80-9AE3-E4B938C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FBC8-412D-4AC8-8262-9530DDF0D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Паша\Desktop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835280" y="260280"/>
            <a:ext cx="7129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Задание №3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4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102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8"/>
          <p:cNvSpPr/>
          <p:nvPr/>
        </p:nvSpPr>
        <p:spPr>
          <a:xfrm>
            <a:off x="2124000" y="243792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</a:rPr>
              <a:t>Опираясь на первый раздел «Живые организмы населяющие Мировой океан», используя карточку №3  сравните живые организмы населяющие океан, выделите 1 общий и 1отличительный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7308720" y="587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1 бал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835280" y="260280"/>
            <a:ext cx="71294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П.21стр.106 вопросы (уст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Составьте 4 вопроса суждения используя карточку №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7"/>
          <p:cNvGrpSpPr/>
          <p:nvPr/>
        </p:nvGrpSpPr>
        <p:grpSpPr>
          <a:xfrm>
            <a:off x="1763640" y="1989000"/>
            <a:ext cx="7380360" cy="855720"/>
            <a:chOff x="1763640" y="1989000"/>
            <a:chExt cx="7380360" cy="85572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1763640" y="2419920"/>
              <a:ext cx="73195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"/>
            <p:cNvPicPr/>
            <p:nvPr/>
          </p:nvPicPr>
          <p:blipFill>
            <a:blip r:embed="rId2"/>
            <a:stretch/>
          </p:blipFill>
          <p:spPr>
            <a:xfrm>
              <a:off x="1763640" y="2575440"/>
              <a:ext cx="7380360" cy="1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7099560" y="1989000"/>
              <a:ext cx="194688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Заголовок 1"/>
          <p:cNvSpPr/>
          <p:nvPr/>
        </p:nvSpPr>
        <p:spPr>
          <a:xfrm>
            <a:off x="1116000" y="765000"/>
            <a:ext cx="719784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Bookman Old Style"/>
              </a:rPr>
              <a:t>Посчитайте баллы и оцените свой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1\Desktop\0_7f858_88159389_XL.png"/>
          <p:cNvPicPr/>
          <p:nvPr/>
        </p:nvPicPr>
        <p:blipFill>
          <a:blip r:embed="rId4"/>
          <a:stretch/>
        </p:blipFill>
        <p:spPr>
          <a:xfrm>
            <a:off x="6005520" y="3645000"/>
            <a:ext cx="31384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Продолжите фраз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 Antiqua"/>
              </a:rPr>
              <a:t>Сегодня на уроке я узнал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 Antiqua"/>
              </a:rPr>
              <a:t>Сегодня на уроке мне стало понятно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 Antiqua"/>
              </a:rPr>
              <a:t>Сегодня на уроке я испытывал трусости ……, потому что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463680" y="2773440"/>
            <a:ext cx="11635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2408400" y="1841400"/>
            <a:ext cx="5267160" cy="432756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2"/>
          <a:stretch/>
        </p:blipFill>
        <p:spPr>
          <a:xfrm>
            <a:off x="1279440" y="401760"/>
            <a:ext cx="7669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446200" y="549360"/>
            <a:ext cx="6697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 Black"/>
              </a:rPr>
              <a:t>Заявка на оце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«5» - 17 и бол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«4» - 13-16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«3» - 9-12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Дополнительные бал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ответы на вопросы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дополнение -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возражение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аша\Desktop\slide-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1476360" y="1268280"/>
            <a:ext cx="727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Значение Мирового океана для природы 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050920" y="1628640"/>
            <a:ext cx="68421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 Black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живые организмы населяющие Мировой океан</a:t>
            </a:r>
            <a:r>
              <a:rPr b="1" i="1" lang="ru-RU" sz="3200" spc="-1" strike="noStrike">
                <a:solidFill>
                  <a:srgbClr val="0070c0"/>
                </a:solidFill>
                <a:latin typeface="Bookman Old Styl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Bookman Old Style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как человек использует Мировой океан</a:t>
            </a:r>
            <a:r>
              <a:rPr b="1" i="1" lang="ru-RU" sz="3200" spc="-1" strike="noStrike">
                <a:solidFill>
                  <a:srgbClr val="0070c0"/>
                </a:solidFill>
                <a:latin typeface="Bookman Old Styl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Bookman Old Style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значение Мирового океана</a:t>
            </a:r>
            <a:r>
              <a:rPr b="1" i="1" lang="ru-RU" sz="32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652520" y="6093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1 бал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835280" y="260280"/>
            <a:ext cx="7129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Задание №1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3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Используя  раздел учебника «Кто-кто в океане живёт?» стр.103-104, заполните  логическую схему используя критерии де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49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7"/>
          <p:cNvGrpSpPr/>
          <p:nvPr/>
        </p:nvGrpSpPr>
        <p:grpSpPr>
          <a:xfrm>
            <a:off x="1979640" y="3933720"/>
            <a:ext cx="6768720" cy="2374560"/>
            <a:chOff x="1979640" y="3933720"/>
            <a:chExt cx="6768720" cy="2374560"/>
          </a:xfrm>
        </p:grpSpPr>
        <p:sp>
          <p:nvSpPr>
            <p:cNvPr id="53" name="Rectangle 8"/>
            <p:cNvSpPr/>
            <p:nvPr/>
          </p:nvSpPr>
          <p:spPr>
            <a:xfrm>
              <a:off x="3291840" y="3933720"/>
              <a:ext cx="5318640" cy="50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" name="AutoShape 9"/>
            <p:cNvCxnSpPr/>
            <p:nvPr/>
          </p:nvCxnSpPr>
          <p:spPr>
            <a:xfrm flipH="1">
              <a:off x="3636720" y="4725000"/>
              <a:ext cx="2107440" cy="3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10"/>
            <p:cNvCxnSpPr/>
            <p:nvPr/>
          </p:nvCxnSpPr>
          <p:spPr>
            <a:xfrm>
              <a:off x="5743800" y="4725000"/>
              <a:ext cx="1080" cy="71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11"/>
            <p:cNvCxnSpPr/>
            <p:nvPr/>
          </p:nvCxnSpPr>
          <p:spPr>
            <a:xfrm>
              <a:off x="5744160" y="4725000"/>
              <a:ext cx="1934640" cy="3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Rectangle 12"/>
            <p:cNvSpPr/>
            <p:nvPr/>
          </p:nvSpPr>
          <p:spPr>
            <a:xfrm>
              <a:off x="1979640" y="5437800"/>
              <a:ext cx="217692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4621680" y="5727960"/>
              <a:ext cx="217800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6952680" y="5437800"/>
              <a:ext cx="179568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14"/>
          <p:cNvSpPr/>
          <p:nvPr/>
        </p:nvSpPr>
        <p:spPr>
          <a:xfrm>
            <a:off x="2484360" y="4581360"/>
            <a:ext cx="2448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Условия об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3276720" y="393372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Живые организмы оке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835280" y="260280"/>
            <a:ext cx="7129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Задание №1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3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Используя  раздел учебника «Кто-кто в океане живёт?» стр.103-104, заполните  логическую схему используя критерии 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64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7"/>
          <p:cNvGrpSpPr/>
          <p:nvPr/>
        </p:nvGrpSpPr>
        <p:grpSpPr>
          <a:xfrm>
            <a:off x="1979640" y="3933720"/>
            <a:ext cx="6768720" cy="2374560"/>
            <a:chOff x="1979640" y="3933720"/>
            <a:chExt cx="6768720" cy="2374560"/>
          </a:xfrm>
        </p:grpSpPr>
        <p:sp>
          <p:nvSpPr>
            <p:cNvPr id="68" name="Rectangle 8"/>
            <p:cNvSpPr/>
            <p:nvPr/>
          </p:nvSpPr>
          <p:spPr>
            <a:xfrm>
              <a:off x="3291840" y="3933720"/>
              <a:ext cx="5318640" cy="501120"/>
            </a:xfrm>
            <a:prstGeom prst="rect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08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AutoShape 9"/>
            <p:cNvCxnSpPr/>
            <p:nvPr/>
          </p:nvCxnSpPr>
          <p:spPr>
            <a:xfrm flipH="1">
              <a:off x="3636720" y="4725000"/>
              <a:ext cx="2107440" cy="3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AutoShape 10"/>
            <p:cNvCxnSpPr/>
            <p:nvPr/>
          </p:nvCxnSpPr>
          <p:spPr>
            <a:xfrm>
              <a:off x="5743800" y="4725000"/>
              <a:ext cx="1080" cy="71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AutoShape 11"/>
            <p:cNvCxnSpPr/>
            <p:nvPr/>
          </p:nvCxnSpPr>
          <p:spPr>
            <a:xfrm>
              <a:off x="5744160" y="4725000"/>
              <a:ext cx="1934640" cy="3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" name="Rectangle 12"/>
            <p:cNvSpPr/>
            <p:nvPr/>
          </p:nvSpPr>
          <p:spPr>
            <a:xfrm>
              <a:off x="1979640" y="5437800"/>
              <a:ext cx="217692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4621680" y="5727960"/>
              <a:ext cx="217800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6952680" y="5437800"/>
              <a:ext cx="1795680" cy="58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Прямоугольник 14"/>
          <p:cNvSpPr/>
          <p:nvPr/>
        </p:nvSpPr>
        <p:spPr>
          <a:xfrm>
            <a:off x="2484360" y="4581360"/>
            <a:ext cx="2448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Условия об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3276720" y="393372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Живые организмы оке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Прямоугольник 16"/>
          <p:cNvGrpSpPr/>
          <p:nvPr/>
        </p:nvGrpSpPr>
        <p:grpSpPr>
          <a:xfrm>
            <a:off x="1925640" y="5187960"/>
            <a:ext cx="2341440" cy="1268280"/>
            <a:chOff x="1925640" y="5187960"/>
            <a:chExt cx="2341440" cy="1268280"/>
          </a:xfrm>
        </p:grpSpPr>
        <p:pic>
          <p:nvPicPr>
            <p:cNvPr id="78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1925640" y="5187960"/>
              <a:ext cx="23414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979640" y="5300640"/>
              <a:ext cx="22320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 толще океана не способные к активному перемещени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7"/>
          <p:cNvGrpSpPr/>
          <p:nvPr/>
        </p:nvGrpSpPr>
        <p:grpSpPr>
          <a:xfrm>
            <a:off x="4498920" y="5479920"/>
            <a:ext cx="2419560" cy="1189080"/>
            <a:chOff x="4498920" y="5479920"/>
            <a:chExt cx="2419560" cy="1189080"/>
          </a:xfrm>
        </p:grpSpPr>
        <p:pic>
          <p:nvPicPr>
            <p:cNvPr id="81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4498920" y="5479920"/>
              <a:ext cx="24195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0" y="5516640"/>
              <a:ext cx="22320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ктивно плавающие организм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8"/>
          <p:cNvGrpSpPr/>
          <p:nvPr/>
        </p:nvGrpSpPr>
        <p:grpSpPr>
          <a:xfrm>
            <a:off x="6858000" y="5267160"/>
            <a:ext cx="2230560" cy="1189080"/>
            <a:chOff x="6858000" y="5267160"/>
            <a:chExt cx="2230560" cy="1189080"/>
          </a:xfrm>
        </p:grpSpPr>
        <p:pic>
          <p:nvPicPr>
            <p:cNvPr id="84" name="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6858000" y="5267160"/>
              <a:ext cx="22305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912000" y="5300640"/>
              <a:ext cx="21240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рганизмы живущие на дне океан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19"/>
          <p:cNvSpPr/>
          <p:nvPr/>
        </p:nvSpPr>
        <p:spPr>
          <a:xfrm>
            <a:off x="7797240" y="63817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1 бал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835280" y="260280"/>
            <a:ext cx="712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Задание №2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7 б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Работая с текстом учебника стр. 104-106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89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2" name=""/>
          <p:cNvGraphicFramePr/>
          <p:nvPr/>
        </p:nvGraphicFramePr>
        <p:xfrm>
          <a:off x="2484360" y="3213000"/>
          <a:ext cx="5616720" cy="252432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420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Значение оке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для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 природе Зем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solidFill>
                      <a:srgbClr val="e7f2e9"/>
                    </a:solidFill>
                  </a:tcPr>
                </a:tc>
              </a:tr>
            </a:tbl>
          </a:graphicData>
        </a:graphic>
      </p:graphicFrame>
      <p:sp>
        <p:nvSpPr>
          <p:cNvPr id="93" name="Прямоугольник 28"/>
          <p:cNvSpPr/>
          <p:nvPr/>
        </p:nvSpPr>
        <p:spPr>
          <a:xfrm>
            <a:off x="730872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1 бал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Группа 7"/>
          <p:cNvGrpSpPr/>
          <p:nvPr/>
        </p:nvGrpSpPr>
        <p:grpSpPr>
          <a:xfrm>
            <a:off x="971640" y="981000"/>
            <a:ext cx="8172360" cy="855720"/>
            <a:chOff x="971640" y="981000"/>
            <a:chExt cx="8172360" cy="855720"/>
          </a:xfrm>
        </p:grpSpPr>
        <p:pic>
          <p:nvPicPr>
            <p:cNvPr id="95" name="Picture 4" descr=""/>
            <p:cNvPicPr/>
            <p:nvPr/>
          </p:nvPicPr>
          <p:blipFill>
            <a:blip r:embed="rId1"/>
            <a:stretch/>
          </p:blipFill>
          <p:spPr>
            <a:xfrm>
              <a:off x="971640" y="1414800"/>
              <a:ext cx="80996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"/>
            <p:cNvPicPr/>
            <p:nvPr/>
          </p:nvPicPr>
          <p:blipFill>
            <a:blip r:embed="rId2"/>
            <a:stretch/>
          </p:blipFill>
          <p:spPr>
            <a:xfrm>
              <a:off x="971640" y="1565640"/>
              <a:ext cx="81723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"/>
            <p:cNvPicPr/>
            <p:nvPr/>
          </p:nvPicPr>
          <p:blipFill>
            <a:blip r:embed="rId3"/>
            <a:stretch/>
          </p:blipFill>
          <p:spPr>
            <a:xfrm>
              <a:off x="6880320" y="981000"/>
              <a:ext cx="216000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2060640"/>
            <a:ext cx="68518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Book Antiqua"/>
              </a:rPr>
              <a:t>Почему необходимо охранять воды Мирового океа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6"/>
          <p:cNvSpPr/>
          <p:nvPr/>
        </p:nvSpPr>
        <p:spPr>
          <a:xfrm>
            <a:off x="7308720" y="587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1 бал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аша</cp:lastModifiedBy>
  <dcterms:modified xsi:type="dcterms:W3CDTF">2022-04-12T13:51:00Z</dcterms:modified>
  <cp:revision>119</cp:revision>
  <dc:subject/>
  <dc:title>Шаблон презентации</dc:title>
</cp:coreProperties>
</file>