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0B0-3C2C-43B1-8F18-8BAD347E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32D-1F5D-45CF-A119-8D157595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2B9-54C9-487C-9EAF-889B765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A64-B9A3-4BD6-8473-B657C731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8F7-50C6-471E-A7A9-A675562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2C5-381F-4B59-9A9F-FE1F842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6E2-3AEB-46BA-B3F5-C2541E8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74E-E825-4CBB-AB5C-D1DE2D7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E46-D03F-4F78-8567-C6014B11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04C-53BC-44B5-B062-42C7F379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E95-D286-4E2D-97CE-F156A75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A60-8114-455B-B8A7-C1B4032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69A1-4445-4D03-9D8D-1B83D1F75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s://ic.pics.livejournal.com/wond_world/71098938/561160/561160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936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, потому что Солнце очень и очень горячее. Если приблизиться к нему слишком близко, то можно вообще сгоре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s://thespaceway.info/wp-content/uploads/2021/03/d37b9357-d55d-407e-86bc-7ba63e48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ttps://i.pinimg.com/originals/5c/d9/cc/5cd9cc9fb0d33fa42168da3b037d82e0.jpg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024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космонавты увидели в космосе планеты, которые вращались вокруг Солн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s://eus-www.sway-cdn.com/s/1SzMjX5U7mYWcFL1/images/_PvQbtAZGRNUVM?quality=1920&amp;allowAnimation=true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та - это небесный шар, состоящий из сверкающего ледяного камня, газа и пыл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е есть хвост - светящийся шлей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s://i.ytimg.com/vi/rH76hm6QAlk/maxresdefault.jpg"/>
          <p:cNvPicPr/>
          <p:nvPr/>
        </p:nvPicPr>
        <p:blipFill>
          <a:blip r:embed="rId1"/>
          <a:stretch/>
        </p:blipFill>
        <p:spPr>
          <a:xfrm>
            <a:off x="3240" y="64440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колько интересного космонавты могут увидеть в космосе! Теперь обо всем этом знаешь и в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s://cdn.gdz4you.com/files/slides/010/965c5623ce82e551fb991fe73859fadc.jpeg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этого мальчика – он с интересом смотрит на ночное небо! Там столько красивых звез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и с самых давних времен любили смотреть на звезды и им было очень интересно - какие же они на самом дел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s://avatars.mds.yandex.net/get-zen_doc/1860870/pub_5cd9928a6a662500ae49d90f_5cd992c60092d700b8989bdd/scale_1200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0160"/>
            <a:ext cx="8785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решили полететь в космос! К звездам! Для полета построили космическую ракету. В ракету посадили космонавта - именно он должен был управлять ракетой и лететь к звезд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s10.stc.all.kpcdn.net/share/i/12/10652393/inx960x640.jpg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ело в том, что в космосе очень и очень холодно. Если выйти в космос без специального костюма - можно моментально замерзнуть и превратиться в ледышку. Кроме того -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- в скафандре человек может дышать - он снабжает человека воздух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https://www.vokrugsveta.ru/img/bx/medialibrary/7a1/7a1382d3bd4ead01f85c08cc583d88ce.jpg"/>
          <p:cNvPicPr/>
          <p:nvPr/>
        </p:nvPicPr>
        <p:blipFill>
          <a:blip r:embed="rId1"/>
          <a:stretch/>
        </p:blipFill>
        <p:spPr>
          <a:xfrm>
            <a:off x="324000" y="1052640"/>
            <a:ext cx="3168360" cy="568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s://cdn.ananasposter.ru/image/cache/catalog/poster/art/81/14590-1000x830.jpg"/>
          <p:cNvPicPr/>
          <p:nvPr/>
        </p:nvPicPr>
        <p:blipFill>
          <a:blip r:embed="rId2"/>
          <a:stretch/>
        </p:blipFill>
        <p:spPr>
          <a:xfrm>
            <a:off x="3206880" y="1700280"/>
            <a:ext cx="58514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первым космонавтом, который полетел в космос, был Юрий Гагар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https://i.mycdn.me/i?r=AzEPZsRbOZEKgBhR0XGMT1Rks9KsOFynxytpVO4VSxF7haaKTM5SRkZCeTgDn6uOyic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https://gdb.rferl.org/2B057BDC-1CEA-42F1-A7CF-BB224C761925_w974_n_s.jpg"/>
          <p:cNvPicPr/>
          <p:nvPr/>
        </p:nvPicPr>
        <p:blipFill>
          <a:blip r:embed="rId1"/>
          <a:stretch/>
        </p:blipFill>
        <p:spPr>
          <a:xfrm>
            <a:off x="4422600" y="3887640"/>
            <a:ext cx="464508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ttps://astrakhan.su/wp-content/uploads/2021/04/gagarin_rian_00552164_b.jpg"/>
          <p:cNvPicPr/>
          <p:nvPr/>
        </p:nvPicPr>
        <p:blipFill>
          <a:blip r:embed="rId2"/>
          <a:stretch/>
        </p:blipFill>
        <p:spPr>
          <a:xfrm>
            <a:off x="4417920" y="504720"/>
            <a:ext cx="4649760" cy="328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s://gazeta-delovoy-mir.ru/wp-content/uploads/2021/04/684.jpg"/>
          <p:cNvPicPr/>
          <p:nvPr/>
        </p:nvPicPr>
        <p:blipFill>
          <a:blip r:embed="rId3"/>
          <a:stretch/>
        </p:blipFill>
        <p:spPr>
          <a:xfrm>
            <a:off x="179280" y="765000"/>
            <a:ext cx="40737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днималась  все выше и выше! Посмотри! Она уже выше облаков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https://ic.pics.livejournal.com/masterok/50816465/7898120/7898120_original.jpg"/>
          <p:cNvPicPr/>
          <p:nvPr/>
        </p:nvPicPr>
        <p:blipFill>
          <a:blip r:embed="rId1"/>
          <a:stretch/>
        </p:blipFill>
        <p:spPr>
          <a:xfrm>
            <a:off x="4572000" y="692280"/>
            <a:ext cx="4464000" cy="606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s://kartinkin.net/uploads/posts/2021-03/1616113661_62-p-raketa-krasivie-foto-65.jpg"/>
          <p:cNvPicPr/>
          <p:nvPr/>
        </p:nvPicPr>
        <p:blipFill>
          <a:blip r:embed="rId2"/>
          <a:stretch/>
        </p:blipFill>
        <p:spPr>
          <a:xfrm>
            <a:off x="108000" y="4005360"/>
            <a:ext cx="440064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s://freski-fotooboi.ru/images/catalog/6834563.jpg"/>
          <p:cNvPicPr/>
          <p:nvPr/>
        </p:nvPicPr>
        <p:blipFill>
          <a:blip r:embed="rId3"/>
          <a:stretch/>
        </p:blipFill>
        <p:spPr>
          <a:xfrm>
            <a:off x="85680" y="692280"/>
            <a:ext cx="442296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- наша планета Земля, на которой мы живем. Как видите - она круглая, похожа на большой мяч. Наша планета - очень и очень большая. Поэтому мы не замечаем, что она похожа на шар. Но если подняться над землей высоко-высоко, то из космоса мы ее увидим такой, как на этой картин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http://mobimg.b-cdn.net/v3/fetch/64/64233dfa54955db51332da453786aa8d.jpeg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44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синие пятна на нашей планете-это вода - моря и океаны. Зеленые пятнышки - это зеленые леса и луга. Коричневые пятна - это горы. Правда она очень красивая, наша планета? А этот небольшой шарик в уголке – это наша Луна! Луна из космоса тоже видна как шар. Луна намного меньше нашей планеты Зем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s://a-static.besthdwallpaper.com/v-prostranstve-zemlya-i-luna-oboi-1440x900-1232_4.jpg"/>
          <p:cNvPicPr/>
          <p:nvPr/>
        </p:nvPicPr>
        <p:blipFill>
          <a:blip r:embed="rId1"/>
          <a:stretch/>
        </p:blipFill>
        <p:spPr>
          <a:xfrm>
            <a:off x="-1440" y="689040"/>
            <a:ext cx="914400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ВИКТОРИЯ ТРОФИМОВА</cp:lastModifiedBy>
  <dcterms:modified xsi:type="dcterms:W3CDTF">2022-04-11T11:40:58Z</dcterms:modified>
  <cp:revision>33</cp:revision>
  <dc:subject/>
  <dc:title>Слайд 1</dc:title>
</cp:coreProperties>
</file>