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png" ContentType="image/png"/>
  <Override PartName="/ppt/media/image24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8.png" ContentType="image/png"/>
  <Override PartName="/ppt/media/image13.png" ContentType="image/png"/>
  <Override PartName="/ppt/media/image28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.wmf" ContentType="image/x-wmf"/>
  <Override PartName="/ppt/media/image23.jpeg" ContentType="image/jpeg"/>
  <Override PartName="/ppt/media/image12.png" ContentType="image/png"/>
  <Override PartName="/ppt/media/image10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rcRect l="0" t="4850" r="92049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500120" y="21420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Структурное подразд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«Детский сад Ромашка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DejaVu San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ГБОУ СОШ (ОЦ) с.  Челно-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285920" y="1928880"/>
            <a:ext cx="757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еализация регионального компонента в программе  «Развитие ре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DejaVu Sans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DejaVu Sans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янкина Ан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286520" cy="3205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41840" y="0"/>
            <a:ext cx="4300560" cy="32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14200" y="3678120"/>
            <a:ext cx="3929040" cy="293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643280" y="3500280"/>
            <a:ext cx="23576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6360" y="-268200"/>
            <a:ext cx="2907000" cy="2192400"/>
            <a:chOff x="36360" y="-268200"/>
            <a:chExt cx="2907000" cy="21924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36360" y="-268200"/>
              <a:ext cx="2907000" cy="21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1260000">
              <a:off x="477360" y="235080"/>
              <a:ext cx="1521000" cy="114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Ц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84440" y="103320"/>
            <a:ext cx="6399360" cy="2760480"/>
            <a:chOff x="2584440" y="103320"/>
            <a:chExt cx="6399360" cy="27604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2584440" y="103320"/>
              <a:ext cx="6399360" cy="27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900520" y="399960"/>
              <a:ext cx="5770440" cy="212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научить ребёнка пользоваться родным языком до поступления в школ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500280" y="2714760"/>
            <a:ext cx="221472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-6480" y="2567160"/>
            <a:ext cx="3438720" cy="350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706840" y="4280040"/>
            <a:ext cx="3584520" cy="2444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851440" y="2852640"/>
            <a:ext cx="3299040" cy="27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57680" y="5419440"/>
            <a:ext cx="30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b91713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86680" y="3430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оспитание звуковой культуры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 rot="8820000">
            <a:off x="2704680" y="3298320"/>
            <a:ext cx="927000" cy="349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433760" y="3970440"/>
            <a:ext cx="34920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 rot="1620000">
            <a:off x="5625720" y="3400560"/>
            <a:ext cx="927000" cy="34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3960" y="35496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формирование слов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442908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формирование грамматического строя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21440" y="4768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развитие связ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1080" y="5199120"/>
            <a:ext cx="26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ознакомление детей с художественной литер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2992320" y="358920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 rot="15900000">
            <a:off x="4967280" y="3601440"/>
            <a:ext cx="1074600" cy="107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48360" y="274680"/>
            <a:ext cx="353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d18f1"/>
                </a:solidFill>
                <a:latin typeface="Times New Roman"/>
              </a:rPr>
              <a:t>В районном краеведческом муз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440" y="115920"/>
            <a:ext cx="4792680" cy="38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2440" y="3462480"/>
            <a:ext cx="4792680" cy="3395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94160" y="1916280"/>
            <a:ext cx="47498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29160" y="142920"/>
            <a:ext cx="3500640" cy="2539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-6480" y="4029120"/>
            <a:ext cx="3872160" cy="283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605040" cy="285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5"/>
          <a:srcRect l="0" t="0" r="0" b="20028"/>
          <a:stretch/>
        </p:blipFill>
        <p:spPr>
          <a:xfrm>
            <a:off x="5857920" y="4230720"/>
            <a:ext cx="3286080" cy="262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143080" y="2214720"/>
            <a:ext cx="4108320" cy="30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92680" cy="364320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29080" y="785880"/>
            <a:ext cx="4467240" cy="33494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85840" y="3638520"/>
            <a:ext cx="4000320" cy="29894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4200" y="142920"/>
            <a:ext cx="7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2920" y="3792600"/>
            <a:ext cx="4286160" cy="294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167360" y="214200"/>
            <a:ext cx="4762440" cy="357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071720" y="214200"/>
            <a:ext cx="2500200" cy="3333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072120" y="3762360"/>
            <a:ext cx="2214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4929480" cy="3214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-23760" y="300024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000840" y="214200"/>
            <a:ext cx="2536560" cy="3381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638600" y="3714840"/>
            <a:ext cx="45054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448164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256440" y="111240"/>
            <a:ext cx="2601720" cy="403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3571920"/>
            <a:ext cx="4152960" cy="311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000680" y="3000240"/>
            <a:ext cx="2786040" cy="3714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929280" y="4857840"/>
            <a:ext cx="192888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ЗА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Admin</cp:lastModifiedBy>
  <dcterms:modified xsi:type="dcterms:W3CDTF">2022-04-12T07:14:00Z</dcterms:modified>
  <cp:revision>1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