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7.gif" ContentType="image/gif"/>
  <Override PartName="/ppt/media/image15.jpeg" ContentType="image/jpeg"/>
  <Override PartName="/ppt/media/image9.gif" ContentType="image/gif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A0E-BA06-4482-A281-4AC69D16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083-E4F0-4FD4-B6B7-7633E505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0B47-1856-4ECE-A472-178904B9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901-C5C1-436E-83A3-BEA79CD8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323C-5E33-4026-9D59-59C79CEE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8A27-0A22-436E-965F-7DB3FF39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984E-8BEF-46DE-8C89-F1E692B8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32C6-FCF4-4656-8247-3F3C33AE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C590-A05C-4FA1-AD26-F380BF37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50F4-897C-4AF6-8E3C-62C5FFA6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3B15-B446-435D-AD47-2865954E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07E-D6C2-4998-835C-F302703C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AB80-7AD9-45F1-B1AB-810E0D70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4FB4-4862-40AB-9425-590BEB68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C0EE-6836-4146-BBDA-9287D862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125C-E653-4BB1-8422-185BDE22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1C69-5BE0-4053-9792-EDA03489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ED0A9-D3A8-44B8-8F57-854C45B9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2AEF9-E17F-4C91-9D39-19254CB9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63C9D-CDD7-4762-9CAB-99C229BB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705D0-BE50-4999-AC57-CC97946D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136CC-54B7-4473-97C0-0F8B7227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447-6832-4433-BE2E-4B0D3B82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87CEA-CE8C-4628-97CF-A3F3BDFD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D9E36-4021-42D9-8BE7-E3E1C374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51984-B0B9-4198-9BD5-0402BD7B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65FF3-B210-4050-826D-A2851ADB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0EED9-2A40-4047-A903-0D668443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DA074-5276-4F55-BCE3-2342BB5C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90BF4-F08A-4394-932F-A28B64FC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BF24D-3991-4FF4-8D38-5057A47C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04C02-5BC6-4CA8-BCC9-CEAE693A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6E4B4-733F-4090-AACE-6F039814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8820-D66C-4456-8764-3CB3C87B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5D4BB-CA30-4DCB-BE86-839CCA78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7B81D-0BC7-4C4C-9C97-7AF89164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D5216-E28B-41F8-9BA6-3015DD31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D4C8A-8A43-48E7-B01C-7F1B60C2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7F64E-A941-4A78-AB6C-623A6F0B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0D255-0466-426E-A9FB-169E6C1A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5B55C-3B8F-491F-8205-BE1DC282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81D3C-DEE6-4959-9E9D-C9A332FE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91919-7605-4DD6-A863-16A235E6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E37-DF99-4BEB-9666-205108A7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78EC-1C7C-4A9A-B599-E334BD64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7E8-D8CF-4171-B895-3DBE21C8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95B-26E0-4E2A-B137-FED40DD0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F58-517C-44F5-9248-55B895E3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5638"/>
            </a:gs>
            <a:gs pos="100000">
              <a:srgbClr val="073458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12142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84CF4-6C76-4A8D-80D2-F16506686347}" type="slidenum">
              <a:rPr b="0" lang="ru-RU" sz="2800" spc="-1" strike="noStrike">
                <a:solidFill>
                  <a:srgbClr val="12142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5638"/>
            </a:gs>
            <a:gs pos="100000">
              <a:srgbClr val="073458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12142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2E2AD-EC74-4EBA-A4BB-C9F4B0571816}" type="slidenum">
              <a:rPr b="0" lang="ru-RU" sz="2800" spc="-1" strike="noStrike">
                <a:solidFill>
                  <a:srgbClr val="12142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5638"/>
            </a:gs>
            <a:gs pos="100000">
              <a:srgbClr val="073458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12142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AF2ED-E08E-4BE4-BE2F-FE4D90DFFDE2}" type="slidenum">
              <a:rPr b="0" lang="ru-RU" sz="2800" spc="-1" strike="noStrike">
                <a:solidFill>
                  <a:srgbClr val="12142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5638"/>
            </a:gs>
            <a:gs pos="100000">
              <a:srgbClr val="073458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2142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12142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61CFD-A327-4775-B1C0-8CDFCAB6371C}" type="slidenum">
              <a:rPr b="0" lang="ru-RU" sz="2800" spc="-1" strike="noStrike">
                <a:solidFill>
                  <a:srgbClr val="12142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" Target="slide3.xml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1908000" y="1557360"/>
            <a:ext cx="5688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яз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ных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тематиков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lern[1]"/>
          <p:cNvPicPr/>
          <p:nvPr/>
        </p:nvPicPr>
        <p:blipFill>
          <a:blip r:embed="rId2"/>
          <a:stretch/>
        </p:blipFill>
        <p:spPr>
          <a:xfrm>
            <a:off x="7236000" y="189000"/>
            <a:ext cx="1618920" cy="1619280"/>
          </a:xfrm>
          <a:prstGeom prst="rect">
            <a:avLst/>
          </a:prstGeom>
          <a:ln w="0">
            <a:noFill/>
          </a:ln>
        </p:spPr>
      </p:pic>
      <p:sp>
        <p:nvSpPr>
          <p:cNvPr id="278" name="WordArt 5"/>
          <p:cNvSpPr txBox="1"/>
          <p:nvPr/>
        </p:nvSpPr>
        <p:spPr>
          <a:xfrm>
            <a:off x="1116000" y="692280"/>
            <a:ext cx="518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57240">
                  <a:solidFill>
                    <a:srgbClr val="cc33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+mn-lt"/>
              </a:rPr>
              <a:t>Шифровка</a:t>
            </a:r>
            <a:endParaRPr b="0" lang="en-US" sz="1800" spc="1" strike="noStrike">
              <a:ln w="57240">
                <a:solidFill>
                  <a:srgbClr val="cc33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3419640" y="27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Треугольник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363528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Сумм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3419640" y="501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Слагаемо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3419640" y="61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Отрезок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WordArt 19"/>
          <p:cNvSpPr txBox="1"/>
          <p:nvPr/>
        </p:nvSpPr>
        <p:spPr>
          <a:xfrm>
            <a:off x="1835280" y="1844640"/>
            <a:ext cx="523548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28440">
                  <a:solidFill>
                    <a:srgbClr val="a50021"/>
                  </a:solidFill>
                  <a:miter/>
                </a:ln>
                <a:solidFill>
                  <a:srgbClr val="ffffff"/>
                </a:solidFill>
                <a:latin typeface="+mn-lt"/>
              </a:rPr>
              <a:t>hgтjреtrуjгmnольnbниytкj</a:t>
            </a:r>
            <a:endParaRPr b="0" lang="en-US" sz="1800" spc="1" strike="noStrike">
              <a:ln w="28440">
                <a:solidFill>
                  <a:srgbClr val="a50021"/>
                </a:solidFill>
                <a:miter/>
              </a:ln>
              <a:solidFill>
                <a:srgbClr val="ffffff"/>
              </a:solidFill>
              <a:latin typeface="+mn-lt"/>
              <a:ea typeface="+mn-lt"/>
            </a:endParaRPr>
          </a:p>
        </p:txBody>
      </p:sp>
      <p:sp>
        <p:nvSpPr>
          <p:cNvPr id="284" name="WordArt 20"/>
          <p:cNvSpPr txBox="1"/>
          <p:nvPr/>
        </p:nvSpPr>
        <p:spPr>
          <a:xfrm>
            <a:off x="2252520" y="3170160"/>
            <a:ext cx="4638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+mn-lt"/>
              </a:rPr>
              <a:t>cevуvfkмjklмfjshkjаguh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+mn-lt"/>
              <a:ea typeface="+mn-lt"/>
            </a:endParaRPr>
          </a:p>
        </p:txBody>
      </p:sp>
      <p:sp>
        <p:nvSpPr>
          <p:cNvPr id="285" name="WordArt 21"/>
          <p:cNvSpPr txBox="1"/>
          <p:nvPr/>
        </p:nvSpPr>
        <p:spPr>
          <a:xfrm>
            <a:off x="2411280" y="4437000"/>
            <a:ext cx="4353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cc3399"/>
                  </a:solidFill>
                  <a:miter/>
                </a:ln>
                <a:solidFill>
                  <a:srgbClr val="ffffff"/>
                </a:solidFill>
                <a:latin typeface="+mn-lt"/>
              </a:rPr>
              <a:t>gfслjhагkjаеlkмlkоgfе</a:t>
            </a:r>
            <a:endParaRPr b="0" lang="en-US" sz="1800" spc="1" strike="noStrike">
              <a:ln w="19080">
                <a:solidFill>
                  <a:srgbClr val="cc3399"/>
                </a:solidFill>
                <a:miter/>
              </a:ln>
              <a:solidFill>
                <a:srgbClr val="ffffff"/>
              </a:solidFill>
              <a:latin typeface="+mn-lt"/>
              <a:ea typeface="+mn-lt"/>
            </a:endParaRPr>
          </a:p>
        </p:txBody>
      </p:sp>
      <p:sp>
        <p:nvSpPr>
          <p:cNvPr id="286" name="WordArt 22"/>
          <p:cNvSpPr txBox="1"/>
          <p:nvPr/>
        </p:nvSpPr>
        <p:spPr>
          <a:xfrm>
            <a:off x="1979640" y="5516640"/>
            <a:ext cx="533412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ffff"/>
                </a:solidFill>
                <a:latin typeface="+mn-lt"/>
              </a:rPr>
              <a:t>jnоnтkfjреrgзpkоlmmbкmv</a:t>
            </a:r>
            <a:endParaRPr b="0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ffff"/>
              </a:solidFill>
              <a:latin typeface="+mn-lt"/>
              <a:ea typeface="+mn-lt"/>
            </a:endParaRPr>
          </a:p>
        </p:txBody>
      </p:sp>
      <p:sp>
        <p:nvSpPr>
          <p:cNvPr id="287" name="AutoShape 23">
            <a:hlinkClick r:id="rId3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AutoShape 24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4"/>
          <p:cNvSpPr txBox="1"/>
          <p:nvPr/>
        </p:nvSpPr>
        <p:spPr>
          <a:xfrm>
            <a:off x="2484360" y="333360"/>
            <a:ext cx="446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омер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0" name="Picture 8" descr="img019"/>
          <p:cNvPicPr/>
          <p:nvPr/>
        </p:nvPicPr>
        <p:blipFill>
          <a:blip r:embed="rId1"/>
          <a:stretch/>
        </p:blipFill>
        <p:spPr>
          <a:xfrm>
            <a:off x="511200" y="1197000"/>
            <a:ext cx="3844800" cy="542448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  <p:pic>
        <p:nvPicPr>
          <p:cNvPr id="291" name="Picture 9" descr="img022"/>
          <p:cNvPicPr/>
          <p:nvPr/>
        </p:nvPicPr>
        <p:blipFill>
          <a:blip r:embed="rId2"/>
          <a:stretch/>
        </p:blipFill>
        <p:spPr>
          <a:xfrm>
            <a:off x="4788000" y="1197000"/>
            <a:ext cx="3902040" cy="54007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292" name="AutoShape 10">
            <a:hlinkClick r:id="rId3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AutoShape 11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WordArt 2"/>
          <p:cNvSpPr txBox="1"/>
          <p:nvPr/>
        </p:nvSpPr>
        <p:spPr>
          <a:xfrm>
            <a:off x="2484360" y="333360"/>
            <a:ext cx="446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омер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5" name="Picture 5" descr="img021"/>
          <p:cNvPicPr/>
          <p:nvPr/>
        </p:nvPicPr>
        <p:blipFill>
          <a:blip r:embed="rId1"/>
          <a:stretch/>
        </p:blipFill>
        <p:spPr>
          <a:xfrm>
            <a:off x="250920" y="1341360"/>
            <a:ext cx="4240080" cy="4969080"/>
          </a:xfrm>
          <a:prstGeom prst="rect">
            <a:avLst/>
          </a:prstGeom>
          <a:ln w="57240">
            <a:solidFill>
              <a:srgbClr val="ff66ff"/>
            </a:solidFill>
            <a:miter/>
          </a:ln>
        </p:spPr>
      </p:pic>
      <p:pic>
        <p:nvPicPr>
          <p:cNvPr id="296" name="Picture 6" descr="img023"/>
          <p:cNvPicPr/>
          <p:nvPr/>
        </p:nvPicPr>
        <p:blipFill>
          <a:blip r:embed="rId2"/>
          <a:stretch/>
        </p:blipFill>
        <p:spPr>
          <a:xfrm>
            <a:off x="4716360" y="1341360"/>
            <a:ext cx="4154760" cy="4967280"/>
          </a:xfrm>
          <a:prstGeom prst="rect">
            <a:avLst/>
          </a:prstGeom>
          <a:ln w="57240">
            <a:solidFill>
              <a:srgbClr val="ff66ff"/>
            </a:solidFill>
            <a:miter/>
          </a:ln>
        </p:spPr>
      </p:pic>
      <p:sp>
        <p:nvSpPr>
          <p:cNvPr id="297" name="AutoShape 8"/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AutoShape 9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WordArt 2"/>
          <p:cNvSpPr txBox="1"/>
          <p:nvPr/>
        </p:nvSpPr>
        <p:spPr>
          <a:xfrm>
            <a:off x="2484360" y="333360"/>
            <a:ext cx="446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омер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0" name="Picture 3" descr="Копия img015"/>
          <p:cNvPicPr/>
          <p:nvPr/>
        </p:nvPicPr>
        <p:blipFill>
          <a:blip r:embed="rId1"/>
          <a:stretch/>
        </p:blipFill>
        <p:spPr>
          <a:xfrm>
            <a:off x="324000" y="1773360"/>
            <a:ext cx="3924000" cy="443232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  <p:pic>
        <p:nvPicPr>
          <p:cNvPr id="301" name="Picture 4" descr="img017"/>
          <p:cNvPicPr/>
          <p:nvPr/>
        </p:nvPicPr>
        <p:blipFill>
          <a:blip r:embed="rId2"/>
          <a:stretch/>
        </p:blipFill>
        <p:spPr>
          <a:xfrm>
            <a:off x="4500720" y="1773360"/>
            <a:ext cx="4243320" cy="439236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  <p:sp>
        <p:nvSpPr>
          <p:cNvPr id="302" name="AutoShape 5"/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AutoShape 6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77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4" dur="770" fill="hold"/>
                                        <p:tgtEl>
                                          <p:spTgt spid="3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2"/>
          <p:cNvSpPr txBox="1"/>
          <p:nvPr/>
        </p:nvSpPr>
        <p:spPr>
          <a:xfrm>
            <a:off x="2484360" y="333360"/>
            <a:ext cx="446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омер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5" name="Picture 3" descr="img016"/>
          <p:cNvPicPr/>
          <p:nvPr/>
        </p:nvPicPr>
        <p:blipFill>
          <a:blip r:embed="rId1"/>
          <a:stretch/>
        </p:blipFill>
        <p:spPr>
          <a:xfrm>
            <a:off x="252360" y="1700280"/>
            <a:ext cx="4103640" cy="475308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306" name="Picture 4" descr="img018"/>
          <p:cNvPicPr/>
          <p:nvPr/>
        </p:nvPicPr>
        <p:blipFill>
          <a:blip r:embed="rId2"/>
          <a:stretch/>
        </p:blipFill>
        <p:spPr>
          <a:xfrm>
            <a:off x="4643280" y="1700280"/>
            <a:ext cx="4249800" cy="468144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sp>
        <p:nvSpPr>
          <p:cNvPr id="307" name="AutoShape 5"/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AutoShape 6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13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200" spc="-1" strike="noStrike">
                <a:solidFill>
                  <a:srgbClr val="a50021"/>
                </a:solidFill>
                <a:latin typeface="Century Gothic"/>
              </a:rPr>
              <a:t>Мат</a:t>
            </a:r>
            <a:r>
              <a:rPr b="0" lang="ru-RU" sz="5700" spc="-1" strike="noStrike">
                <a:solidFill>
                  <a:srgbClr val="ff5050"/>
                </a:solidFill>
                <a:latin typeface="Century Gothic"/>
              </a:rPr>
              <a:t>*</a:t>
            </a:r>
            <a:r>
              <a:rPr b="0" lang="ru-RU" sz="5200" spc="-1" strike="noStrike">
                <a:solidFill>
                  <a:srgbClr val="a50021"/>
                </a:solidFill>
                <a:latin typeface="Century Gothic"/>
              </a:rPr>
              <a:t>мат</a:t>
            </a:r>
            <a:r>
              <a:rPr b="0" lang="ru-RU" sz="5700" spc="-1" strike="noStrike">
                <a:solidFill>
                  <a:srgbClr val="ff5050"/>
                </a:solidFill>
                <a:latin typeface="Century Gothic"/>
              </a:rPr>
              <a:t>*</a:t>
            </a:r>
            <a:r>
              <a:rPr b="0" lang="ru-RU" sz="5200" spc="-1" strike="noStrike">
                <a:solidFill>
                  <a:srgbClr val="a50021"/>
                </a:solidFill>
                <a:latin typeface="Century Gothic"/>
              </a:rPr>
              <a:t>ка</a:t>
            </a:r>
            <a:endParaRPr b="0" lang="en-US" sz="52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3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200" spc="-1" strike="noStrike">
                <a:solidFill>
                  <a:srgbClr val="a50021"/>
                </a:solidFill>
                <a:latin typeface="Century Gothic"/>
              </a:rPr>
              <a:t>11</a:t>
            </a:r>
            <a:endParaRPr b="0" lang="en-US" sz="52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3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200" spc="-1" strike="noStrike">
                <a:solidFill>
                  <a:srgbClr val="a50021"/>
                </a:solidFill>
                <a:latin typeface="Century Gothic"/>
              </a:rPr>
              <a:t>П</a:t>
            </a:r>
            <a:r>
              <a:rPr b="0" lang="ru-RU" sz="5200" spc="-1" strike="noStrike">
                <a:solidFill>
                  <a:srgbClr val="ff5050"/>
                </a:solidFill>
                <a:latin typeface="Century Gothic"/>
              </a:rPr>
              <a:t>*</a:t>
            </a:r>
            <a:r>
              <a:rPr b="0" lang="ru-RU" sz="5200" spc="-1" strike="noStrike">
                <a:solidFill>
                  <a:srgbClr val="a50021"/>
                </a:solidFill>
                <a:latin typeface="Century Gothic"/>
              </a:rPr>
              <a:t>тёрка</a:t>
            </a:r>
            <a:endParaRPr b="0" lang="en-US" sz="52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3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200" spc="-1" strike="noStrike">
                <a:solidFill>
                  <a:srgbClr val="a50021"/>
                </a:solidFill>
                <a:latin typeface="Century Gothic"/>
              </a:rPr>
              <a:t>Кил</a:t>
            </a:r>
            <a:r>
              <a:rPr b="0" lang="ru-RU" sz="5200" spc="-1" strike="noStrike">
                <a:solidFill>
                  <a:srgbClr val="ff5050"/>
                </a:solidFill>
                <a:latin typeface="Century Gothic"/>
              </a:rPr>
              <a:t>*</a:t>
            </a:r>
            <a:r>
              <a:rPr b="0" lang="ru-RU" sz="5200" spc="-1" strike="noStrike">
                <a:solidFill>
                  <a:srgbClr val="a50021"/>
                </a:solidFill>
                <a:latin typeface="Century Gothic"/>
              </a:rPr>
              <a:t>гра</a:t>
            </a:r>
            <a:r>
              <a:rPr b="0" lang="ru-RU" sz="5200" spc="-1" strike="noStrike">
                <a:solidFill>
                  <a:srgbClr val="ff5050"/>
                </a:solidFill>
                <a:latin typeface="Century Gothic"/>
              </a:rPr>
              <a:t>*</a:t>
            </a:r>
            <a:endParaRPr b="0" lang="en-US" sz="52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10" name="WordArt 4"/>
          <p:cNvSpPr txBox="1"/>
          <p:nvPr/>
        </p:nvSpPr>
        <p:spPr>
          <a:xfrm>
            <a:off x="2268360" y="333360"/>
            <a:ext cx="4967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рамотеи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AutoShape 6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WordArt 4"/>
          <p:cNvSpPr txBox="1"/>
          <p:nvPr/>
        </p:nvSpPr>
        <p:spPr>
          <a:xfrm>
            <a:off x="2268360" y="333360"/>
            <a:ext cx="4967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рамотеи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55640" y="2707920"/>
            <a:ext cx="7702560" cy="3600360"/>
          </a:xfrm>
          <a:prstGeom prst="rect">
            <a:avLst/>
          </a:prstGeom>
          <a:noFill/>
          <a:ln w="57240">
            <a:solidFill>
              <a:srgbClr val="a50021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Мат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Century Gothic"/>
              </a:rPr>
              <a:t>е</a:t>
            </a: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мат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Century Gothic"/>
              </a:rPr>
              <a:t>и</a:t>
            </a: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ка</a:t>
            </a:r>
            <a:endParaRPr b="0" lang="en-US" sz="4400" spc="-1" strike="noStrike">
              <a:solidFill>
                <a:srgbClr val="121429"/>
              </a:solidFill>
              <a:latin typeface="Century Gothic"/>
            </a:endParaRPr>
          </a:p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 u="sng">
                <a:solidFill>
                  <a:srgbClr val="ff3399"/>
                </a:solidFill>
                <a:uFillTx/>
                <a:latin typeface="Century Gothic"/>
              </a:rPr>
              <a:t>О</a:t>
            </a: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ди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Century Gothic"/>
              </a:rPr>
              <a:t>нн</a:t>
            </a: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а</a:t>
            </a:r>
            <a:r>
              <a:rPr b="0" lang="ru-RU" sz="4400" spc="-1" strike="noStrike" u="sng">
                <a:solidFill>
                  <a:srgbClr val="ff00ff"/>
                </a:solidFill>
                <a:uFillTx/>
                <a:latin typeface="Century Gothic"/>
              </a:rPr>
              <a:t>д</a:t>
            </a: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цать</a:t>
            </a:r>
            <a:endParaRPr b="0" lang="en-US" sz="4400" spc="-1" strike="noStrike">
              <a:solidFill>
                <a:srgbClr val="121429"/>
              </a:solidFill>
              <a:latin typeface="Century Gothic"/>
            </a:endParaRPr>
          </a:p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П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Century Gothic"/>
              </a:rPr>
              <a:t>я</a:t>
            </a: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тёрка</a:t>
            </a:r>
            <a:endParaRPr b="0" lang="en-US" sz="4400" spc="-1" strike="noStrike">
              <a:solidFill>
                <a:srgbClr val="121429"/>
              </a:solidFill>
              <a:latin typeface="Century Gothic"/>
            </a:endParaRPr>
          </a:p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К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Century Gothic"/>
              </a:rPr>
              <a:t>и</a:t>
            </a: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л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Century Gothic"/>
              </a:rPr>
              <a:t>о</a:t>
            </a:r>
            <a:r>
              <a:rPr b="0" lang="ru-RU" sz="4400" spc="-1" strike="noStrike">
                <a:solidFill>
                  <a:srgbClr val="cc0000"/>
                </a:solidFill>
                <a:latin typeface="Century Gothic"/>
              </a:rPr>
              <a:t>гра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Century Gothic"/>
              </a:rPr>
              <a:t>мм</a:t>
            </a:r>
            <a:endParaRPr b="0" lang="en-US" sz="44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AutoShape 8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4"/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AutoShape 5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WordArt 6"/>
          <p:cNvSpPr txBox="1"/>
          <p:nvPr/>
        </p:nvSpPr>
        <p:spPr>
          <a:xfrm>
            <a:off x="971640" y="1125360"/>
            <a:ext cx="7200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5724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+mn-lt"/>
              </a:rPr>
              <a:t>- Вот и закончена игра.</a:t>
            </a:r>
            <a:endParaRPr b="0" lang="en-US" sz="1800" spc="1" strike="noStrike">
              <a:ln w="5724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5724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+mn-lt"/>
              </a:rPr>
              <a:t>Итоги подводить пора! </a:t>
            </a:r>
            <a:endParaRPr b="0" lang="en-US" sz="1800" spc="1" strike="noStrike">
              <a:ln w="5724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+mn-lt"/>
              <a:ea typeface="+mn-lt"/>
            </a:endParaRPr>
          </a:p>
        </p:txBody>
      </p:sp>
      <p:sp>
        <p:nvSpPr>
          <p:cNvPr id="320" name="WordArt 9"/>
          <p:cNvSpPr txBox="1"/>
          <p:nvPr/>
        </p:nvSpPr>
        <p:spPr>
          <a:xfrm>
            <a:off x="2124000" y="3429000"/>
            <a:ext cx="4962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+mn-lt"/>
              </a:rPr>
              <a:t>Жюри объявляет итоги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648320" y="1125360"/>
            <a:ext cx="4038480" cy="50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Century Gothic"/>
              </a:rPr>
              <a:t>Тройка лошадей бежала 15 км. Сколько км бежала каждая лошадь?</a:t>
            </a:r>
            <a:endParaRPr b="0" lang="en-US" sz="22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Century Gothic"/>
              </a:rPr>
              <a:t>15 км</a:t>
            </a:r>
            <a:endParaRPr b="0" lang="en-US" sz="22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Century Gothic"/>
              </a:rPr>
              <a:t>Верёвку нужно разрезать на 4 части. Сколько разрезов нужно сделать?</a:t>
            </a:r>
            <a:endParaRPr b="0" lang="en-US" sz="22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Century Gothic"/>
              </a:rPr>
              <a:t>Три </a:t>
            </a:r>
            <a:endParaRPr b="0" lang="en-US" sz="22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Century Gothic"/>
              </a:rPr>
              <a:t>Через 5 лет Коле будет 15 лет. Сколько лет ему было 5 лет назад?</a:t>
            </a:r>
            <a:endParaRPr b="0" lang="en-US" sz="22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Century Gothic"/>
              </a:rPr>
              <a:t>5 лет</a:t>
            </a:r>
            <a:endParaRPr b="0" lang="en-US" sz="22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8000" y="1125360"/>
            <a:ext cx="402732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Century Gothic"/>
              </a:rPr>
              <a:t>У семи братьев по одной сестре. Сколько всего сестёр?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Century Gothic"/>
              </a:rPr>
              <a:t>Одна 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Century Gothic"/>
              </a:rPr>
              <a:t>Три человека ждали поезд 3 часа. Сколько времени ждал каждый?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Century Gothic"/>
              </a:rPr>
              <a:t>3 часа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Century Gothic"/>
              </a:rPr>
              <a:t>Отец и дети сели на велосипеды. У всех велосипедов вместе было 7 колёс. Сколько было 3-колёсных велосипедов?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Century Gothic"/>
              </a:rPr>
              <a:t>Один и 2 двухколёсных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195" name="WordArt 8"/>
          <p:cNvSpPr txBox="1"/>
          <p:nvPr/>
        </p:nvSpPr>
        <p:spPr>
          <a:xfrm>
            <a:off x="2340000" y="189000"/>
            <a:ext cx="4471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96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нимательные задачи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AutoShape 9">
            <a:hlinkClick r:id="rId3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AutoShape 10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5"/>
          <p:cNvSpPr txBox="1"/>
          <p:nvPr/>
        </p:nvSpPr>
        <p:spPr>
          <a:xfrm>
            <a:off x="2124000" y="404640"/>
            <a:ext cx="5010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+mn-lt"/>
              </a:rPr>
              <a:t>Сосчитай треугольник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+mn-lt"/>
              <a:ea typeface="+mn-lt"/>
            </a:endParaRPr>
          </a:p>
        </p:txBody>
      </p:sp>
      <p:grpSp>
        <p:nvGrpSpPr>
          <p:cNvPr id="199" name="Group 18"/>
          <p:cNvGrpSpPr/>
          <p:nvPr/>
        </p:nvGrpSpPr>
        <p:grpSpPr>
          <a:xfrm>
            <a:off x="4066920" y="1989000"/>
            <a:ext cx="4897800" cy="3456000"/>
            <a:chOff x="4066920" y="1989000"/>
            <a:chExt cx="4897800" cy="3456000"/>
          </a:xfrm>
        </p:grpSpPr>
        <p:sp>
          <p:nvSpPr>
            <p:cNvPr id="200" name="Rectangle 6"/>
            <p:cNvSpPr/>
            <p:nvPr/>
          </p:nvSpPr>
          <p:spPr>
            <a:xfrm>
              <a:off x="5219640" y="1989000"/>
              <a:ext cx="2808360" cy="3456000"/>
            </a:xfrm>
            <a:prstGeom prst="rect">
              <a:avLst/>
            </a:prstGeom>
            <a:solidFill>
              <a:srgbClr val="4a66ac"/>
            </a:solidFill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1" name="AutoShape 7"/>
            <p:cNvSpPr/>
            <p:nvPr/>
          </p:nvSpPr>
          <p:spPr>
            <a:xfrm>
              <a:off x="8028000" y="1989000"/>
              <a:ext cx="936720" cy="3456000"/>
            </a:xfrm>
            <a:prstGeom prst="rtTriangle">
              <a:avLst/>
            </a:prstGeom>
            <a:solidFill>
              <a:srgbClr val="4a66ac"/>
            </a:solidFill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2" name="Line 11"/>
            <p:cNvSpPr/>
            <p:nvPr/>
          </p:nvSpPr>
          <p:spPr>
            <a:xfrm flipH="1">
              <a:off x="4066920" y="1989000"/>
              <a:ext cx="1152360" cy="34560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3" name="Line 12"/>
            <p:cNvSpPr/>
            <p:nvPr/>
          </p:nvSpPr>
          <p:spPr>
            <a:xfrm flipH="1">
              <a:off x="4066920" y="5445000"/>
              <a:ext cx="2305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4" name="Line 13"/>
            <p:cNvSpPr/>
            <p:nvPr/>
          </p:nvSpPr>
          <p:spPr>
            <a:xfrm flipH="1">
              <a:off x="5219280" y="1989000"/>
              <a:ext cx="2808360" cy="34560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5" name="Line 14"/>
            <p:cNvSpPr/>
            <p:nvPr/>
          </p:nvSpPr>
          <p:spPr>
            <a:xfrm>
              <a:off x="5219640" y="1989000"/>
              <a:ext cx="2808360" cy="34560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06" name="Text Box 19"/>
          <p:cNvSpPr/>
          <p:nvPr/>
        </p:nvSpPr>
        <p:spPr>
          <a:xfrm>
            <a:off x="611280" y="1268280"/>
            <a:ext cx="3384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нает даже и дошкольник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Что такое треугольник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А уж вам-то как не знать!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о совсем другое дело—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Быстро, точно и умел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Треугольники считать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апример, в фигуре этой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колько  разных? Рассмотри!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сё внимательно исследуй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И по краю, и внутри!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(12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AutoShape 20">
            <a:hlinkClick r:id="rId1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AutoShape 21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AutoShape 22">
            <a:hlinkClick r:id="" action="ppaction://hlinkshowjump?jump=nextslide"/>
          </p:cNvPr>
          <p:cNvSpPr/>
          <p:nvPr/>
        </p:nvSpPr>
        <p:spPr>
          <a:xfrm>
            <a:off x="7524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119" dur="20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entury Gothic"/>
              </a:rPr>
              <a:t>Если все углы прямые</a:t>
            </a:r>
            <a:endParaRPr b="0" lang="en-US" sz="2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entury Gothic"/>
              </a:rPr>
              <a:t>И всего угла четыре.</a:t>
            </a:r>
            <a:endParaRPr b="0" lang="en-US" sz="2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entury Gothic"/>
              </a:rPr>
              <a:t>Ну а по две стороны</a:t>
            </a:r>
            <a:endParaRPr b="0" lang="en-US" sz="2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entury Gothic"/>
              </a:rPr>
              <a:t>Противоположны и равны,</a:t>
            </a:r>
            <a:endParaRPr b="0" lang="en-US" sz="2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entury Gothic"/>
              </a:rPr>
              <a:t>Этот четырехугольник</a:t>
            </a:r>
            <a:endParaRPr b="0" lang="en-US" sz="2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entury Gothic"/>
              </a:rPr>
              <a:t>Назовем …</a:t>
            </a:r>
            <a:endParaRPr b="0" lang="en-US" sz="2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ff3300"/>
                </a:solidFill>
                <a:uFillTx/>
                <a:latin typeface="Century Gothic"/>
              </a:rPr>
              <a:t>прямоугольник.</a:t>
            </a:r>
            <a:endParaRPr b="0" lang="en-US" sz="36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entury Gothic"/>
              </a:rPr>
              <a:t>Сосчитай: сколько 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entury Gothic"/>
              </a:rPr>
              <a:t>здесь прямоугольников?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29dd1"/>
                </a:solidFill>
                <a:latin typeface="Century Gothic"/>
              </a:rPr>
              <a:t>10</a:t>
            </a:r>
            <a:endParaRPr b="0" lang="en-US" sz="3600" spc="-1" strike="noStrike">
              <a:solidFill>
                <a:srgbClr val="121429"/>
              </a:solidFill>
              <a:latin typeface="Century Gothic"/>
            </a:endParaRPr>
          </a:p>
        </p:txBody>
      </p:sp>
      <p:grpSp>
        <p:nvGrpSpPr>
          <p:cNvPr id="211" name="Group 11"/>
          <p:cNvGrpSpPr/>
          <p:nvPr/>
        </p:nvGrpSpPr>
        <p:grpSpPr>
          <a:xfrm>
            <a:off x="5796000" y="907560"/>
            <a:ext cx="3024000" cy="4969440"/>
            <a:chOff x="5796000" y="907560"/>
            <a:chExt cx="3024000" cy="4969440"/>
          </a:xfrm>
        </p:grpSpPr>
        <p:sp>
          <p:nvSpPr>
            <p:cNvPr id="212" name="Rectangle 4"/>
            <p:cNvSpPr/>
            <p:nvPr/>
          </p:nvSpPr>
          <p:spPr>
            <a:xfrm>
              <a:off x="5796000" y="907920"/>
              <a:ext cx="3024000" cy="4969080"/>
            </a:xfrm>
            <a:prstGeom prst="rect">
              <a:avLst/>
            </a:prstGeom>
            <a:solidFill>
              <a:srgbClr val="4a66ac"/>
            </a:solidFill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cxnSp>
          <p:nvCxnSpPr>
            <p:cNvPr id="213" name="AutoShape 5"/>
            <p:cNvCxnSpPr>
              <a:stCxn id="212" idx="0"/>
              <a:endCxn id="212" idx="2"/>
            </p:cNvCxnSpPr>
            <p:nvPr/>
          </p:nvCxnSpPr>
          <p:spPr>
            <a:xfrm>
              <a:off x="7308360" y="907560"/>
              <a:ext cx="1080" cy="4969800"/>
            </a:xfrm>
            <a:prstGeom prst="straightConnector1">
              <a:avLst/>
            </a:prstGeom>
            <a:ln w="57240">
              <a:solidFill>
                <a:srgbClr val="66ffff"/>
              </a:solidFill>
              <a:miter/>
            </a:ln>
          </p:spPr>
        </p:cxnSp>
        <p:sp>
          <p:nvSpPr>
            <p:cNvPr id="214" name="Line 7"/>
            <p:cNvSpPr/>
            <p:nvPr/>
          </p:nvSpPr>
          <p:spPr>
            <a:xfrm>
              <a:off x="8028000" y="907920"/>
              <a:ext cx="0" cy="496908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6516720" y="907920"/>
              <a:ext cx="0" cy="496908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16" name="AutoShape 12">
            <a:hlinkClick r:id="rId1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AutoShape 13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85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385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385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385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Century Gothic"/>
              </a:rPr>
              <a:t>Две дочери, две матери, бабушка и внучка съели три банана. Сколько бананов съела каждая?</a:t>
            </a: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entury Gothic"/>
              </a:rPr>
              <a:t>По одному, т.к. это были бабушка, мать и дочь.</a:t>
            </a: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entury Gothic"/>
              </a:rPr>
              <a:t>Батон и пачка сахара весят больше, чем батон и конфеты. Что весит больше—сахар или конфеты?</a:t>
            </a: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entury Gothic"/>
              </a:rPr>
              <a:t>Сахар </a:t>
            </a: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entury Gothic"/>
              </a:rPr>
              <a:t>На прямой отмечено 5 точек. Сколько получилось отрезков?</a:t>
            </a: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629dd1"/>
                </a:solidFill>
                <a:latin typeface="Century Gothic"/>
              </a:rPr>
              <a:t>6 </a:t>
            </a:r>
            <a:endParaRPr b="0" lang="en-US" sz="20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entury Gothic"/>
              </a:rPr>
              <a:t>Начертите три прямые линии и на каждой отметьте по три точки, но точек при этом должно быть всего 6. Как это сделать?</a:t>
            </a: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1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SzPct val="100000"/>
              <a:buBlip>
                <a:blip r:embed="rId1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1547640" y="260280"/>
            <a:ext cx="58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огические упражнения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20" name="Group 43"/>
          <p:cNvGrpSpPr/>
          <p:nvPr/>
        </p:nvGrpSpPr>
        <p:grpSpPr>
          <a:xfrm>
            <a:off x="1692360" y="3933720"/>
            <a:ext cx="4249800" cy="934560"/>
            <a:chOff x="1692360" y="3933720"/>
            <a:chExt cx="4249800" cy="934560"/>
          </a:xfrm>
        </p:grpSpPr>
        <p:sp>
          <p:nvSpPr>
            <p:cNvPr id="221" name="Line 7"/>
            <p:cNvSpPr/>
            <p:nvPr/>
          </p:nvSpPr>
          <p:spPr>
            <a:xfrm>
              <a:off x="1692360" y="4365360"/>
              <a:ext cx="4249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2" name="AutoShape 8"/>
            <p:cNvSpPr/>
            <p:nvPr/>
          </p:nvSpPr>
          <p:spPr>
            <a:xfrm>
              <a:off x="1836720" y="4292280"/>
              <a:ext cx="144720" cy="142920"/>
            </a:xfrm>
            <a:prstGeom prst="smileyFace">
              <a:avLst>
                <a:gd name="adj" fmla="val 9282"/>
              </a:avLst>
            </a:prstGeom>
            <a:solidFill>
              <a:srgbClr val="4a66a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3" name="AutoShape 10"/>
            <p:cNvSpPr/>
            <p:nvPr/>
          </p:nvSpPr>
          <p:spPr>
            <a:xfrm>
              <a:off x="2700360" y="4292280"/>
              <a:ext cx="144720" cy="142920"/>
            </a:xfrm>
            <a:prstGeom prst="smileyFace">
              <a:avLst>
                <a:gd name="adj" fmla="val 9282"/>
              </a:avLst>
            </a:prstGeom>
            <a:solidFill>
              <a:srgbClr val="4a66a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4" name="AutoShape 11"/>
            <p:cNvSpPr/>
            <p:nvPr/>
          </p:nvSpPr>
          <p:spPr>
            <a:xfrm>
              <a:off x="3637080" y="4221000"/>
              <a:ext cx="144360" cy="142920"/>
            </a:xfrm>
            <a:prstGeom prst="smileyFace">
              <a:avLst>
                <a:gd name="adj" fmla="val 9282"/>
              </a:avLst>
            </a:prstGeom>
            <a:solidFill>
              <a:srgbClr val="4a66a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5" name="AutoShape 12"/>
            <p:cNvSpPr/>
            <p:nvPr/>
          </p:nvSpPr>
          <p:spPr>
            <a:xfrm>
              <a:off x="4500720" y="4292280"/>
              <a:ext cx="144360" cy="142920"/>
            </a:xfrm>
            <a:prstGeom prst="smileyFace">
              <a:avLst>
                <a:gd name="adj" fmla="val 9282"/>
              </a:avLst>
            </a:prstGeom>
            <a:solidFill>
              <a:srgbClr val="4a66a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5437440" y="4292280"/>
              <a:ext cx="144360" cy="142920"/>
            </a:xfrm>
            <a:prstGeom prst="smileyFace">
              <a:avLst>
                <a:gd name="adj" fmla="val 9282"/>
              </a:avLst>
            </a:prstGeom>
            <a:solidFill>
              <a:srgbClr val="4a66a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7" name="AutoShape 21"/>
            <p:cNvSpPr/>
            <p:nvPr/>
          </p:nvSpPr>
          <p:spPr>
            <a:xfrm flipV="1">
              <a:off x="3781440" y="4004280"/>
              <a:ext cx="1584360" cy="863640"/>
            </a:xfrm>
            <a:custGeom>
              <a:avLst/>
              <a:gdLst>
                <a:gd name="textAreaLeft" fmla="*/ 231480 w 1584360"/>
                <a:gd name="textAreaRight" fmla="*/ 1352880 w 1584360"/>
                <a:gd name="textAreaTop" fmla="*/ 126720 h 863640"/>
                <a:gd name="textAreaBottom" fmla="*/ 7369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598" y="10643"/>
                  </a:moveTo>
                  <a:cubicBezTo>
                    <a:pt x="21513" y="4740"/>
                    <a:pt x="16703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03" y="0"/>
                    <a:pt x="21513" y="4740"/>
                    <a:pt x="21598" y="10643"/>
                  </a:cubicBezTo>
                  <a:lnTo>
                    <a:pt x="24298" y="10604"/>
                  </a:lnTo>
                  <a:lnTo>
                    <a:pt x="21637" y="13342"/>
                  </a:lnTo>
                  <a:lnTo>
                    <a:pt x="18899" y="10682"/>
                  </a:lnTo>
                  <a:lnTo>
                    <a:pt x="21598" y="10643"/>
                  </a:ln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8" name="AutoShape 22"/>
            <p:cNvSpPr/>
            <p:nvPr/>
          </p:nvSpPr>
          <p:spPr>
            <a:xfrm flipV="1">
              <a:off x="1836720" y="4004280"/>
              <a:ext cx="1729080" cy="863640"/>
            </a:xfrm>
            <a:custGeom>
              <a:avLst/>
              <a:gdLst>
                <a:gd name="textAreaLeft" fmla="*/ 252360 w 1729080"/>
                <a:gd name="textAreaRight" fmla="*/ 1476720 w 1729080"/>
                <a:gd name="textAreaTop" fmla="*/ 126720 h 863640"/>
                <a:gd name="textAreaBottom" fmla="*/ 7369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0800"/>
                  </a:move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21600" y="13500"/>
                  </a:lnTo>
                  <a:lnTo>
                    <a:pt x="18900" y="10800"/>
                  </a:lnTo>
                  <a:lnTo>
                    <a:pt x="21600" y="10800"/>
                  </a:ln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9" name="AutoShape 26"/>
            <p:cNvSpPr/>
            <p:nvPr/>
          </p:nvSpPr>
          <p:spPr>
            <a:xfrm flipV="1">
              <a:off x="2845080" y="4291560"/>
              <a:ext cx="1584360" cy="360360"/>
            </a:xfrm>
            <a:custGeom>
              <a:avLst/>
              <a:gdLst>
                <a:gd name="textAreaLeft" fmla="*/ 231480 w 1584360"/>
                <a:gd name="textAreaRight" fmla="*/ 1352880 w 1584360"/>
                <a:gd name="textAreaTop" fmla="*/ 52200 h 360360"/>
                <a:gd name="textAreaBottom" fmla="*/ 3081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318" y="10847"/>
                  </a:moveTo>
                  <a:cubicBezTo>
                    <a:pt x="21318" y="10831"/>
                    <a:pt x="21319" y="10815"/>
                    <a:pt x="21319" y="10800"/>
                  </a:cubicBezTo>
                  <a:cubicBezTo>
                    <a:pt x="21319" y="4990"/>
                    <a:pt x="16609" y="281"/>
                    <a:pt x="10800" y="281"/>
                  </a:cubicBezTo>
                  <a:cubicBezTo>
                    <a:pt x="4990" y="281"/>
                    <a:pt x="281" y="4990"/>
                    <a:pt x="281" y="10800"/>
                  </a:cubicBezTo>
                  <a:cubicBezTo>
                    <a:pt x="280" y="10815"/>
                    <a:pt x="281" y="10831"/>
                    <a:pt x="281" y="10846"/>
                  </a:cubicBezTo>
                  <a:lnTo>
                    <a:pt x="0" y="10848"/>
                  </a:lnTo>
                  <a:cubicBezTo>
                    <a:pt x="0" y="10832"/>
                    <a:pt x="0" y="10816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0816"/>
                    <a:pt x="21599" y="10832"/>
                    <a:pt x="21599" y="10849"/>
                  </a:cubicBezTo>
                  <a:lnTo>
                    <a:pt x="24299" y="10861"/>
                  </a:lnTo>
                  <a:lnTo>
                    <a:pt x="21446" y="13689"/>
                  </a:lnTo>
                  <a:lnTo>
                    <a:pt x="18618" y="10835"/>
                  </a:lnTo>
                  <a:lnTo>
                    <a:pt x="21318" y="10847"/>
                  </a:ln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0" name="AutoShape 28"/>
            <p:cNvSpPr/>
            <p:nvPr/>
          </p:nvSpPr>
          <p:spPr>
            <a:xfrm>
              <a:off x="1836720" y="3933720"/>
              <a:ext cx="1873440" cy="287280"/>
            </a:xfrm>
            <a:custGeom>
              <a:avLst/>
              <a:gdLst>
                <a:gd name="textAreaLeft" fmla="*/ 274680 w 1873440"/>
                <a:gd name="textAreaRight" fmla="*/ 1598760 w 1873440"/>
                <a:gd name="textAreaTop" fmla="*/ 42840 h 287280"/>
                <a:gd name="textAreaBottom" fmla="*/ 2444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12" y="10859"/>
                  </a:moveTo>
                  <a:cubicBezTo>
                    <a:pt x="20812" y="10839"/>
                    <a:pt x="20813" y="10819"/>
                    <a:pt x="20813" y="10800"/>
                  </a:cubicBezTo>
                  <a:cubicBezTo>
                    <a:pt x="20813" y="5269"/>
                    <a:pt x="16330" y="787"/>
                    <a:pt x="10800" y="787"/>
                  </a:cubicBezTo>
                  <a:cubicBezTo>
                    <a:pt x="5269" y="787"/>
                    <a:pt x="787" y="5269"/>
                    <a:pt x="787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0821"/>
                    <a:pt x="21599" y="10843"/>
                    <a:pt x="21599" y="10864"/>
                  </a:cubicBezTo>
                  <a:lnTo>
                    <a:pt x="24299" y="10880"/>
                  </a:lnTo>
                  <a:lnTo>
                    <a:pt x="21187" y="13956"/>
                  </a:lnTo>
                  <a:lnTo>
                    <a:pt x="18112" y="10843"/>
                  </a:lnTo>
                  <a:lnTo>
                    <a:pt x="20812" y="10859"/>
                  </a:ln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1" name="AutoShape 30"/>
            <p:cNvSpPr/>
            <p:nvPr/>
          </p:nvSpPr>
          <p:spPr>
            <a:xfrm>
              <a:off x="3708720" y="3933720"/>
              <a:ext cx="1873080" cy="288720"/>
            </a:xfrm>
            <a:custGeom>
              <a:avLst/>
              <a:gdLst>
                <a:gd name="textAreaLeft" fmla="*/ 274680 w 1873080"/>
                <a:gd name="textAreaRight" fmla="*/ 1598400 w 1873080"/>
                <a:gd name="textAreaTop" fmla="*/ 42840 h 288720"/>
                <a:gd name="textAreaBottom" fmla="*/ 24588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2" y="14945"/>
                  </a:moveTo>
                  <a:cubicBezTo>
                    <a:pt x="21318" y="13631"/>
                    <a:pt x="21600" y="1222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2222"/>
                    <a:pt x="21318" y="13631"/>
                    <a:pt x="20772" y="14945"/>
                  </a:cubicBezTo>
                  <a:lnTo>
                    <a:pt x="23265" y="15982"/>
                  </a:lnTo>
                  <a:lnTo>
                    <a:pt x="19736" y="17438"/>
                  </a:lnTo>
                  <a:lnTo>
                    <a:pt x="18279" y="13909"/>
                  </a:lnTo>
                  <a:lnTo>
                    <a:pt x="20772" y="14945"/>
                  </a:ln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232" name="Group 42"/>
          <p:cNvGrpSpPr/>
          <p:nvPr/>
        </p:nvGrpSpPr>
        <p:grpSpPr>
          <a:xfrm>
            <a:off x="1476360" y="5660640"/>
            <a:ext cx="2879640" cy="934920"/>
            <a:chOff x="1476360" y="5660640"/>
            <a:chExt cx="2879640" cy="934920"/>
          </a:xfrm>
        </p:grpSpPr>
        <p:sp>
          <p:nvSpPr>
            <p:cNvPr id="233" name="Line 31"/>
            <p:cNvSpPr/>
            <p:nvPr/>
          </p:nvSpPr>
          <p:spPr>
            <a:xfrm flipV="1">
              <a:off x="1476360" y="5660640"/>
              <a:ext cx="1079640" cy="9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4" name="Line 32"/>
            <p:cNvSpPr/>
            <p:nvPr/>
          </p:nvSpPr>
          <p:spPr>
            <a:xfrm>
              <a:off x="2340000" y="5661000"/>
              <a:ext cx="1871640" cy="86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5" name="Line 33"/>
            <p:cNvSpPr/>
            <p:nvPr/>
          </p:nvSpPr>
          <p:spPr>
            <a:xfrm flipV="1">
              <a:off x="1476360" y="6379920"/>
              <a:ext cx="2879640" cy="7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6" name="AutoShape 34"/>
            <p:cNvSpPr/>
            <p:nvPr/>
          </p:nvSpPr>
          <p:spPr>
            <a:xfrm>
              <a:off x="1619280" y="6379920"/>
              <a:ext cx="73080" cy="144000"/>
            </a:xfrm>
            <a:custGeom>
              <a:avLst/>
              <a:gdLst>
                <a:gd name="textAreaLeft" fmla="*/ 11160 w 73080"/>
                <a:gd name="textAreaRight" fmla="*/ 61920 w 73080"/>
                <a:gd name="textAreaTop" fmla="*/ 20520 h 144000"/>
                <a:gd name="textAreaBottom" fmla="*/ 12348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7" name="AutoShape 37"/>
            <p:cNvSpPr/>
            <p:nvPr/>
          </p:nvSpPr>
          <p:spPr>
            <a:xfrm>
              <a:off x="2411280" y="5661000"/>
              <a:ext cx="73080" cy="144360"/>
            </a:xfrm>
            <a:custGeom>
              <a:avLst/>
              <a:gdLst>
                <a:gd name="textAreaLeft" fmla="*/ 11160 w 73080"/>
                <a:gd name="textAreaRight" fmla="*/ 61920 w 7308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8" name="AutoShape 38"/>
            <p:cNvSpPr/>
            <p:nvPr/>
          </p:nvSpPr>
          <p:spPr>
            <a:xfrm>
              <a:off x="2050920" y="5948280"/>
              <a:ext cx="73080" cy="144000"/>
            </a:xfrm>
            <a:custGeom>
              <a:avLst/>
              <a:gdLst>
                <a:gd name="textAreaLeft" fmla="*/ 11160 w 73080"/>
                <a:gd name="textAreaRight" fmla="*/ 61920 w 73080"/>
                <a:gd name="textAreaTop" fmla="*/ 20520 h 144000"/>
                <a:gd name="textAreaBottom" fmla="*/ 12348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9" name="AutoShape 39"/>
            <p:cNvSpPr/>
            <p:nvPr/>
          </p:nvSpPr>
          <p:spPr>
            <a:xfrm>
              <a:off x="2484360" y="6379920"/>
              <a:ext cx="73080" cy="144000"/>
            </a:xfrm>
            <a:custGeom>
              <a:avLst/>
              <a:gdLst>
                <a:gd name="textAreaLeft" fmla="*/ 11160 w 73080"/>
                <a:gd name="textAreaRight" fmla="*/ 61920 w 73080"/>
                <a:gd name="textAreaTop" fmla="*/ 20520 h 144000"/>
                <a:gd name="textAreaBottom" fmla="*/ 12348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0" name="AutoShape 40"/>
            <p:cNvSpPr/>
            <p:nvPr/>
          </p:nvSpPr>
          <p:spPr>
            <a:xfrm>
              <a:off x="3059280" y="5948280"/>
              <a:ext cx="72720" cy="144000"/>
            </a:xfrm>
            <a:custGeom>
              <a:avLst/>
              <a:gdLst>
                <a:gd name="textAreaLeft" fmla="*/ 10800 w 72720"/>
                <a:gd name="textAreaRight" fmla="*/ 61920 w 72720"/>
                <a:gd name="textAreaTop" fmla="*/ 20520 h 144000"/>
                <a:gd name="textAreaBottom" fmla="*/ 12348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1" name="AutoShape 41"/>
            <p:cNvSpPr/>
            <p:nvPr/>
          </p:nvSpPr>
          <p:spPr>
            <a:xfrm>
              <a:off x="3851280" y="6308640"/>
              <a:ext cx="73080" cy="144000"/>
            </a:xfrm>
            <a:custGeom>
              <a:avLst/>
              <a:gdLst>
                <a:gd name="textAreaLeft" fmla="*/ 11160 w 73080"/>
                <a:gd name="textAreaRight" fmla="*/ 61920 w 73080"/>
                <a:gd name="textAreaTop" fmla="*/ 20520 h 144000"/>
                <a:gd name="textAreaBottom" fmla="*/ 12348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4a66a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42" name="AutoShape 44">
            <a:hlinkClick r:id="rId16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AutoShape 45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33160" y="533520"/>
            <a:ext cx="3949560" cy="37670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Наименьшее четырёхзначное число.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Знаки, которые ставятся тогда, когда надо изменить обычный порядок арифметических действий.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Единица второго разряда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Мера измерения длины.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Как называется значение выражения при умножении?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Как называется выражение с одним неизвестным.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Когда можно сказать, что 1=60?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62000" y="533520"/>
            <a:ext cx="3948120" cy="37591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В каких единицах измеряется площадь?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Наименьшее чётное число.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Единица третьего разряда.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Мера измерения жидкости.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Назовите действия первой ступени.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Какое действие нужно выполнить, если в задаче спрашивается, на сколько больше?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009900"/>
                </a:solidFill>
                <a:latin typeface="Century Gothic"/>
              </a:rPr>
              <a:t>Когда можно сказать, что 1=1000?</a:t>
            </a:r>
            <a:endParaRPr b="0" lang="en-US" sz="1700" spc="-1" strike="noStrike">
              <a:solidFill>
                <a:srgbClr val="121429"/>
              </a:solidFill>
              <a:latin typeface="Century Gothic"/>
            </a:endParaRPr>
          </a:p>
        </p:txBody>
      </p:sp>
      <p:sp>
        <p:nvSpPr>
          <p:cNvPr id="246" name="WordArt 7"/>
          <p:cNvSpPr txBox="1"/>
          <p:nvPr/>
        </p:nvSpPr>
        <p:spPr>
          <a:xfrm>
            <a:off x="1042920" y="0"/>
            <a:ext cx="66978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>
                    <a:alpha val="69000"/>
                  </a:srgbClr>
                </a:solidFill>
                <a:latin typeface="Times New Roman"/>
              </a:rPr>
              <a:t>Математическая виктор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>
                  <a:alpha val="69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47" name="AutoShape 8">
            <a:hlinkClick r:id="rId2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AutoShape 9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4"/>
          <p:cNvSpPr txBox="1"/>
          <p:nvPr/>
        </p:nvSpPr>
        <p:spPr>
          <a:xfrm>
            <a:off x="2411280" y="620640"/>
            <a:ext cx="396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бус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50" name="Group 10"/>
          <p:cNvGrpSpPr/>
          <p:nvPr/>
        </p:nvGrpSpPr>
        <p:grpSpPr>
          <a:xfrm>
            <a:off x="1187280" y="1413000"/>
            <a:ext cx="6337440" cy="2095200"/>
            <a:chOff x="1187280" y="1413000"/>
            <a:chExt cx="6337440" cy="2095200"/>
          </a:xfrm>
        </p:grpSpPr>
        <p:grpSp>
          <p:nvGrpSpPr>
            <p:cNvPr id="251" name="Group 8"/>
            <p:cNvGrpSpPr/>
            <p:nvPr/>
          </p:nvGrpSpPr>
          <p:grpSpPr>
            <a:xfrm>
              <a:off x="1187280" y="1413000"/>
              <a:ext cx="4989600" cy="2095200"/>
              <a:chOff x="1187280" y="1413000"/>
              <a:chExt cx="4989600" cy="2095200"/>
            </a:xfrm>
          </p:grpSpPr>
          <p:pic>
            <p:nvPicPr>
              <p:cNvPr id="252" name="Picture 5" descr="24983632"/>
              <p:cNvPicPr/>
              <p:nvPr/>
            </p:nvPicPr>
            <p:blipFill>
              <a:blip r:embed="rId4"/>
              <a:stretch/>
            </p:blipFill>
            <p:spPr>
              <a:xfrm>
                <a:off x="2843280" y="1413000"/>
                <a:ext cx="1676160" cy="209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Picture 6" descr="24983632"/>
              <p:cNvPicPr/>
              <p:nvPr/>
            </p:nvPicPr>
            <p:blipFill>
              <a:blip r:embed="rId5"/>
              <a:stretch/>
            </p:blipFill>
            <p:spPr>
              <a:xfrm>
                <a:off x="1187280" y="1413000"/>
                <a:ext cx="1676520" cy="209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Picture 7" descr="24983632"/>
              <p:cNvPicPr/>
              <p:nvPr/>
            </p:nvPicPr>
            <p:blipFill>
              <a:blip r:embed="rId6"/>
              <a:stretch/>
            </p:blipFill>
            <p:spPr>
              <a:xfrm>
                <a:off x="4500720" y="1413000"/>
                <a:ext cx="1676160" cy="2095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5" name="WordArt 9"/>
            <p:cNvSpPr txBox="1"/>
            <p:nvPr/>
          </p:nvSpPr>
          <p:spPr>
            <a:xfrm>
              <a:off x="6300720" y="1485720"/>
              <a:ext cx="1224000" cy="19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Ж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56" name="WordArt 11"/>
          <p:cNvSpPr txBox="1"/>
          <p:nvPr/>
        </p:nvSpPr>
        <p:spPr>
          <a:xfrm>
            <a:off x="1763640" y="4508640"/>
            <a:ext cx="532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5724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+mn-lt"/>
              </a:rPr>
              <a:t>ООО</a:t>
            </a:r>
            <a:endParaRPr b="0" lang="en-US" sz="1800" spc="1" strike="noStrike">
              <a:ln w="5724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57" name="WordArt 12"/>
          <p:cNvSpPr txBox="1"/>
          <p:nvPr/>
        </p:nvSpPr>
        <p:spPr>
          <a:xfrm>
            <a:off x="1258920" y="3716280"/>
            <a:ext cx="2521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икота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13"/>
          <p:cNvSpPr txBox="1"/>
          <p:nvPr/>
        </p:nvSpPr>
        <p:spPr>
          <a:xfrm>
            <a:off x="1692360" y="6021360"/>
            <a:ext cx="143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и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AutoShape 14">
            <a:hlinkClick r:id="rId7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9454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AutoShape 15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454c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4"/>
          <p:cNvSpPr txBox="1"/>
          <p:nvPr/>
        </p:nvSpPr>
        <p:spPr>
          <a:xfrm>
            <a:off x="539640" y="620640"/>
            <a:ext cx="4464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lt"/>
              </a:rPr>
              <a:t>Р1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62" name="WordArt 5"/>
          <p:cNvSpPr txBox="1"/>
          <p:nvPr/>
        </p:nvSpPr>
        <p:spPr>
          <a:xfrm>
            <a:off x="5076720" y="2852640"/>
            <a:ext cx="31672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lt"/>
              </a:rPr>
              <a:t>7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63" name="WordArt 6"/>
          <p:cNvSpPr txBox="1"/>
          <p:nvPr/>
        </p:nvSpPr>
        <p:spPr>
          <a:xfrm>
            <a:off x="539640" y="3213000"/>
            <a:ext cx="16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д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7"/>
          <p:cNvSpPr txBox="1"/>
          <p:nvPr/>
        </p:nvSpPr>
        <p:spPr>
          <a:xfrm>
            <a:off x="4140360" y="5950080"/>
            <a:ext cx="1257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мь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AutoShape 8">
            <a:hlinkClick r:id="rId2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9454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AutoShape 9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454c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14"/>
          <p:cNvGrpSpPr/>
          <p:nvPr/>
        </p:nvGrpSpPr>
        <p:grpSpPr>
          <a:xfrm>
            <a:off x="755640" y="765000"/>
            <a:ext cx="3119400" cy="2714760"/>
            <a:chOff x="755640" y="765000"/>
            <a:chExt cx="3119400" cy="2714760"/>
          </a:xfrm>
        </p:grpSpPr>
        <p:sp>
          <p:nvSpPr>
            <p:cNvPr id="268" name="WordArt 5"/>
            <p:cNvSpPr txBox="1"/>
            <p:nvPr/>
          </p:nvSpPr>
          <p:spPr>
            <a:xfrm>
              <a:off x="755640" y="765000"/>
              <a:ext cx="3119400" cy="271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О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69" name="WordArt 8"/>
            <p:cNvSpPr txBox="1"/>
            <p:nvPr/>
          </p:nvSpPr>
          <p:spPr>
            <a:xfrm>
              <a:off x="1692360" y="1413000"/>
              <a:ext cx="1366920" cy="15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+mn-lt"/>
                </a:rPr>
                <a:t>7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5003640" y="3429000"/>
            <a:ext cx="3119760" cy="2714760"/>
            <a:chOff x="5003640" y="3429000"/>
            <a:chExt cx="3119760" cy="2714760"/>
          </a:xfrm>
        </p:grpSpPr>
        <p:sp>
          <p:nvSpPr>
            <p:cNvPr id="271" name="WordArt 9"/>
            <p:cNvSpPr txBox="1"/>
            <p:nvPr/>
          </p:nvSpPr>
          <p:spPr>
            <a:xfrm>
              <a:off x="5003640" y="3429000"/>
              <a:ext cx="3119760" cy="271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О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72" name="WordArt 10"/>
            <p:cNvSpPr txBox="1"/>
            <p:nvPr/>
          </p:nvSpPr>
          <p:spPr>
            <a:xfrm>
              <a:off x="5508720" y="3933720"/>
              <a:ext cx="1841400" cy="169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+mn-lt"/>
                </a:rPr>
                <a:t>17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sp>
        <p:nvSpPr>
          <p:cNvPr id="273" name="WordArt 11"/>
          <p:cNvSpPr txBox="1"/>
          <p:nvPr/>
        </p:nvSpPr>
        <p:spPr>
          <a:xfrm>
            <a:off x="900000" y="3573360"/>
            <a:ext cx="1495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1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сем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WordArt 13"/>
          <p:cNvSpPr txBox="1"/>
          <p:nvPr/>
        </p:nvSpPr>
        <p:spPr>
          <a:xfrm>
            <a:off x="3132000" y="5589720"/>
            <a:ext cx="29433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1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семнадцат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AutoShape 16">
            <a:hlinkClick r:id="rId2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9454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AutoShape 17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454c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1:07:38Z</dcterms:created>
  <dc:creator>Антон</dc:creator>
  <dc:description/>
  <dc:language>en-US</dc:language>
  <cp:lastModifiedBy>Admin</cp:lastModifiedBy>
  <dcterms:modified xsi:type="dcterms:W3CDTF">2020-05-26T22:03:20Z</dcterms:modified>
  <cp:revision>37</cp:revision>
  <dc:subject/>
  <dc:title>Слайд 1</dc:title>
</cp:coreProperties>
</file>