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9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79B-D68E-4883-8BE5-DFEEBB3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533-F029-429B-AC18-D01AF15F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A6B-99C6-4B31-B7E0-A219C325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128-0895-485A-854E-16AA33D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B754-9F3F-42DD-BE7D-D7635B89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B6DF-C2F3-4325-A308-96E8E2FE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654F-F678-48D7-90F4-A5E658B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C898-E3B0-428B-8040-C3BFE13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DB28-1E88-4DB0-BD8D-44CEBD3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43EC-1F86-4F5B-A1D2-9267CF9F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D5C-D7B7-4FBC-9487-453AB1A8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01F-3319-484D-AC7D-301C14DE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0BE2-71AA-4BF6-8EA6-D6BA23A4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0151-3B71-4C17-9C3A-BA6DDB5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4DBA-7578-4783-87E0-DEC6169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FEA8-AFC6-425B-B0E9-1DAEC26B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2C6-7C3E-49F2-AE6E-205E2C23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13AB-CB67-43C8-84BC-DE993E9C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0DA0-F50D-49F8-8A03-020C83F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702A-C336-4B4D-B4F6-80F8822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F237-8EE4-4B9C-ACEF-8BF354A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1EA2-1E91-4502-BB84-98C21BD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333-CADE-47A6-8F86-B70C2583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52C8-6371-4192-9083-6DCA7936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0905-2992-4E37-90BE-9E633F6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FF7F-C499-498F-8671-47B5D6A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83E2-D402-40F4-99B3-F45CA28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467A-425F-4468-A58D-E3C837C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F977-13D5-43FE-BECB-5EA8AFA8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7A02-74A7-45DF-B238-BB58BEB3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13FD-860A-4A6C-9C4C-36A2256B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DD23-4299-422F-B22C-70EFAD9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6753-CFAC-44DF-BA9A-1420A9F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C82-F64D-44EB-BC4E-B810314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F3E0-BEB0-4014-A395-FEA6C6B6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2300-4E13-44EB-A2E0-B9935D59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7669-29B6-4580-B4F3-2C5586BD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CFF7-BEAB-47AD-AA1F-9C00F099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A761-9A13-4B6D-8859-AAB3F453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28B1-AEFC-4585-9523-286A4ED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C008-3957-4C70-9D44-30F00E4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8C6F-A150-4E3B-BC7A-1389627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57F4-D3B4-4970-AB35-BF85FBE2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16A-6334-4234-B0A9-19BB6B42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563-9971-415F-9067-92DD537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552-F08F-4FCA-A4C8-46E8BCC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59A-9302-4A7D-AC18-B8C52A1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C7C-E2C6-4A34-9294-B082743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8BFA6-5AB6-437E-8DC6-598503CF8292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14AA2-5F7E-4666-90C2-9B1D5B2D31E0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C6B6D-A968-4CA2-B4E0-AEA8764397ED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62CF6-684A-48D0-AB36-4EA9191688B4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" Target="slide3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908000" y="1557360"/>
            <a:ext cx="568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яз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ков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lern[1]"/>
          <p:cNvPicPr/>
          <p:nvPr/>
        </p:nvPicPr>
        <p:blipFill>
          <a:blip r:embed="rId2"/>
          <a:stretch/>
        </p:blipFill>
        <p:spPr>
          <a:xfrm>
            <a:off x="7236000" y="189000"/>
            <a:ext cx="1618920" cy="1619280"/>
          </a:xfrm>
          <a:prstGeom prst="rect">
            <a:avLst/>
          </a:prstGeom>
          <a:ln w="0">
            <a:noFill/>
          </a:ln>
        </p:spPr>
      </p:pic>
      <p:sp>
        <p:nvSpPr>
          <p:cNvPr id="278" name="WordArt 5"/>
          <p:cNvSpPr txBox="1"/>
          <p:nvPr/>
        </p:nvSpPr>
        <p:spPr>
          <a:xfrm>
            <a:off x="1116000" y="692280"/>
            <a:ext cx="518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lt"/>
              </a:rPr>
              <a:t>Шифровка</a:t>
            </a:r>
            <a:endParaRPr b="0" lang="en-US" sz="1800" spc="1" strike="noStrike">
              <a:ln w="5724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341964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63528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341964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Слагаемо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419640" y="61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1835280" y="1844640"/>
            <a:ext cx="52354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2844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hgтjреtrуjгmnольnbниytкj</a:t>
            </a:r>
            <a:endParaRPr b="0" lang="en-US" sz="1800" spc="1" strike="noStrike">
              <a:ln w="2844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4" name="WordArt 20"/>
          <p:cNvSpPr txBox="1"/>
          <p:nvPr/>
        </p:nvSpPr>
        <p:spPr>
          <a:xfrm>
            <a:off x="2252520" y="3170160"/>
            <a:ext cx="463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cevуvfkмjklмfjshkjаguh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5" name="WordArt 21"/>
          <p:cNvSpPr txBox="1"/>
          <p:nvPr/>
        </p:nvSpPr>
        <p:spPr>
          <a:xfrm>
            <a:off x="2411280" y="4437000"/>
            <a:ext cx="43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cc3399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gfслjhагkjаеlkмlkоgfе</a:t>
            </a:r>
            <a:endParaRPr b="0" lang="en-US" sz="1800" spc="1" strike="noStrike">
              <a:ln w="19080">
                <a:solidFill>
                  <a:srgbClr val="cc3399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6" name="WordArt 22"/>
          <p:cNvSpPr txBox="1"/>
          <p:nvPr/>
        </p:nvSpPr>
        <p:spPr>
          <a:xfrm>
            <a:off x="1979640" y="5516640"/>
            <a:ext cx="53341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jnоnтkfjреrgзpkоlmmbкmv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7" name="AutoShape 23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AutoShape 24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4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8" descr="img019"/>
          <p:cNvPicPr/>
          <p:nvPr/>
        </p:nvPicPr>
        <p:blipFill>
          <a:blip r:embed="rId1"/>
          <a:stretch/>
        </p:blipFill>
        <p:spPr>
          <a:xfrm>
            <a:off x="511200" y="1197000"/>
            <a:ext cx="3844800" cy="542448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  <p:pic>
        <p:nvPicPr>
          <p:cNvPr id="291" name="Picture 9" descr="img022"/>
          <p:cNvPicPr/>
          <p:nvPr/>
        </p:nvPicPr>
        <p:blipFill>
          <a:blip r:embed="rId2"/>
          <a:stretch/>
        </p:blipFill>
        <p:spPr>
          <a:xfrm>
            <a:off x="4788000" y="1197000"/>
            <a:ext cx="3902040" cy="54007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292" name="AutoShape 10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AutoShape 11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icture 5" descr="img021"/>
          <p:cNvPicPr/>
          <p:nvPr/>
        </p:nvPicPr>
        <p:blipFill>
          <a:blip r:embed="rId1"/>
          <a:stretch/>
        </p:blipFill>
        <p:spPr>
          <a:xfrm>
            <a:off x="250920" y="1341360"/>
            <a:ext cx="4240080" cy="4969080"/>
          </a:xfrm>
          <a:prstGeom prst="rect">
            <a:avLst/>
          </a:prstGeom>
          <a:ln w="57240">
            <a:solidFill>
              <a:srgbClr val="ff66ff"/>
            </a:solidFill>
            <a:miter/>
          </a:ln>
        </p:spPr>
      </p:pic>
      <p:pic>
        <p:nvPicPr>
          <p:cNvPr id="296" name="Picture 6" descr="img023"/>
          <p:cNvPicPr/>
          <p:nvPr/>
        </p:nvPicPr>
        <p:blipFill>
          <a:blip r:embed="rId2"/>
          <a:stretch/>
        </p:blipFill>
        <p:spPr>
          <a:xfrm>
            <a:off x="4716360" y="1341360"/>
            <a:ext cx="4154760" cy="4967280"/>
          </a:xfrm>
          <a:prstGeom prst="rect">
            <a:avLst/>
          </a:prstGeom>
          <a:ln w="57240">
            <a:solidFill>
              <a:srgbClr val="ff66ff"/>
            </a:solidFill>
            <a:miter/>
          </a:ln>
        </p:spPr>
      </p:pic>
      <p:sp>
        <p:nvSpPr>
          <p:cNvPr id="297" name="AutoShape 8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AutoShape 9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Picture 3" descr="Копия img015"/>
          <p:cNvPicPr/>
          <p:nvPr/>
        </p:nvPicPr>
        <p:blipFill>
          <a:blip r:embed="rId1"/>
          <a:stretch/>
        </p:blipFill>
        <p:spPr>
          <a:xfrm>
            <a:off x="324000" y="1773360"/>
            <a:ext cx="3924000" cy="443232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pic>
        <p:nvPicPr>
          <p:cNvPr id="301" name="Picture 4" descr="img017"/>
          <p:cNvPicPr/>
          <p:nvPr/>
        </p:nvPicPr>
        <p:blipFill>
          <a:blip r:embed="rId2"/>
          <a:stretch/>
        </p:blipFill>
        <p:spPr>
          <a:xfrm>
            <a:off x="4500720" y="1773360"/>
            <a:ext cx="4243320" cy="43923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sp>
        <p:nvSpPr>
          <p:cNvPr id="302" name="AutoShape 5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6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5" name="Picture 3" descr="img016"/>
          <p:cNvPicPr/>
          <p:nvPr/>
        </p:nvPicPr>
        <p:blipFill>
          <a:blip r:embed="rId1"/>
          <a:stretch/>
        </p:blipFill>
        <p:spPr>
          <a:xfrm>
            <a:off x="252360" y="1700280"/>
            <a:ext cx="4103640" cy="47530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306" name="Picture 4" descr="img018"/>
          <p:cNvPicPr/>
          <p:nvPr/>
        </p:nvPicPr>
        <p:blipFill>
          <a:blip r:embed="rId2"/>
          <a:stretch/>
        </p:blipFill>
        <p:spPr>
          <a:xfrm>
            <a:off x="4643280" y="1700280"/>
            <a:ext cx="4249800" cy="46814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307" name="AutoShape 5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6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Мат</a:t>
            </a:r>
            <a:r>
              <a:rPr b="0" lang="ru-RU" sz="57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мат</a:t>
            </a:r>
            <a:r>
              <a:rPr b="0" lang="ru-RU" sz="57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ка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11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П</a:t>
            </a:r>
            <a:r>
              <a:rPr b="0" lang="ru-RU" sz="52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тёрка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Кил</a:t>
            </a:r>
            <a:r>
              <a:rPr b="0" lang="ru-RU" sz="52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гра</a:t>
            </a:r>
            <a:r>
              <a:rPr b="0" lang="ru-RU" sz="5200" spc="-1" strike="noStrike">
                <a:solidFill>
                  <a:srgbClr val="ff5050"/>
                </a:solidFill>
                <a:latin typeface="Century Gothic"/>
              </a:rPr>
              <a:t>*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10" name="WordArt 4"/>
          <p:cNvSpPr txBox="1"/>
          <p:nvPr/>
        </p:nvSpPr>
        <p:spPr>
          <a:xfrm>
            <a:off x="2268360" y="333360"/>
            <a:ext cx="4967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моте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AutoShape 6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4"/>
          <p:cNvSpPr txBox="1"/>
          <p:nvPr/>
        </p:nvSpPr>
        <p:spPr>
          <a:xfrm>
            <a:off x="2268360" y="333360"/>
            <a:ext cx="4967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моте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702560" cy="360036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Мат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е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мат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и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ка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О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ди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нн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а</a:t>
            </a:r>
            <a:r>
              <a:rPr b="0" lang="ru-RU" sz="4400" spc="-1" strike="noStrike" u="sng">
                <a:solidFill>
                  <a:srgbClr val="ff00ff"/>
                </a:solidFill>
                <a:uFillTx/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цать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П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я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тёрка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К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и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л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о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гра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мм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AutoShape 8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4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AutoShape 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971640" y="1125360"/>
            <a:ext cx="72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- Вот и закончена игра.</a:t>
            </a:r>
            <a:endParaRPr b="0" lang="en-US" sz="1800" spc="1" strike="noStrike">
              <a:ln w="57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Итоги подводить пора! </a:t>
            </a:r>
            <a:endParaRPr b="0" lang="en-US" sz="1800" spc="1" strike="noStrike">
              <a:ln w="57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320" name="WordArt 9"/>
          <p:cNvSpPr txBox="1"/>
          <p:nvPr/>
        </p:nvSpPr>
        <p:spPr>
          <a:xfrm>
            <a:off x="2124000" y="3429000"/>
            <a:ext cx="49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Жюри объявляет итоги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4832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Тройка лошадей бежала 15 км. Сколько км бежала каждая лошадь?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15 км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Верёвку нужно разрезать на 4 части. Сколько разрезов нужно сделать?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Три 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Через 5 лет Коле будет 15 лет. Сколько лет ему было 5 лет назад?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5 лет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000" y="1125360"/>
            <a:ext cx="40273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У семи братьев по одной сестре. Сколько всего сестёр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Одна 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Три человека ждали поезд 3 часа. Сколько времени ждал каждый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3 часа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Отец и дети сели на велосипеды. У всех велосипедов вместе было 7 колёс. Сколько было 3-колёсных велосипедов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Один и 2 двухколёсных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2340000" y="189000"/>
            <a:ext cx="4471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нимательные задач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AutoShape 9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AutoShape 10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5"/>
          <p:cNvSpPr txBox="1"/>
          <p:nvPr/>
        </p:nvSpPr>
        <p:spPr>
          <a:xfrm>
            <a:off x="2124000" y="404640"/>
            <a:ext cx="5010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Сосчитай треугольник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grpSp>
        <p:nvGrpSpPr>
          <p:cNvPr id="199" name="Group 18"/>
          <p:cNvGrpSpPr/>
          <p:nvPr/>
        </p:nvGrpSpPr>
        <p:grpSpPr>
          <a:xfrm>
            <a:off x="4066920" y="1989000"/>
            <a:ext cx="4897800" cy="3456000"/>
            <a:chOff x="4066920" y="1989000"/>
            <a:chExt cx="4897800" cy="3456000"/>
          </a:xfrm>
        </p:grpSpPr>
        <p:sp>
          <p:nvSpPr>
            <p:cNvPr id="200" name="Rectangle 6"/>
            <p:cNvSpPr/>
            <p:nvPr/>
          </p:nvSpPr>
          <p:spPr>
            <a:xfrm>
              <a:off x="5219640" y="1989000"/>
              <a:ext cx="2808360" cy="3456000"/>
            </a:xfrm>
            <a:prstGeom prst="rect">
              <a:avLst/>
            </a:prstGeom>
            <a:solidFill>
              <a:srgbClr val="4a66ac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8028000" y="1989000"/>
              <a:ext cx="936720" cy="3456000"/>
            </a:xfrm>
            <a:prstGeom prst="rtTriangle">
              <a:avLst/>
            </a:prstGeom>
            <a:solidFill>
              <a:srgbClr val="4a66ac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2" name="Line 11"/>
            <p:cNvSpPr/>
            <p:nvPr/>
          </p:nvSpPr>
          <p:spPr>
            <a:xfrm flipH="1">
              <a:off x="4066920" y="1989000"/>
              <a:ext cx="1152360" cy="3456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H="1">
              <a:off x="4066920" y="5445000"/>
              <a:ext cx="2305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>
              <a:off x="5219280" y="1989000"/>
              <a:ext cx="2808360" cy="3456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>
              <a:off x="5219640" y="1989000"/>
              <a:ext cx="2808360" cy="3456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6" name="Text Box 19"/>
          <p:cNvSpPr/>
          <p:nvPr/>
        </p:nvSpPr>
        <p:spPr>
          <a:xfrm>
            <a:off x="611280" y="1268280"/>
            <a:ext cx="3384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нает даже и дошкольник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Что такое треугольник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 уж вам-то как не знать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о совсем другое дело—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ыстро, точно и умел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Треугольники считат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пример, в фигуре эт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колько  разных? Рассмотри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сё внимательно исследу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 по краю, и внутри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(12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AutoShape 20">
            <a:hlinkClick r:id="rId1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AutoShape 21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AutoShape 22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9" dur="2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Если все углы прямые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И всего угла четыре.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Ну а по две стороны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Противоположны и равны,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Этот четырехугольник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Назовем …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Century Gothic"/>
              </a:rPr>
              <a:t>прямоугольник.</a:t>
            </a:r>
            <a:endParaRPr b="0" lang="en-US" sz="36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entury Gothic"/>
              </a:rPr>
              <a:t>Сосчитай: сколько 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entury Gothic"/>
              </a:rPr>
              <a:t>здесь прямоугольников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29dd1"/>
                </a:solidFill>
                <a:latin typeface="Century Gothic"/>
              </a:rPr>
              <a:t>10</a:t>
            </a:r>
            <a:endParaRPr b="0" lang="en-US" sz="3600" spc="-1" strike="noStrike">
              <a:solidFill>
                <a:srgbClr val="121429"/>
              </a:solidFill>
              <a:latin typeface="Century Gothic"/>
            </a:endParaRPr>
          </a:p>
        </p:txBody>
      </p:sp>
      <p:grpSp>
        <p:nvGrpSpPr>
          <p:cNvPr id="211" name="Group 11"/>
          <p:cNvGrpSpPr/>
          <p:nvPr/>
        </p:nvGrpSpPr>
        <p:grpSpPr>
          <a:xfrm>
            <a:off x="5796000" y="907560"/>
            <a:ext cx="3024000" cy="4969440"/>
            <a:chOff x="5796000" y="907560"/>
            <a:chExt cx="3024000" cy="4969440"/>
          </a:xfrm>
        </p:grpSpPr>
        <p:sp>
          <p:nvSpPr>
            <p:cNvPr id="212" name="Rectangle 4"/>
            <p:cNvSpPr/>
            <p:nvPr/>
          </p:nvSpPr>
          <p:spPr>
            <a:xfrm>
              <a:off x="5796000" y="907920"/>
              <a:ext cx="3024000" cy="4969080"/>
            </a:xfrm>
            <a:prstGeom prst="rect">
              <a:avLst/>
            </a:prstGeom>
            <a:solidFill>
              <a:srgbClr val="4a66ac"/>
            </a:solidFill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cxnSp>
          <p:nvCxnSpPr>
            <p:cNvPr id="213" name="AutoShape 5"/>
            <p:cNvCxnSpPr>
              <a:stCxn id="212" idx="0"/>
              <a:endCxn id="212" idx="2"/>
            </p:cNvCxnSpPr>
            <p:nvPr/>
          </p:nvCxnSpPr>
          <p:spPr>
            <a:xfrm>
              <a:off x="7308360" y="907560"/>
              <a:ext cx="1080" cy="4969800"/>
            </a:xfrm>
            <a:prstGeom prst="straightConnector1">
              <a:avLst/>
            </a:prstGeom>
            <a:ln w="57240">
              <a:solidFill>
                <a:srgbClr val="66ffff"/>
              </a:solidFill>
              <a:miter/>
            </a:ln>
          </p:spPr>
        </p:cxnSp>
        <p:sp>
          <p:nvSpPr>
            <p:cNvPr id="214" name="Line 7"/>
            <p:cNvSpPr/>
            <p:nvPr/>
          </p:nvSpPr>
          <p:spPr>
            <a:xfrm>
              <a:off x="8028000" y="907920"/>
              <a:ext cx="0" cy="49690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6516720" y="907920"/>
              <a:ext cx="0" cy="49690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16" name="AutoShape 12">
            <a:hlinkClick r:id="rId1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AutoShape 13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85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385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385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385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Две дочери, две матери, бабушка и внучка съели три банана. Сколько бананов съела каждая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По одному, т.к. это были бабушка, мать и дочь.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Батон и пачка сахара весят больше, чем батон и конфеты. Что весит больше—сахар или конфеты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Сахар 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На прямой отмечено 5 точек. Сколько получилось отрезков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29dd1"/>
                </a:solidFill>
                <a:latin typeface="Century Gothic"/>
              </a:rPr>
              <a:t>6 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Начертите три прямые линии и на каждой отметьте по три точки, но точек при этом должно быть всего 6. Как это сделать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547640" y="260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ческие упражнени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0" name="Group 43"/>
          <p:cNvGrpSpPr/>
          <p:nvPr/>
        </p:nvGrpSpPr>
        <p:grpSpPr>
          <a:xfrm>
            <a:off x="1692360" y="3933720"/>
            <a:ext cx="4249800" cy="934560"/>
            <a:chOff x="1692360" y="3933720"/>
            <a:chExt cx="4249800" cy="934560"/>
          </a:xfrm>
        </p:grpSpPr>
        <p:sp>
          <p:nvSpPr>
            <p:cNvPr id="221" name="Line 7"/>
            <p:cNvSpPr/>
            <p:nvPr/>
          </p:nvSpPr>
          <p:spPr>
            <a:xfrm>
              <a:off x="1692360" y="4365360"/>
              <a:ext cx="4249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2" name="AutoShape 8"/>
            <p:cNvSpPr/>
            <p:nvPr/>
          </p:nvSpPr>
          <p:spPr>
            <a:xfrm>
              <a:off x="1836720" y="4292280"/>
              <a:ext cx="14472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3" name="AutoShape 10"/>
            <p:cNvSpPr/>
            <p:nvPr/>
          </p:nvSpPr>
          <p:spPr>
            <a:xfrm>
              <a:off x="2700360" y="4292280"/>
              <a:ext cx="14472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3637080" y="4221000"/>
              <a:ext cx="14436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>
              <a:off x="4500720" y="4292280"/>
              <a:ext cx="14436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5437440" y="4292280"/>
              <a:ext cx="14436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7" name="AutoShape 21"/>
            <p:cNvSpPr/>
            <p:nvPr/>
          </p:nvSpPr>
          <p:spPr>
            <a:xfrm flipV="1">
              <a:off x="3781440" y="4004280"/>
              <a:ext cx="1584360" cy="863640"/>
            </a:xfrm>
            <a:custGeom>
              <a:avLst/>
              <a:gdLst>
                <a:gd name="textAreaLeft" fmla="*/ 231480 w 1584360"/>
                <a:gd name="textAreaRight" fmla="*/ 1352880 w 1584360"/>
                <a:gd name="textAreaTop" fmla="*/ 126720 h 863640"/>
                <a:gd name="textAreaBottom" fmla="*/ 7369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8" y="10643"/>
                  </a:moveTo>
                  <a:cubicBezTo>
                    <a:pt x="21513" y="4740"/>
                    <a:pt x="16703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03" y="0"/>
                    <a:pt x="21513" y="4740"/>
                    <a:pt x="21598" y="10643"/>
                  </a:cubicBezTo>
                  <a:lnTo>
                    <a:pt x="24298" y="10604"/>
                  </a:lnTo>
                  <a:lnTo>
                    <a:pt x="21637" y="13342"/>
                  </a:lnTo>
                  <a:lnTo>
                    <a:pt x="18899" y="10682"/>
                  </a:lnTo>
                  <a:lnTo>
                    <a:pt x="21598" y="10643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8" name="AutoShape 22"/>
            <p:cNvSpPr/>
            <p:nvPr/>
          </p:nvSpPr>
          <p:spPr>
            <a:xfrm flipV="1">
              <a:off x="1836720" y="4004280"/>
              <a:ext cx="1729080" cy="863640"/>
            </a:xfrm>
            <a:custGeom>
              <a:avLst/>
              <a:gdLst>
                <a:gd name="textAreaLeft" fmla="*/ 252360 w 1729080"/>
                <a:gd name="textAreaRight" fmla="*/ 1476720 w 1729080"/>
                <a:gd name="textAreaTop" fmla="*/ 126720 h 863640"/>
                <a:gd name="textAreaBottom" fmla="*/ 7369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800"/>
                  </a:move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1600" y="13500"/>
                  </a:lnTo>
                  <a:lnTo>
                    <a:pt x="18900" y="10800"/>
                  </a:lnTo>
                  <a:lnTo>
                    <a:pt x="21600" y="10800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9" name="AutoShape 26"/>
            <p:cNvSpPr/>
            <p:nvPr/>
          </p:nvSpPr>
          <p:spPr>
            <a:xfrm flipV="1">
              <a:off x="2845080" y="4291560"/>
              <a:ext cx="1584360" cy="360360"/>
            </a:xfrm>
            <a:custGeom>
              <a:avLst/>
              <a:gdLst>
                <a:gd name="textAreaLeft" fmla="*/ 231480 w 1584360"/>
                <a:gd name="textAreaRight" fmla="*/ 1352880 w 1584360"/>
                <a:gd name="textAreaTop" fmla="*/ 52200 h 360360"/>
                <a:gd name="textAreaBottom" fmla="*/ 3081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18" y="10847"/>
                  </a:moveTo>
                  <a:cubicBezTo>
                    <a:pt x="21318" y="10831"/>
                    <a:pt x="21319" y="10815"/>
                    <a:pt x="21319" y="10800"/>
                  </a:cubicBezTo>
                  <a:cubicBezTo>
                    <a:pt x="21319" y="4990"/>
                    <a:pt x="16609" y="281"/>
                    <a:pt x="10800" y="281"/>
                  </a:cubicBezTo>
                  <a:cubicBezTo>
                    <a:pt x="4990" y="281"/>
                    <a:pt x="281" y="4990"/>
                    <a:pt x="281" y="10800"/>
                  </a:cubicBezTo>
                  <a:cubicBezTo>
                    <a:pt x="280" y="10815"/>
                    <a:pt x="281" y="10831"/>
                    <a:pt x="281" y="10846"/>
                  </a:cubicBezTo>
                  <a:lnTo>
                    <a:pt x="0" y="10848"/>
                  </a:lnTo>
                  <a:cubicBezTo>
                    <a:pt x="0" y="10832"/>
                    <a:pt x="0" y="10816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16"/>
                    <a:pt x="21599" y="10832"/>
                    <a:pt x="21599" y="10849"/>
                  </a:cubicBezTo>
                  <a:lnTo>
                    <a:pt x="24299" y="10861"/>
                  </a:lnTo>
                  <a:lnTo>
                    <a:pt x="21446" y="13689"/>
                  </a:lnTo>
                  <a:lnTo>
                    <a:pt x="18618" y="10835"/>
                  </a:lnTo>
                  <a:lnTo>
                    <a:pt x="21318" y="10847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0" name="AutoShape 28"/>
            <p:cNvSpPr/>
            <p:nvPr/>
          </p:nvSpPr>
          <p:spPr>
            <a:xfrm>
              <a:off x="1836720" y="3933720"/>
              <a:ext cx="1873440" cy="287280"/>
            </a:xfrm>
            <a:custGeom>
              <a:avLst/>
              <a:gdLst>
                <a:gd name="textAreaLeft" fmla="*/ 274680 w 1873440"/>
                <a:gd name="textAreaRight" fmla="*/ 1598760 w 1873440"/>
                <a:gd name="textAreaTop" fmla="*/ 42840 h 287280"/>
                <a:gd name="textAreaBottom" fmla="*/ 244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12" y="10859"/>
                  </a:moveTo>
                  <a:cubicBezTo>
                    <a:pt x="20812" y="10839"/>
                    <a:pt x="20813" y="10819"/>
                    <a:pt x="20813" y="10800"/>
                  </a:cubicBezTo>
                  <a:cubicBezTo>
                    <a:pt x="20813" y="5269"/>
                    <a:pt x="16330" y="787"/>
                    <a:pt x="10800" y="787"/>
                  </a:cubicBezTo>
                  <a:cubicBezTo>
                    <a:pt x="5269" y="787"/>
                    <a:pt x="787" y="5269"/>
                    <a:pt x="78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21"/>
                    <a:pt x="21599" y="10843"/>
                    <a:pt x="21599" y="10864"/>
                  </a:cubicBezTo>
                  <a:lnTo>
                    <a:pt x="24299" y="10880"/>
                  </a:lnTo>
                  <a:lnTo>
                    <a:pt x="21187" y="13956"/>
                  </a:lnTo>
                  <a:lnTo>
                    <a:pt x="18112" y="10843"/>
                  </a:lnTo>
                  <a:lnTo>
                    <a:pt x="20812" y="10859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1" name="AutoShape 30"/>
            <p:cNvSpPr/>
            <p:nvPr/>
          </p:nvSpPr>
          <p:spPr>
            <a:xfrm>
              <a:off x="3708720" y="3933720"/>
              <a:ext cx="1873080" cy="288720"/>
            </a:xfrm>
            <a:custGeom>
              <a:avLst/>
              <a:gdLst>
                <a:gd name="textAreaLeft" fmla="*/ 274680 w 1873080"/>
                <a:gd name="textAreaRight" fmla="*/ 1598400 w 1873080"/>
                <a:gd name="textAreaTop" fmla="*/ 42840 h 288720"/>
                <a:gd name="textAreaBottom" fmla="*/ 24588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2" y="14945"/>
                  </a:moveTo>
                  <a:cubicBezTo>
                    <a:pt x="21318" y="13631"/>
                    <a:pt x="21600" y="122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2222"/>
                    <a:pt x="21318" y="13631"/>
                    <a:pt x="20772" y="14945"/>
                  </a:cubicBezTo>
                  <a:lnTo>
                    <a:pt x="23265" y="15982"/>
                  </a:lnTo>
                  <a:lnTo>
                    <a:pt x="19736" y="17438"/>
                  </a:lnTo>
                  <a:lnTo>
                    <a:pt x="18279" y="13909"/>
                  </a:lnTo>
                  <a:lnTo>
                    <a:pt x="20772" y="14945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32" name="Group 42"/>
          <p:cNvGrpSpPr/>
          <p:nvPr/>
        </p:nvGrpSpPr>
        <p:grpSpPr>
          <a:xfrm>
            <a:off x="1476360" y="5660640"/>
            <a:ext cx="2879640" cy="934920"/>
            <a:chOff x="1476360" y="5660640"/>
            <a:chExt cx="2879640" cy="934920"/>
          </a:xfrm>
        </p:grpSpPr>
        <p:sp>
          <p:nvSpPr>
            <p:cNvPr id="233" name="Line 31"/>
            <p:cNvSpPr/>
            <p:nvPr/>
          </p:nvSpPr>
          <p:spPr>
            <a:xfrm flipV="1">
              <a:off x="1476360" y="5660640"/>
              <a:ext cx="107964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4" name="Line 32"/>
            <p:cNvSpPr/>
            <p:nvPr/>
          </p:nvSpPr>
          <p:spPr>
            <a:xfrm>
              <a:off x="2340000" y="5661000"/>
              <a:ext cx="1871640" cy="86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 flipV="1">
              <a:off x="1476360" y="6379920"/>
              <a:ext cx="2879640" cy="7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6" name="AutoShape 34"/>
            <p:cNvSpPr/>
            <p:nvPr/>
          </p:nvSpPr>
          <p:spPr>
            <a:xfrm>
              <a:off x="1619280" y="637992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2411280" y="5661000"/>
              <a:ext cx="73080" cy="14436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8" name="AutoShape 38"/>
            <p:cNvSpPr/>
            <p:nvPr/>
          </p:nvSpPr>
          <p:spPr>
            <a:xfrm>
              <a:off x="2050920" y="594828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9" name="AutoShape 39"/>
            <p:cNvSpPr/>
            <p:nvPr/>
          </p:nvSpPr>
          <p:spPr>
            <a:xfrm>
              <a:off x="2484360" y="637992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0" name="AutoShape 40"/>
            <p:cNvSpPr/>
            <p:nvPr/>
          </p:nvSpPr>
          <p:spPr>
            <a:xfrm>
              <a:off x="3059280" y="5948280"/>
              <a:ext cx="72720" cy="144000"/>
            </a:xfrm>
            <a:custGeom>
              <a:avLst/>
              <a:gdLst>
                <a:gd name="textAreaLeft" fmla="*/ 10800 w 72720"/>
                <a:gd name="textAreaRight" fmla="*/ 61920 w 7272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3851280" y="630864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42" name="AutoShape 44">
            <a:hlinkClick r:id="rId16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AutoShape 4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Наименьшее четырёхзначное число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Знаки, которые ставятся тогда, когда надо изменить обычный порядок арифметических действий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Единица второго разряда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Мера измерения длины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ак называется значение выражения при умножении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ак называется выражение с одним неизвестным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огда можно сказать, что 1=60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В каких единицах измеряется площадь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Наименьшее чётное число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Единица третьего разряда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Мера измерения жидкости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Назовите действия первой ступени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акое действие нужно выполнить, если в задаче спрашивается, на сколько больше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огда можно сказать, что 1=1000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1042920" y="0"/>
            <a:ext cx="66978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69000"/>
                  </a:srgbClr>
                </a:solidFill>
                <a:latin typeface="Times New Roman"/>
              </a:rPr>
              <a:t>Математическая 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6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8">
            <a:hlinkClick r:id="rId2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AutoShape 9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2411280" y="620640"/>
            <a:ext cx="39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1187280" y="1413000"/>
            <a:ext cx="6337440" cy="2095200"/>
            <a:chOff x="1187280" y="1413000"/>
            <a:chExt cx="6337440" cy="2095200"/>
          </a:xfrm>
        </p:grpSpPr>
        <p:grpSp>
          <p:nvGrpSpPr>
            <p:cNvPr id="251" name="Group 8"/>
            <p:cNvGrpSpPr/>
            <p:nvPr/>
          </p:nvGrpSpPr>
          <p:grpSpPr>
            <a:xfrm>
              <a:off x="1187280" y="1413000"/>
              <a:ext cx="4989600" cy="2095200"/>
              <a:chOff x="1187280" y="1413000"/>
              <a:chExt cx="4989600" cy="2095200"/>
            </a:xfrm>
          </p:grpSpPr>
          <p:pic>
            <p:nvPicPr>
              <p:cNvPr id="252" name="Picture 5" descr="24983632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1413000"/>
                <a:ext cx="1676160" cy="20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6" descr="24983632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1413000"/>
                <a:ext cx="1676520" cy="20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7" descr="24983632"/>
              <p:cNvPicPr/>
              <p:nvPr/>
            </p:nvPicPr>
            <p:blipFill>
              <a:blip r:embed="rId6"/>
              <a:stretch/>
            </p:blipFill>
            <p:spPr>
              <a:xfrm>
                <a:off x="4500720" y="1413000"/>
                <a:ext cx="1676160" cy="2095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WordArt 9"/>
            <p:cNvSpPr txBox="1"/>
            <p:nvPr/>
          </p:nvSpPr>
          <p:spPr>
            <a:xfrm>
              <a:off x="6300720" y="1485720"/>
              <a:ext cx="1224000" cy="19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Ж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56" name="WordArt 11"/>
          <p:cNvSpPr txBox="1"/>
          <p:nvPr/>
        </p:nvSpPr>
        <p:spPr>
          <a:xfrm>
            <a:off x="1763640" y="4508640"/>
            <a:ext cx="53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lt"/>
              </a:rPr>
              <a:t>ООО</a:t>
            </a:r>
            <a:endParaRPr b="0" lang="en-US" sz="1800" spc="1" strike="noStrike">
              <a:ln w="572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57" name="WordArt 12"/>
          <p:cNvSpPr txBox="1"/>
          <p:nvPr/>
        </p:nvSpPr>
        <p:spPr>
          <a:xfrm>
            <a:off x="1258920" y="3716280"/>
            <a:ext cx="252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кота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1692360" y="6021360"/>
            <a:ext cx="143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AutoShape 14">
            <a:hlinkClick r:id="rId7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AutoShape 1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539640" y="620640"/>
            <a:ext cx="4464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Р1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5076720" y="2852640"/>
            <a:ext cx="31672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7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3" name="WordArt 6"/>
          <p:cNvSpPr txBox="1"/>
          <p:nvPr/>
        </p:nvSpPr>
        <p:spPr>
          <a:xfrm>
            <a:off x="539640" y="321300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7"/>
          <p:cNvSpPr txBox="1"/>
          <p:nvPr/>
        </p:nvSpPr>
        <p:spPr>
          <a:xfrm>
            <a:off x="4140360" y="5950080"/>
            <a:ext cx="125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AutoShape 8">
            <a:hlinkClick r:id="rId2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AutoShape 9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4"/>
          <p:cNvGrpSpPr/>
          <p:nvPr/>
        </p:nvGrpSpPr>
        <p:grpSpPr>
          <a:xfrm>
            <a:off x="755640" y="765000"/>
            <a:ext cx="3119400" cy="2714760"/>
            <a:chOff x="755640" y="765000"/>
            <a:chExt cx="3119400" cy="2714760"/>
          </a:xfrm>
        </p:grpSpPr>
        <p:sp>
          <p:nvSpPr>
            <p:cNvPr id="268" name="WordArt 5"/>
            <p:cNvSpPr txBox="1"/>
            <p:nvPr/>
          </p:nvSpPr>
          <p:spPr>
            <a:xfrm>
              <a:off x="755640" y="765000"/>
              <a:ext cx="3119400" cy="271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9" name="WordArt 8"/>
            <p:cNvSpPr txBox="1"/>
            <p:nvPr/>
          </p:nvSpPr>
          <p:spPr>
            <a:xfrm>
              <a:off x="1692360" y="1413000"/>
              <a:ext cx="136692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+mn-lt"/>
                </a:rPr>
                <a:t>7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5003640" y="3429000"/>
            <a:ext cx="3119760" cy="2714760"/>
            <a:chOff x="5003640" y="3429000"/>
            <a:chExt cx="3119760" cy="2714760"/>
          </a:xfrm>
        </p:grpSpPr>
        <p:sp>
          <p:nvSpPr>
            <p:cNvPr id="271" name="WordArt 9"/>
            <p:cNvSpPr txBox="1"/>
            <p:nvPr/>
          </p:nvSpPr>
          <p:spPr>
            <a:xfrm>
              <a:off x="5003640" y="3429000"/>
              <a:ext cx="3119760" cy="271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2" name="WordArt 10"/>
            <p:cNvSpPr txBox="1"/>
            <p:nvPr/>
          </p:nvSpPr>
          <p:spPr>
            <a:xfrm>
              <a:off x="5508720" y="3933720"/>
              <a:ext cx="1841400" cy="16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+mn-lt"/>
                </a:rPr>
                <a:t>17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273" name="WordArt 11"/>
          <p:cNvSpPr txBox="1"/>
          <p:nvPr/>
        </p:nvSpPr>
        <p:spPr>
          <a:xfrm>
            <a:off x="900000" y="35733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1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сем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3"/>
          <p:cNvSpPr txBox="1"/>
          <p:nvPr/>
        </p:nvSpPr>
        <p:spPr>
          <a:xfrm>
            <a:off x="3132000" y="5589720"/>
            <a:ext cx="2943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1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семнадца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AutoShape 16">
            <a:hlinkClick r:id="rId2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AutoShape 17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07:38Z</dcterms:created>
  <dc:creator>Антон</dc:creator>
  <dc:description/>
  <dc:language>en-US</dc:language>
  <cp:lastModifiedBy>Admin</cp:lastModifiedBy>
  <dcterms:modified xsi:type="dcterms:W3CDTF">2020-05-26T22:03:20Z</dcterms:modified>
  <cp:revision>37</cp:revision>
  <dc:subject/>
  <dc:title>Слайд 1</dc:title>
</cp:coreProperties>
</file>