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91EF-EF4D-4A27-843B-84E3052C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2F6-3F8B-4B31-B9F7-5D736DD8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17D-48FB-44CA-9A04-ECDD7DC2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F32B-584F-46BF-B465-A17B573C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E64-856B-4C88-946A-5AC68D5B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BA8-86DD-444A-BD14-EEA68993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060-0F55-4151-8272-55F7A350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FF9-70DA-493E-927F-6F377A69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3743-5747-4AFB-84B3-B855CFA1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C183-103C-435B-A769-75E760FA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59B0-8349-48BB-AAA6-A8F7D0F2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3D4-EE7D-4EAF-BFDB-02BC0243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cbad">
            <a:alpha val="3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02FA-174A-41F5-8255-7D0BD4935272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s://demiart.ru/forum/uploads15/post-6836-1405512619.png"/>
          <p:cNvPicPr/>
          <p:nvPr/>
        </p:nvPicPr>
        <p:blipFill>
          <a:blip r:embed="rId1"/>
          <a:stretch/>
        </p:blipFill>
        <p:spPr>
          <a:xfrm>
            <a:off x="395280" y="549360"/>
            <a:ext cx="83948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fs03.metod-kopilka.ru/images/doc/30/24380/img7.jpg"/>
          <p:cNvPicPr/>
          <p:nvPr/>
        </p:nvPicPr>
        <p:blipFill>
          <a:blip r:embed="rId1"/>
          <a:stretch/>
        </p:blipFill>
        <p:spPr>
          <a:xfrm>
            <a:off x="635040" y="1125360"/>
            <a:ext cx="7883640" cy="5532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рога добра состоит из …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042920" y="117360"/>
            <a:ext cx="820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Arial"/>
              </a:rPr>
              <a:t>Давайте станем чуть добре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Arial"/>
              </a:rPr>
              <a:t>Не будем злиться на друг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Arial"/>
              </a:rPr>
              <a:t>Жить с добрым сердцем весел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Arial"/>
              </a:rPr>
              <a:t>Ценить друзей, любить родн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Arial"/>
              </a:rPr>
              <a:t>Мы все зависим друг от друг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Arial"/>
              </a:rPr>
              <a:t>Плоха ли жизнь, иль хорош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Arial"/>
              </a:rPr>
              <a:t>Дождь за окном, кружит ли вью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Arial"/>
              </a:rPr>
              <a:t>С добром всегда светла душ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08000" y="1268280"/>
            <a:ext cx="9144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Arial"/>
              </a:rPr>
              <a:t>Дари добро, что так необходим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Arial"/>
              </a:rPr>
              <a:t>Ему любой безмерно будет рад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Arial"/>
              </a:rPr>
              <a:t>Не забывай, что наша жизнь взаимна И всё к тебе вернётся во сто крат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166760" y="107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39640" y="404640"/>
            <a:ext cx="7932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04040"/>
                </a:solidFill>
                <a:latin typeface="Times New Roman"/>
              </a:rPr>
              <a:t>Вспомним с вами основные составляющие понятия «добро»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166760" y="107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9640" y="404640"/>
            <a:ext cx="79329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f7f7f"/>
                </a:solidFill>
                <a:latin typeface="Times New Roman"/>
              </a:rPr>
              <a:t>Доброта</a:t>
            </a:r>
            <a:r>
              <a:rPr b="0" lang="ru-RU" sz="6600" spc="-1" strike="noStrike">
                <a:solidFill>
                  <a:srgbClr val="767171"/>
                </a:solidFill>
                <a:latin typeface="Times New Roman"/>
              </a:rPr>
              <a:t> – 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отзывчивость, душевное расположение к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людям, стремление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сделать добро другим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C:\Users\Маша\Desktop\39_donald_zolan.jpg"/>
          <p:cNvPicPr/>
          <p:nvPr/>
        </p:nvPicPr>
        <p:blipFill>
          <a:blip r:embed="rId1"/>
          <a:stretch/>
        </p:blipFill>
        <p:spPr>
          <a:xfrm>
            <a:off x="6227640" y="4516560"/>
            <a:ext cx="2927520" cy="23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826920" y="1197000"/>
            <a:ext cx="734544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7f7f7f"/>
                </a:solidFill>
                <a:latin typeface="Times New Roman"/>
              </a:rPr>
              <a:t>Доброжелатель</a:t>
            </a:r>
            <a:r>
              <a:rPr b="1" lang="en-US" sz="5000" spc="-1" strike="noStrike">
                <a:solidFill>
                  <a:srgbClr val="ed7d31"/>
                </a:solidFill>
                <a:latin typeface="Times New Roman"/>
              </a:rPr>
              <a:t> 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–человек, доброжелательно, с добротой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относящийся к кому-нибудь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611280" y="1197000"/>
            <a:ext cx="8748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7f7f7f"/>
                </a:solidFill>
                <a:latin typeface="Times New Roman"/>
              </a:rPr>
              <a:t>Добрые дела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– благие дел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7f7f7f"/>
                </a:solidFill>
                <a:latin typeface="Times New Roman"/>
              </a:rPr>
              <a:t>Благо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 – добро, польз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Users\Маша\Desktop\378f123d4ea7da53c9227555e7ffb08d.jpg"/>
          <p:cNvPicPr/>
          <p:nvPr/>
        </p:nvPicPr>
        <p:blipFill>
          <a:blip r:embed="rId1"/>
          <a:stretch/>
        </p:blipFill>
        <p:spPr>
          <a:xfrm>
            <a:off x="5540400" y="4581360"/>
            <a:ext cx="3592440" cy="22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50920" y="189000"/>
            <a:ext cx="69260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f7f7f"/>
                </a:solidFill>
                <a:latin typeface="Times New Roman"/>
              </a:rPr>
              <a:t>Творить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– дел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f7f7f"/>
                </a:solidFill>
                <a:latin typeface="Times New Roman"/>
              </a:rPr>
              <a:t>Благотворительност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– это безвозмездные действия и поступки, направленные на     общественную польз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C:\Users\Маша\Desktop\9f76fbc6fa2a8f342e7f1222fa48c72a_0.jpg"/>
          <p:cNvPicPr/>
          <p:nvPr/>
        </p:nvPicPr>
        <p:blipFill>
          <a:blip r:embed="rId1"/>
          <a:stretch/>
        </p:blipFill>
        <p:spPr>
          <a:xfrm>
            <a:off x="5794200" y="4656240"/>
            <a:ext cx="334044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ds01.infourok.ru/uploads/ex/0087/0000c3d6-f7b849b0/img3.jpg"/>
          <p:cNvPicPr/>
          <p:nvPr/>
        </p:nvPicPr>
        <p:blipFill>
          <a:blip r:embed="rId1"/>
          <a:stretch/>
        </p:blipFill>
        <p:spPr>
          <a:xfrm>
            <a:off x="971640" y="620640"/>
            <a:ext cx="731988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avatars.mds.yandex.net/get-zen_doc/1221883/pub_5c64ad32216cd900ad832d51_5c64b07fc6564a00acea5f38/scale_1200"/>
          <p:cNvPicPr/>
          <p:nvPr/>
        </p:nvPicPr>
        <p:blipFill>
          <a:blip r:embed="rId1"/>
          <a:srcRect l="6517" t="10148" r="1217" b="11595"/>
          <a:stretch/>
        </p:blipFill>
        <p:spPr>
          <a:xfrm>
            <a:off x="395280" y="765000"/>
            <a:ext cx="82738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 Евгеньевна</dc:creator>
  <dc:description/>
  <dc:language>en-US</dc:language>
  <cp:lastModifiedBy>Наталья Евгеньевна</cp:lastModifiedBy>
  <dcterms:modified xsi:type="dcterms:W3CDTF">2022-04-13T10:39:07Z</dcterms:modified>
  <cp:revision>23</cp:revision>
  <dc:subject/>
  <dc:title>PowerPoint Presentation</dc:title>
</cp:coreProperties>
</file>