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1.gif" ContentType="image/gif"/>
  <Override PartName="/ppt/media/image28.jpeg" ContentType="image/jpeg"/>
  <Override PartName="/ppt/media/image27.gif" ContentType="image/gif"/>
  <Override PartName="/ppt/media/image20.png" ContentType="image/png"/>
  <Override PartName="/ppt/media/image19.jpeg" ContentType="image/jpeg"/>
  <Override PartName="/ppt/media/image22.png" ContentType="image/png"/>
  <Override PartName="/ppt/media/image17.gif" ContentType="image/gif"/>
  <Override PartName="/ppt/media/image21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7.gif" ContentType="image/gif"/>
  <Override PartName="/ppt/media/image30.jpeg" ContentType="image/jpeg"/>
  <Override PartName="/ppt/media/image3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36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15.jpeg" ContentType="image/jpeg"/>
  <Override PartName="/ppt/media/image39.png" ContentType="image/png"/>
  <Override PartName="/ppt/media/image34.jpeg" ContentType="image/jpeg"/>
  <Override PartName="/ppt/media/image7.png" ContentType="image/png"/>
  <Override PartName="/ppt/media/image4.png" ContentType="image/png"/>
  <Override PartName="/ppt/media/image9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14.jpeg" ContentType="image/jpeg"/>
  <Override PartName="/ppt/media/image12.wmf" ContentType="image/x-wmf"/>
  <Override PartName="/ppt/media/image1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C4EE-D313-4796-8BC0-8EBE4918D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63FE-8653-4749-B903-F24E7829ADC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-4 веке до н.э. ученые пытались понять, что заставляет двигаться тела, при каких условиях тела находятся в покое. Древнегреческий ученый Аристотель утверждал : «…» Прав ли он?? Давайте посмотрим описание опыта с тележкой в вашем учебнике. (обсуждаются результаты опыта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7D9-71E2-4FFA-A258-66D13503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511-329C-41AC-AB48-3CAA8D16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CEB-6679-4275-9A9F-E1868D05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59E-0BCC-4463-81A3-98F65DDC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604-4E72-49E1-91D0-B2094448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3F4-B670-459D-805E-A3FD0275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4C1-C7B8-482B-A04D-8189376F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37F-D522-4FF7-A036-004A4279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897-170D-47DF-AAB2-8C593595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721-6ACA-479A-B33D-3B20AD9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3A4-52A5-4EB6-8C3B-B6282F6C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0A5-3777-47A3-A19F-FEBE9A3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06BB-E16B-4E0E-A1F9-2BEAEA7745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95280" y="404640"/>
            <a:ext cx="856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езентация к уроку физики (7 класс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ема урока: «Инерци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284720" y="3645000"/>
            <a:ext cx="431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Сыромятникова М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4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Д.С. Лихач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user\Desktop\22.10\рисунки\Pic_14.jpg"/>
          <p:cNvPicPr/>
          <p:nvPr/>
        </p:nvPicPr>
        <p:blipFill>
          <a:blip r:embed="rId1"/>
          <a:srcRect l="2548" t="2440" r="4265" b="11291"/>
          <a:stretch/>
        </p:blipFill>
        <p:spPr>
          <a:xfrm>
            <a:off x="611280" y="981000"/>
            <a:ext cx="755496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2F02-93B6-4735-86EC-92720AAB02F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5257800"/>
            <a:ext cx="2819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лилео Гали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564 – 164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11в"/>
          <p:cNvPicPr/>
          <p:nvPr/>
        </p:nvPicPr>
        <p:blipFill>
          <a:blip r:embed="rId1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99072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Arial"/>
              </a:rPr>
              <a:t>Как будет двигаться тело, если на него не будут действовать другие т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643920" y="3898800"/>
            <a:ext cx="5197680" cy="265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0000"/>
                </a:solidFill>
                <a:latin typeface="Times New Roman"/>
                <a:ea typeface="Arial"/>
              </a:rPr>
              <a:t>Явление сохра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0000"/>
                </a:solidFill>
                <a:latin typeface="Times New Roman"/>
                <a:ea typeface="Arial"/>
              </a:rPr>
              <a:t>скорости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0000"/>
                </a:solidFill>
                <a:latin typeface="Times New Roman"/>
                <a:ea typeface="Arial"/>
              </a:rPr>
              <a:t>при отсутствии дей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0000"/>
                </a:solidFill>
                <a:latin typeface="Times New Roman"/>
                <a:ea typeface="Arial"/>
              </a:rPr>
              <a:t>на него других т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0000"/>
                </a:solidFill>
                <a:latin typeface="Times New Roman"/>
                <a:ea typeface="Arial"/>
              </a:rPr>
              <a:t>называют </a:t>
            </a:r>
            <a:r>
              <a:rPr b="1" i="1" lang="ru-RU" sz="4000" spc="-1" strike="noStrike">
                <a:solidFill>
                  <a:srgbClr val="ea0000"/>
                </a:solidFill>
                <a:latin typeface="Times New Roman"/>
                <a:ea typeface="Arial"/>
              </a:rPr>
              <a:t>инер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581280" y="152388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cript MT Bold"/>
                <a:ea typeface="Arial"/>
              </a:rPr>
              <a:t>Экспериментально установле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Script MT Bold"/>
                <a:ea typeface="Arial"/>
              </a:rPr>
              <a:t>Если на тело не действуют другие тела,  то оно находится или в покое,  или движется прямолинейно и равномерно относительно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vori_001"/>
          <p:cNvPicPr/>
          <p:nvPr/>
        </p:nvPicPr>
        <p:blipFill>
          <a:blip r:embed="rId2"/>
          <a:stretch/>
        </p:blipFill>
        <p:spPr>
          <a:xfrm>
            <a:off x="380880" y="1600200"/>
            <a:ext cx="2855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88920" y="1052280"/>
            <a:ext cx="4537080" cy="16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Calibri"/>
              </a:rPr>
              <a:t>Ракета после выхода из пространства притяжения  Земли летит с выключенными двигателями по инерции – равномерно и прямолиней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xmm"/>
          <p:cNvPicPr/>
          <p:nvPr/>
        </p:nvPicPr>
        <p:blipFill>
          <a:blip r:embed="rId1"/>
          <a:stretch/>
        </p:blipFill>
        <p:spPr>
          <a:xfrm>
            <a:off x="250920" y="3429000"/>
            <a:ext cx="4037040" cy="2981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j0365259"/>
          <p:cNvPicPr/>
          <p:nvPr/>
        </p:nvPicPr>
        <p:blipFill>
          <a:blip r:embed="rId2"/>
          <a:stretch/>
        </p:blipFill>
        <p:spPr>
          <a:xfrm>
            <a:off x="6732720" y="1052640"/>
            <a:ext cx="202248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j0285324"/>
          <p:cNvPicPr/>
          <p:nvPr/>
        </p:nvPicPr>
        <p:blipFill>
          <a:blip r:embed="rId3"/>
          <a:stretch/>
        </p:blipFill>
        <p:spPr>
          <a:xfrm>
            <a:off x="250920" y="62064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4"/>
          <a:stretch/>
        </p:blipFill>
        <p:spPr>
          <a:xfrm>
            <a:off x="5292720" y="3429000"/>
            <a:ext cx="229716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user\Desktop\22.10\рисунки\0004-003-Inertsija.jpg"/>
          <p:cNvPicPr/>
          <p:nvPr/>
        </p:nvPicPr>
        <p:blipFill>
          <a:blip r:embed="rId1"/>
          <a:stretch/>
        </p:blipFill>
        <p:spPr>
          <a:xfrm>
            <a:off x="2050920" y="907920"/>
            <a:ext cx="5500800" cy="4537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11в"/>
          <p:cNvPicPr/>
          <p:nvPr/>
        </p:nvPicPr>
        <p:blipFill>
          <a:blip r:embed="rId2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user\Desktop\22.10\рисунки\Inertia_2.gif"/>
          <p:cNvPicPr/>
          <p:nvPr/>
        </p:nvPicPr>
        <p:blipFill>
          <a:blip r:embed="rId1"/>
          <a:stretch/>
        </p:blipFill>
        <p:spPr>
          <a:xfrm>
            <a:off x="1547640" y="1125360"/>
            <a:ext cx="5442120" cy="468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11в"/>
          <p:cNvPicPr/>
          <p:nvPr/>
        </p:nvPicPr>
        <p:blipFill>
          <a:blip r:embed="rId2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4609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79440" y="476280"/>
            <a:ext cx="8513640" cy="24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01760" y="3527280"/>
            <a:ext cx="4446360" cy="271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Users\user\Desktop\22.10\рисунки\pic_30.png"/>
          <p:cNvPicPr/>
          <p:nvPr/>
        </p:nvPicPr>
        <p:blipFill>
          <a:blip r:embed="rId3"/>
          <a:srcRect l="3556" t="3173" r="3984" b="4620"/>
          <a:stretch/>
        </p:blipFill>
        <p:spPr>
          <a:xfrm>
            <a:off x="5292720" y="3430440"/>
            <a:ext cx="2982960" cy="281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11в"/>
          <p:cNvPicPr/>
          <p:nvPr/>
        </p:nvPicPr>
        <p:blipFill>
          <a:blip r:embed="rId4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" descr=""/>
          <p:cNvPicPr/>
          <p:nvPr/>
        </p:nvPicPr>
        <p:blipFill>
          <a:blip r:embed="rId1"/>
          <a:stretch/>
        </p:blipFill>
        <p:spPr>
          <a:xfrm>
            <a:off x="674640" y="907920"/>
            <a:ext cx="8352000" cy="540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11в"/>
          <p:cNvPicPr/>
          <p:nvPr/>
        </p:nvPicPr>
        <p:blipFill>
          <a:blip r:embed="rId2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0" y="260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Зачем нужны ремни безопасно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49"/>
          <p:cNvPicPr/>
          <p:nvPr/>
        </p:nvPicPr>
        <p:blipFill>
          <a:blip r:embed="rId1"/>
          <a:stretch/>
        </p:blipFill>
        <p:spPr>
          <a:xfrm>
            <a:off x="1332000" y="1341360"/>
            <a:ext cx="655308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mb"/>
          <p:cNvPicPr/>
          <p:nvPr/>
        </p:nvPicPr>
        <p:blipFill>
          <a:blip r:embed="rId1"/>
          <a:stretch/>
        </p:blipFill>
        <p:spPr>
          <a:xfrm>
            <a:off x="179280" y="2017800"/>
            <a:ext cx="8640720" cy="24192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7"/>
          <p:cNvSpPr/>
          <p:nvPr/>
        </p:nvSpPr>
        <p:spPr>
          <a:xfrm>
            <a:off x="179280" y="189000"/>
            <a:ext cx="914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Почему мотоциклисты должны  пользоваться защитным шле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57120" y="357120"/>
            <a:ext cx="85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ое движение называется механическ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00040" y="785880"/>
            <a:ext cx="77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Механическим движением называется изменение с те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ремени положения тела относительно других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57120" y="1571760"/>
            <a:ext cx="80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иды движения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785880" y="1941480"/>
            <a:ext cx="47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Равномерное и неравноме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28760" y="257184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ое движение называют равномерным? Неравномер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108000" y="300024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вижение называют равномерным, если тело за любые ра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омежутки времени проходит равные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0" y="38577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вижение называют неравномерным, если тело за любые ра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омежутки времени проходит разные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7072200" y="4214880"/>
            <a:ext cx="857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500040" y="4786200"/>
            <a:ext cx="83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ем эти движения отличаются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785880" y="5786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-92160" y="5240160"/>
            <a:ext cx="93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и равномерном движении скорость тела остаётся постоян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 при неравномерном движении скорость тела изме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-285840" y="69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179280" y="507960"/>
            <a:ext cx="885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i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чему при  торможении автомобиля обязательно включается задний</a:t>
            </a:r>
            <a:r>
              <a:rPr b="1" i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 св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C:\Users\user\Desktop\22.10\рисунки\0003-003-Zachem-zazhigajut-pri-tormozhenii-krasnye-ogonki.jpg"/>
          <p:cNvPicPr/>
          <p:nvPr/>
        </p:nvPicPr>
        <p:blipFill>
          <a:blip r:embed="rId1"/>
          <a:srcRect l="10937" t="14037" r="29827" b="14388"/>
          <a:stretch/>
        </p:blipFill>
        <p:spPr>
          <a:xfrm>
            <a:off x="4614840" y="3554280"/>
            <a:ext cx="34290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B166-CD0D-4C87-B100-390D3AA4697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Водитель микроавтобуса, увидев стоящий на дороге автомобиль, нажал на тормоза, но не избежал столкновения. Объясните,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index"/>
          <p:cNvPicPr/>
          <p:nvPr/>
        </p:nvPicPr>
        <p:blipFill>
          <a:blip r:embed="rId1"/>
          <a:stretch/>
        </p:blipFill>
        <p:spPr>
          <a:xfrm>
            <a:off x="990720" y="1752480"/>
            <a:ext cx="73152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468360" y="33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чему необходимо закреплять грузы в кузове грузов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user\Desktop\22.10\рисунки\30549.jpg"/>
          <p:cNvPicPr/>
          <p:nvPr/>
        </p:nvPicPr>
        <p:blipFill>
          <a:blip r:embed="rId1"/>
          <a:stretch/>
        </p:blipFill>
        <p:spPr>
          <a:xfrm>
            <a:off x="1822320" y="1773360"/>
            <a:ext cx="5715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25272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6. Объясните надпись на автобус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C:\Users\user\Desktop\22.10\рисунки\0002-002-Zachem-eta-nadpis.jpg"/>
          <p:cNvPicPr/>
          <p:nvPr/>
        </p:nvPicPr>
        <p:blipFill>
          <a:blip r:embed="rId1"/>
          <a:srcRect l="5264" t="5612" r="4736" b="19769"/>
          <a:stretch/>
        </p:blipFill>
        <p:spPr>
          <a:xfrm>
            <a:off x="1908000" y="1940040"/>
            <a:ext cx="68025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C3FB-D1BD-447F-8049-C73B0160BF1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Что произойдёт с наездником, если лошадь, прыгая через препятствие, споткнёт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30057"/>
          <p:cNvPicPr/>
          <p:nvPr/>
        </p:nvPicPr>
        <p:blipFill>
          <a:blip r:embed="rId1"/>
          <a:srcRect l="1005" t="1413" r="1005" b="3532"/>
          <a:stretch/>
        </p:blipFill>
        <p:spPr>
          <a:xfrm>
            <a:off x="857160" y="1285920"/>
            <a:ext cx="6019920" cy="4419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de494a02bd1e"/>
          <p:cNvPicPr/>
          <p:nvPr/>
        </p:nvPicPr>
        <p:blipFill>
          <a:blip r:embed="rId2"/>
          <a:srcRect l="0" t="0" r="0" b="3546"/>
          <a:stretch/>
        </p:blipFill>
        <p:spPr>
          <a:xfrm>
            <a:off x="1071720" y="1285920"/>
            <a:ext cx="731520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9630-D63B-4908-B237-D693D6E423A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6. Что произойдёт, если человек 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кользнётс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2321"/>
          <p:cNvPicPr/>
          <p:nvPr/>
        </p:nvPicPr>
        <p:blipFill>
          <a:blip r:embed="rId1"/>
          <a:srcRect l="6031" t="2520" r="6031" b="0"/>
          <a:stretch/>
        </p:blipFill>
        <p:spPr>
          <a:xfrm>
            <a:off x="2895480" y="2286000"/>
            <a:ext cx="3276720" cy="289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b_936"/>
          <p:cNvPicPr/>
          <p:nvPr/>
        </p:nvPicPr>
        <p:blipFill>
          <a:blip r:embed="rId2"/>
          <a:stretch/>
        </p:blipFill>
        <p:spPr>
          <a:xfrm>
            <a:off x="2286000" y="1643040"/>
            <a:ext cx="4303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4A33-9AD3-4FC6-BE9F-489DF9BAA29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11в"/>
          <p:cNvPicPr/>
          <p:nvPr/>
        </p:nvPicPr>
        <p:blipFill>
          <a:blip r:embed="rId1"/>
          <a:stretch/>
        </p:blipFill>
        <p:spPr>
          <a:xfrm>
            <a:off x="304920" y="228600"/>
            <a:ext cx="852480" cy="10224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6"/>
          <p:cNvSpPr txBox="1"/>
          <p:nvPr/>
        </p:nvSpPr>
        <p:spPr>
          <a:xfrm>
            <a:off x="1066680" y="1143000"/>
            <a:ext cx="70106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з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 позн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кружающего м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6091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ыбери один правильный отве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Что такое инерц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. Свойство тела сохранять скор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. Явление сохранения скорости тела при отсутствии действия на него других т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. Изменение скорости тела под действием других те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Что произойдет с бруском, если резко дернуть вперёд за нит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. Упадет наза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. Упадет впере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. Останется неподвижн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В каком случае наблюдается проявление инерци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. Камень падает на дно ущел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. Пыль выбивают из ков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. Мяч отскочил от стенки после уда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е изменение произошло в движении автобуса, если пассажиры отклонились влево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бус остановил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бус повернул напра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бус повернул нале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Для чего делают разбег при прыжках в длин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. Чтобы выше подпрыгну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. Чтобы увеличить длину траектории движения те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. Чтобы набрать скорость для толч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69E5-1187-4D7C-AB4E-A7C63862AD0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88800" y="190008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18 читать, выучить определен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пр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685800" y="609480"/>
            <a:ext cx="777240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 внимание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5" descr="AN087"/>
          <p:cNvPicPr/>
          <p:nvPr/>
        </p:nvPicPr>
        <p:blipFill>
          <a:blip r:embed="rId1"/>
          <a:stretch/>
        </p:blipFill>
        <p:spPr>
          <a:xfrm>
            <a:off x="1187280" y="2924280"/>
            <a:ext cx="1920960" cy="2233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AN349"/>
          <p:cNvPicPr/>
          <p:nvPr/>
        </p:nvPicPr>
        <p:blipFill>
          <a:blip r:embed="rId2"/>
          <a:stretch/>
        </p:blipFill>
        <p:spPr>
          <a:xfrm>
            <a:off x="5580000" y="3789360"/>
            <a:ext cx="2249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нерц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Изучить явление - инер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Задачи: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Научить находить в окружающем мире примеры проявления инерции и объяснять их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user\Desktop\22.10\рисунки\611378575.jpg"/>
          <p:cNvPicPr/>
          <p:nvPr/>
        </p:nvPicPr>
        <p:blipFill>
          <a:blip r:embed="rId2"/>
          <a:stretch/>
        </p:blipFill>
        <p:spPr>
          <a:xfrm>
            <a:off x="-387360" y="-458640"/>
            <a:ext cx="96678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5D2F-665D-4EB4-A401-AF262250D19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На какие вопросы должны получить ответы на урок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жет ли тело, находящееся в относительном покое, само собой изменить скоро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 можно изменить скорость движения те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 изменить направление движения те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 каких условиях  скорость движения тела не изменяе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11в"/>
          <p:cNvPicPr/>
          <p:nvPr/>
        </p:nvPicPr>
        <p:blipFill>
          <a:blip r:embed="rId1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1B8F-4708-40D6-851D-4E27BE089DC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Как можно изменить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 скорость тел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01440" y="3608280"/>
            <a:ext cx="7342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корость тела изменяется, если на него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действуют другие тела!!!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11в"/>
          <p:cNvPicPr/>
          <p:nvPr/>
        </p:nvPicPr>
        <p:blipFill>
          <a:blip r:embed="rId1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Image6"/>
          <p:cNvPicPr/>
          <p:nvPr/>
        </p:nvPicPr>
        <p:blipFill>
          <a:blip r:embed="rId2"/>
          <a:srcRect l="7559" t="0" r="13605" b="6299"/>
          <a:stretch/>
        </p:blipFill>
        <p:spPr>
          <a:xfrm>
            <a:off x="7020000" y="885960"/>
            <a:ext cx="187776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1"/>
          <p:cNvPicPr/>
          <p:nvPr/>
        </p:nvPicPr>
        <p:blipFill>
          <a:blip r:embed="rId3"/>
          <a:srcRect l="0" t="0" r="0" b="17921"/>
          <a:stretch/>
        </p:blipFill>
        <p:spPr>
          <a:xfrm>
            <a:off x="1801800" y="1484280"/>
            <a:ext cx="3370320" cy="179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1" descr="06e-i3"/>
          <p:cNvPicPr/>
          <p:nvPr/>
        </p:nvPicPr>
        <p:blipFill>
          <a:blip r:embed="rId4"/>
          <a:srcRect l="56274" t="0" r="0" b="0"/>
          <a:stretch/>
        </p:blipFill>
        <p:spPr>
          <a:xfrm>
            <a:off x="184320" y="1484280"/>
            <a:ext cx="1371600" cy="177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06e-i3"/>
          <p:cNvPicPr/>
          <p:nvPr/>
        </p:nvPicPr>
        <p:blipFill>
          <a:blip r:embed="rId5"/>
          <a:srcRect l="0" t="15119" r="73398" b="0"/>
          <a:stretch/>
        </p:blipFill>
        <p:spPr>
          <a:xfrm>
            <a:off x="406440" y="3716280"/>
            <a:ext cx="1395360" cy="2525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Image24"/>
          <p:cNvPicPr/>
          <p:nvPr/>
        </p:nvPicPr>
        <p:blipFill>
          <a:blip r:embed="rId6"/>
          <a:srcRect l="0" t="4995" r="9754" b="4995"/>
          <a:stretch/>
        </p:blipFill>
        <p:spPr>
          <a:xfrm>
            <a:off x="5172120" y="1276200"/>
            <a:ext cx="165888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5D88-3611-48C6-9788-F58B157E879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Как можно изменить</a:t>
            </a: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 направление скорости те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9880" y="4038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правление скорости тела изменяется, если на него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действуют другие тел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11в"/>
          <p:cNvPicPr/>
          <p:nvPr/>
        </p:nvPicPr>
        <p:blipFill>
          <a:blip r:embed="rId1"/>
          <a:stretch/>
        </p:blipFill>
        <p:spPr>
          <a:xfrm>
            <a:off x="152280" y="152280"/>
            <a:ext cx="852480" cy="1022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p20"/>
          <p:cNvPicPr/>
          <p:nvPr/>
        </p:nvPicPr>
        <p:blipFill>
          <a:blip r:embed="rId2"/>
          <a:stretch/>
        </p:blipFill>
        <p:spPr>
          <a:xfrm>
            <a:off x="4191120" y="1447920"/>
            <a:ext cx="4038480" cy="258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lip_image005563"/>
          <p:cNvPicPr/>
          <p:nvPr/>
        </p:nvPicPr>
        <p:blipFill>
          <a:blip r:embed="rId3"/>
          <a:stretch/>
        </p:blipFill>
        <p:spPr>
          <a:xfrm>
            <a:off x="609480" y="4114800"/>
            <a:ext cx="3429000" cy="22050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8"/>
          <p:cNvSpPr/>
          <p:nvPr/>
        </p:nvSpPr>
        <p:spPr>
          <a:xfrm>
            <a:off x="762120" y="44956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762120" y="49528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62120" y="54100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P1070155"/>
          <p:cNvPicPr/>
          <p:nvPr/>
        </p:nvPicPr>
        <p:blipFill>
          <a:blip r:embed="rId4"/>
          <a:stretch/>
        </p:blipFill>
        <p:spPr>
          <a:xfrm>
            <a:off x="609480" y="14479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3"/>
          <p:cNvSpPr/>
          <p:nvPr/>
        </p:nvSpPr>
        <p:spPr>
          <a:xfrm rot="2736600">
            <a:off x="1905120" y="335196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219280" y="5589360"/>
            <a:ext cx="34671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ристо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384 - 322 г. до н. э.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249518943_tonnel"/>
          <p:cNvPicPr/>
          <p:nvPr/>
        </p:nvPicPr>
        <p:blipFill>
          <a:blip r:embed="rId1"/>
          <a:stretch/>
        </p:blipFill>
        <p:spPr>
          <a:xfrm>
            <a:off x="5076720" y="620640"/>
            <a:ext cx="3683160" cy="4824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611280" y="1009800"/>
            <a:ext cx="41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«Всё, что находится в движении, движется благодаря воздействию другого. Без действия нет движ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2700360" y="4005360"/>
            <a:ext cx="1655640" cy="24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user\Desktop\22.10\рисунки\0007-007-Inertsija-7-klass-fizika.jpg"/>
          <p:cNvPicPr/>
          <p:nvPr/>
        </p:nvPicPr>
        <p:blipFill>
          <a:blip r:embed="rId1"/>
          <a:srcRect l="5614" t="31113" r="4035" b="31932"/>
          <a:stretch/>
        </p:blipFill>
        <p:spPr>
          <a:xfrm>
            <a:off x="395280" y="333360"/>
            <a:ext cx="8261280" cy="253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user\Desktop\22.10\рисунки\0009-009-Inertsija-7-klass-fizika.jpg"/>
          <p:cNvPicPr/>
          <p:nvPr/>
        </p:nvPicPr>
        <p:blipFill>
          <a:blip r:embed="rId2"/>
          <a:srcRect l="4327" t="32751" r="3508" b="36378"/>
          <a:stretch/>
        </p:blipFill>
        <p:spPr>
          <a:xfrm>
            <a:off x="312840" y="3860640"/>
            <a:ext cx="842796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3360" y="334800"/>
            <a:ext cx="9080640" cy="54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0:44:14Z</dcterms:created>
  <dc:creator>admin</dc:creator>
  <dc:description/>
  <dc:language>en-US</dc:language>
  <cp:lastModifiedBy>user</cp:lastModifiedBy>
  <dcterms:modified xsi:type="dcterms:W3CDTF">2022-04-12T09:38:16Z</dcterms:modified>
  <cp:revision>132</cp:revision>
  <dc:subject/>
  <dc:title>Инерция Урок физики в 7 классе</dc:title>
</cp:coreProperties>
</file>