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25.png" ContentType="image/png"/>
  <Override PartName="/ppt/media/image17.jpeg" ContentType="image/jpeg"/>
  <Override PartName="/ppt/media/image11.jpeg" ContentType="image/jpeg"/>
  <Override PartName="/ppt/media/image36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35.jpeg" ContentType="image/jpeg"/>
  <Override PartName="/ppt/media/image13.jpeg" ContentType="image/jpeg"/>
  <Override PartName="/ppt/media/image20.gif" ContentType="image/gif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32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12.jpeg" ContentType="image/jpeg"/>
  <Override PartName="/ppt/media/image4.wmf" ContentType="image/x-wmf"/>
  <Override PartName="/ppt/media/image1.png" ContentType="image/png"/>
  <Override PartName="/ppt/media/image14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F72A-D609-4E0A-8213-C0F58D8E8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7C44-4004-4961-A4C5-0F5F749B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6DDF-5096-42B2-976C-7D276F1DF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FF8E-F083-4061-A705-DE408D5E7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F017-995D-4219-8C63-4ADF9DC9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CE56-29C7-43A0-8EB6-01164248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984F-8CC3-4A9A-99C7-A63C73BE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5097-6B98-41E1-B123-7EB9897E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75A1-C124-4842-B218-D46C69D5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2F52-A3F2-4A77-A1C3-BBEE142C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79F3-6AD5-4A6D-A2FE-FB158F54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1696-1642-49BD-A6F7-5EF2B8BC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0FE8-9D31-4B8A-BFC6-BBFA5A787C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cosmoworld.ru/mirstation/photos/mir_pic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h-cosmos.ru/planet/saturn.htm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468360" y="836640"/>
            <a:ext cx="8136000" cy="49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2 апрел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ень Космонавтик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4356000" y="544500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зарова Наталья Геннад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питатель ГП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БОУ СОШ №578 СП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 Константин Эдуардович Циолковский "/>
          <p:cNvPicPr/>
          <p:nvPr/>
        </p:nvPicPr>
        <p:blipFill>
          <a:blip r:embed="rId1"/>
          <a:stretch/>
        </p:blipFill>
        <p:spPr>
          <a:xfrm>
            <a:off x="2627280" y="115920"/>
            <a:ext cx="3960720" cy="5040360"/>
          </a:xfrm>
          <a:prstGeom prst="rect">
            <a:avLst/>
          </a:prstGeom>
          <a:ln w="0">
            <a:noFill/>
          </a:ln>
        </p:spPr>
      </p:pic>
      <p:sp>
        <p:nvSpPr>
          <p:cNvPr id="71" name="WordArt 6"/>
          <p:cNvSpPr txBox="1"/>
          <p:nvPr/>
        </p:nvSpPr>
        <p:spPr>
          <a:xfrm>
            <a:off x="755640" y="1628640"/>
            <a:ext cx="77040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 России основоположнико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осмонавтики стал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72" name="WordArt 7"/>
          <p:cNvSpPr txBox="1"/>
          <p:nvPr/>
        </p:nvSpPr>
        <p:spPr>
          <a:xfrm>
            <a:off x="1476360" y="5229360"/>
            <a:ext cx="6337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нстантин Эдуардович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иолковский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 rot="10800000"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830600" y="479520"/>
            <a:ext cx="5785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В Калуге под Моск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Учитель жил один прос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Всю жизнь о космосе меч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Сам нужные науки изуч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Провёл огромную раб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И начал создав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Теорию космических полё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12 апреля 1961 года. Стартует ракета с первым космонавтом планеты на борту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9"/>
          <p:cNvSpPr/>
          <p:nvPr/>
        </p:nvSpPr>
        <p:spPr>
          <a:xfrm>
            <a:off x="1478880" y="1125360"/>
            <a:ext cx="6698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Он гений был, и в наши д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О Циолковск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омнить мы должны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Первый космонавт планеты с Главным конструктором после полета"/>
          <p:cNvPicPr/>
          <p:nvPr/>
        </p:nvPicPr>
        <p:blipFill>
          <a:blip r:embed="rId1"/>
          <a:stretch/>
        </p:blipFill>
        <p:spPr>
          <a:xfrm>
            <a:off x="1403280" y="0"/>
            <a:ext cx="608508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WordArt 5"/>
          <p:cNvSpPr txBox="1"/>
          <p:nvPr/>
        </p:nvSpPr>
        <p:spPr>
          <a:xfrm>
            <a:off x="684360" y="765000"/>
            <a:ext cx="785484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Достойным продолжателем иде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Циолковского ста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80" name="WordArt 6"/>
          <p:cNvSpPr txBox="1"/>
          <p:nvPr/>
        </p:nvSpPr>
        <p:spPr>
          <a:xfrm>
            <a:off x="3780000" y="4508640"/>
            <a:ext cx="5040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ергей Павлович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оролё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Первый искусственный спутник Земли - советский!"/>
          <p:cNvPicPr/>
          <p:nvPr/>
        </p:nvPicPr>
        <p:blipFill>
          <a:blip r:embed="rId1"/>
          <a:stretch/>
        </p:blipFill>
        <p:spPr>
          <a:xfrm rot="1012200">
            <a:off x="1042560" y="404280"/>
            <a:ext cx="3151080" cy="45356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2621520" y="2781360"/>
            <a:ext cx="6525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4 октября 1957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был запуще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пер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искусственный спутник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Этот день счит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началом космической э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Таким был жилой отсек космической собаки"/>
          <p:cNvPicPr/>
          <p:nvPr/>
        </p:nvPicPr>
        <p:blipFill>
          <a:blip r:embed="rId2"/>
          <a:stretch/>
        </p:blipFill>
        <p:spPr>
          <a:xfrm>
            <a:off x="6159600" y="0"/>
            <a:ext cx="2984400" cy="5805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http://tmn.fio.ru/works/15x/305/dog.gif"/>
          <p:cNvPicPr/>
          <p:nvPr/>
        </p:nvPicPr>
        <p:blipFill>
          <a:blip r:embed="rId3"/>
          <a:stretch/>
        </p:blipFill>
        <p:spPr>
          <a:xfrm>
            <a:off x="4211640" y="5013360"/>
            <a:ext cx="2873520" cy="1704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Второй искусственный спутник земли с собакой на борту"/>
          <p:cNvPicPr/>
          <p:nvPr/>
        </p:nvPicPr>
        <p:blipFill>
          <a:blip r:embed="rId4"/>
          <a:stretch/>
        </p:blipFill>
        <p:spPr>
          <a:xfrm>
            <a:off x="0" y="0"/>
            <a:ext cx="35244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0"/>
          <p:cNvSpPr/>
          <p:nvPr/>
        </p:nvSpPr>
        <p:spPr>
          <a:xfrm>
            <a:off x="3851280" y="333360"/>
            <a:ext cx="1898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3 ноябр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1957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запуще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втор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спут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в каби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котор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бы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соб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Лай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Первые секунды полета ракеты-носителя Протон"/>
          <p:cNvPicPr/>
          <p:nvPr/>
        </p:nvPicPr>
        <p:blipFill>
          <a:blip r:embed="rId1"/>
          <a:stretch/>
        </p:blipFill>
        <p:spPr>
          <a:xfrm>
            <a:off x="-396720" y="0"/>
            <a:ext cx="318276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1949760" y="981000"/>
            <a:ext cx="7200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кто построил первую ракет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знаете об эт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тор, академик Королё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полёту первый спутник был го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инувшем ве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ятьдесят седьмом г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полетел благодаря тру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торов, ракетчиков, рабоч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был он первым в ми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проч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http://space.rin.ru/pict/medium/492_g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Луна-9"/>
          <p:cNvPicPr/>
          <p:nvPr/>
        </p:nvPicPr>
        <p:blipFill>
          <a:blip r:embed="rId2"/>
          <a:stretch/>
        </p:blipFill>
        <p:spPr>
          <a:xfrm>
            <a:off x="0" y="0"/>
            <a:ext cx="3132000" cy="1963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i_salyut"/>
          <p:cNvPicPr/>
          <p:nvPr/>
        </p:nvPicPr>
        <p:blipFill>
          <a:blip r:embed="rId3"/>
          <a:stretch/>
        </p:blipFill>
        <p:spPr>
          <a:xfrm>
            <a:off x="0" y="4761000"/>
            <a:ext cx="2627280" cy="2097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0"/>
          <p:cNvSpPr/>
          <p:nvPr/>
        </p:nvSpPr>
        <p:spPr>
          <a:xfrm>
            <a:off x="1451160" y="2228760"/>
            <a:ext cx="636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Осваивая и изуч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космическое простран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учёные отправляли спут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на Луну, на Марс, на Вене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Луноход-1"/>
          <p:cNvPicPr/>
          <p:nvPr/>
        </p:nvPicPr>
        <p:blipFill>
          <a:blip r:embed="rId4"/>
          <a:stretch/>
        </p:blipFill>
        <p:spPr>
          <a:xfrm>
            <a:off x="6516720" y="0"/>
            <a:ext cx="2627280" cy="2481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Луна-3"/>
          <p:cNvPicPr/>
          <p:nvPr/>
        </p:nvPicPr>
        <p:blipFill>
          <a:blip r:embed="rId5"/>
          <a:stretch/>
        </p:blipFill>
        <p:spPr>
          <a:xfrm>
            <a:off x="6084720" y="4635360"/>
            <a:ext cx="305928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Один из первых снимков Земли, сделанных космонавтом с орбит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WordArt 5"/>
          <p:cNvSpPr txBox="1"/>
          <p:nvPr/>
        </p:nvSpPr>
        <p:spPr>
          <a:xfrm>
            <a:off x="395280" y="1341360"/>
            <a:ext cx="8255160" cy="352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ного узнали земляне о космосе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 перед учёными встал вопрос -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 человек сможет подняться в космос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gagarin_2_09"/>
          <p:cNvPicPr/>
          <p:nvPr/>
        </p:nvPicPr>
        <p:blipFill>
          <a:blip r:embed="rId1"/>
          <a:stretch/>
        </p:blipFill>
        <p:spPr>
          <a:xfrm>
            <a:off x="0" y="189000"/>
            <a:ext cx="4938840" cy="63817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4927680" y="957240"/>
            <a:ext cx="4079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Через четыре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Новый был успех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Поднялся в космо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Первый челов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Гагарин Юр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Выполнил пол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Вокруг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Наш облетел пил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Благополуч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Завершил ви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Космический кораб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«Восто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686520" y="1052640"/>
            <a:ext cx="78235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Вот почему именно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12 апрел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вся наша стран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отмечает праздн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День космонавти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5"/>
          <p:cNvSpPr/>
          <p:nvPr/>
        </p:nvSpPr>
        <p:spPr>
          <a:xfrm>
            <a:off x="5292720" y="189000"/>
            <a:ext cx="367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очем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2 апр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мы отмеча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космонавти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1187280" y="1844640"/>
            <a:ext cx="6721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Юрий Алексеевич Гагари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ткрыл дверь в косм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 ним в космос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бывали другие космонав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етали они туда не на прогул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ам они работ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ASTRNAUT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05" name="WordArt 5"/>
          <p:cNvSpPr txBox="1"/>
          <p:nvPr/>
        </p:nvSpPr>
        <p:spPr>
          <a:xfrm>
            <a:off x="250920" y="189000"/>
            <a:ext cx="3816360" cy="33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Титов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опович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Николае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Быковск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06" name="WordArt 6"/>
          <p:cNvSpPr txBox="1"/>
          <p:nvPr/>
        </p:nvSpPr>
        <p:spPr>
          <a:xfrm>
            <a:off x="4211640" y="4653000"/>
            <a:ext cx="47293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После Гагари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слетали в космос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indefinite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4"/>
          <p:cNvSpPr txBox="1"/>
          <p:nvPr/>
        </p:nvSpPr>
        <p:spPr>
          <a:xfrm>
            <a:off x="250920" y="2133720"/>
            <a:ext cx="8569080" cy="156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Всё больше космонавтов новых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108" name="WordArt 5"/>
          <p:cNvSpPr txBox="1"/>
          <p:nvPr/>
        </p:nvSpPr>
        <p:spPr>
          <a:xfrm>
            <a:off x="3492360" y="2708280"/>
            <a:ext cx="5465880" cy="39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66ff"/>
                </a:solidFill>
                <a:latin typeface="Arial"/>
              </a:rPr>
              <a:t>и Валенти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66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66ff"/>
                </a:solidFill>
                <a:latin typeface="Arial"/>
              </a:rPr>
              <a:t>Терешко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66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66ff"/>
                </a:solidFill>
                <a:latin typeface="Arial"/>
              </a:rPr>
              <a:t>Была сред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66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66ff"/>
                </a:solidFill>
                <a:latin typeface="Arial"/>
              </a:rPr>
              <a:t>первых космонавтов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66ff"/>
              </a:solidFill>
              <a:latin typeface="Arial"/>
              <a:ea typeface="Arial"/>
            </a:endParaRPr>
          </a:p>
        </p:txBody>
      </p:sp>
      <p:pic>
        <p:nvPicPr>
          <p:cNvPr id="109" name="Picture 6" descr="http://tmn.fio.ru/works/15x/305/genshi2.jpg"/>
          <p:cNvPicPr/>
          <p:nvPr/>
        </p:nvPicPr>
        <p:blipFill>
          <a:blip r:embed="rId1"/>
          <a:stretch/>
        </p:blipFill>
        <p:spPr>
          <a:xfrm>
            <a:off x="250920" y="333360"/>
            <a:ext cx="295272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7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STS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6"/>
          <p:cNvSpPr txBox="1"/>
          <p:nvPr/>
        </p:nvSpPr>
        <p:spPr>
          <a:xfrm>
            <a:off x="971640" y="1125360"/>
            <a:ext cx="7345440" cy="283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Прибавьте множеств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американских астронавтов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indefinite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323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WordArt 5"/>
          <p:cNvSpPr txBox="1"/>
          <p:nvPr/>
        </p:nvSpPr>
        <p:spPr>
          <a:xfrm>
            <a:off x="468360" y="404640"/>
            <a:ext cx="8136000" cy="547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Но неудачи иногда бывали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И космонавты погибали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Так храбрый Комар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сгорел при спуске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В другой же ра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от перегруз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открылся клапан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115" name="WordArt 6"/>
          <p:cNvSpPr txBox="1"/>
          <p:nvPr/>
        </p:nvSpPr>
        <p:spPr>
          <a:xfrm>
            <a:off x="395280" y="476280"/>
            <a:ext cx="8532720" cy="54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</a:rPr>
              <a:t>Космонавт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</a:rPr>
              <a:t>Добровольский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</a:rPr>
              <a:t>Пацаев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</a:rPr>
              <a:t>Волк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</a:rPr>
              <a:t>погибли в шаре вс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</a:rPr>
              <a:t>геройски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Arial"/>
              <a:ea typeface="Arial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3780000" y="2276640"/>
            <a:ext cx="1726920" cy="1441440"/>
          </a:xfrm>
          <a:custGeom>
            <a:avLst/>
            <a:gdLst/>
            <a:ahLst/>
            <a:rect l="l" t="t" r="r" b="b"/>
            <a:pathLst>
              <a:path w="1727200" h="1441450">
                <a:moveTo>
                  <a:pt x="2" y="550584"/>
                </a:moveTo>
                <a:lnTo>
                  <a:pt x="659735" y="550587"/>
                </a:lnTo>
                <a:lnTo>
                  <a:pt x="863600" y="0"/>
                </a:lnTo>
                <a:lnTo>
                  <a:pt x="1067465" y="550587"/>
                </a:lnTo>
                <a:lnTo>
                  <a:pt x="1727198" y="550584"/>
                </a:lnTo>
                <a:lnTo>
                  <a:pt x="1193460" y="890861"/>
                </a:lnTo>
                <a:lnTo>
                  <a:pt x="1397333" y="1441446"/>
                </a:lnTo>
                <a:lnTo>
                  <a:pt x="863600" y="1101162"/>
                </a:lnTo>
                <a:lnTo>
                  <a:pt x="329867" y="1441446"/>
                </a:lnTo>
                <a:lnTo>
                  <a:pt x="533740" y="890861"/>
                </a:lnTo>
                <a:lnTo>
                  <a:pt x="2" y="55058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7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8" dur="5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6" dur="2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SU27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110880" y="836640"/>
            <a:ext cx="9039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вые космонав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ыли лётчи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том работу в космосе продолж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рач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структ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ейчас космос зовёт те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то умеет управля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лектронно-вычислительными машинам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лавить мета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водить монтажные работы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8" dur="5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3230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473400" y="4221000"/>
            <a:ext cx="826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Чтобы космонавтом ста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Здоровьем крепким надо облад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И образ жизни правильный вест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И подготовку долгую прой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Легендарная орбитальная станция Ми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5"/>
          <p:cNvSpPr txBox="1"/>
          <p:nvPr/>
        </p:nvSpPr>
        <p:spPr>
          <a:xfrm>
            <a:off x="324000" y="836640"/>
            <a:ext cx="86407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 только после многих испыта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ы космонавтом станешь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EART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255960" y="1484280"/>
            <a:ext cx="864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Конечно, каждый может захоте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Из космоса на Землю посмотре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Но хватит ли терпения и си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Лишь тот, кто храбро всё переносил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Отправился в космический полё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Вперёд, ребята, космос нас зовёт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indefinite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3" descr="Фотоснимок Земли, сделанный станцией Зонд-7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WordArt 14"/>
          <p:cNvSpPr txBox="1"/>
          <p:nvPr/>
        </p:nvSpPr>
        <p:spPr>
          <a:xfrm>
            <a:off x="4859280" y="333360"/>
            <a:ext cx="3968640" cy="597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огда мы вырастем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то в космос полетим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ну а по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ы рассказать хоти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 людях тех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умелых и отважных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что покорили космо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48" name="Picture 15" descr="TN00014_"/>
          <p:cNvPicPr/>
          <p:nvPr/>
        </p:nvPicPr>
        <p:blipFill>
          <a:blip r:embed="rId2"/>
          <a:stretch/>
        </p:blipFill>
        <p:spPr>
          <a:xfrm>
            <a:off x="0" y="6151680"/>
            <a:ext cx="530280" cy="706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" descr="TN00018_"/>
          <p:cNvPicPr/>
          <p:nvPr/>
        </p:nvPicPr>
        <p:blipFill>
          <a:blip r:embed="rId3"/>
          <a:stretch/>
        </p:blipFill>
        <p:spPr>
          <a:xfrm>
            <a:off x="0" y="0"/>
            <a:ext cx="1211400" cy="730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7"/>
          <p:cNvSpPr/>
          <p:nvPr/>
        </p:nvSpPr>
        <p:spPr>
          <a:xfrm>
            <a:off x="5435640" y="836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785 -0.07032 C 0.10469 -0.18089 0.1717 -0.29146 0.23229 -0.38954 C 0.29289 -0.48762 0.37657 -0.58709 0.40174 -0.65834 C 0.42691 -0.72982 0.39775 -0.77839 0.38351 -0.81841 C 0.36945 -0.85774 0.3415 -0.88156 0.31702 -0.89614 C 0.29236 -0.91071 0.2592 -0.90701 0.23698 -0.90562 C 0.21459 -0.90423 0.20052 -0.90238 0.18316 -0.88827 C 0.16598 -0.87439 0.14653 -0.85057 0.13386 -0.82281 C 0.12118 -0.79482 0.10851 -0.75804 0.10747 -0.72103 C 0.1066 -0.68401 0.11198 -0.63382 0.12813 -0.60074 C 0.14427 -0.56766 0.17865 -0.53759 0.20486 -0.52278 C 0.23108 -0.50775 0.25851 -0.50428 0.2849 -0.51029 C 0.31146 -0.51654 0.34358 -0.5399 0.36389 -0.55979 C 0.38438 -0.58015 0.39271 -0.59449 0.40747 -0.63035 C 0.42223 -0.66597 0.44323 -0.73398 0.4533 -0.77423 C 0.46337 -0.81471 0.46667 -0.84663 0.46823 -0.87277 C 0.46962 -0.89914 0.4632 -0.91973 0.4625 -0.93222 C 0.46181 -0.94471 0.46337 -0.94541 0.46354 -0.94772 E">
                                      <p:cBhvr>
                                        <p:cTn id="27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7728E-006 C -0.0224 0.05112 -0.04462 0.10224 -0.04583 0.16632 C -0.04705 0.2304 -0.04375 0.31159 -0.00712 0.38399 C 0.02951 0.4564 0.1099 0.56581 0.17413 0.60051 C 0.23837 0.63498 0.34219 0.61531 0.37882 0.59103 C 0.41545 0.56651 0.42899 0.4786 0.3941 0.45455 C 0.3592 0.43049 0.23177 0.45848 0.16944 0.44691 C 0.10712 0.43488 0.04757 0.41985 0.01996 0.38399 C -0.00764 0.34814 -0.01372 0.2496 0.00347 0.23202 C 0.02049 0.2142 0.06875 0.25538 0.12361 0.27759 C 0.17847 0.29956 0.28472 0.3981 0.33299 0.36364 C 0.38125 0.32917 0.42257 0.13856 0.41302 0.07055 C 0.40347 0.00254 0.32083 -0.02544 0.27535 -0.04372 C 0.22986 -0.06199 0.17812 -0.06755 0.13993 -0.03909 C 0.10174 -0.01064 0.05799 0.05251 0.04583 0.127 C 0.03368 0.20102 0.04184 0.32015 0.06701 0.40597 C 0.09219 0.49156 0.15 0.56003 0.19653 0.64122 C 0.24305 0.72242 0.32118 0.85172 0.34583 0.89359 E">
                                      <p:cBhvr>
                                        <p:cTn id="38" dur="5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схема карта солнечной системы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5"/>
          <p:cNvSpPr/>
          <p:nvPr/>
        </p:nvSpPr>
        <p:spPr>
          <a:xfrm>
            <a:off x="4500720" y="1052640"/>
            <a:ext cx="4319280" cy="1368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160f2"/>
              </a:gs>
              <a:gs pos="50000">
                <a:srgbClr val="ffffff"/>
              </a:gs>
              <a:gs pos="100000">
                <a:srgbClr val="7160f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http://tmn.fio.ru/works/15x/305/03/3.jpg"/>
          <p:cNvPicPr/>
          <p:nvPr/>
        </p:nvPicPr>
        <p:blipFill>
          <a:blip r:embed="rId1"/>
          <a:stretch/>
        </p:blipFill>
        <p:spPr>
          <a:xfrm>
            <a:off x="0" y="0"/>
            <a:ext cx="4788000" cy="359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Орбитальная станция Мир, 35 кб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27640" y="3573360"/>
            <a:ext cx="4716360" cy="3284640"/>
          </a:xfrm>
          <a:prstGeom prst="rect">
            <a:avLst/>
          </a:prstGeom>
          <a:ln w="0">
            <a:noFill/>
          </a:ln>
        </p:spPr>
      </p:pic>
      <p:sp>
        <p:nvSpPr>
          <p:cNvPr id="54" name="WordArt 10"/>
          <p:cNvSpPr txBox="1"/>
          <p:nvPr/>
        </p:nvSpPr>
        <p:spPr>
          <a:xfrm>
            <a:off x="5148360" y="620640"/>
            <a:ext cx="374472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чень важ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не забыва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мён их 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55" name="WordArt 11"/>
          <p:cNvSpPr txBox="1"/>
          <p:nvPr/>
        </p:nvSpPr>
        <p:spPr>
          <a:xfrm>
            <a:off x="179280" y="4221000"/>
            <a:ext cx="4176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latin typeface="Arial"/>
              </a:rPr>
              <a:t>Всех космонавтов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latin typeface="Arial"/>
              </a:rPr>
              <a:t>и учёных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99"/>
              </a:solidFill>
              <a:latin typeface="Arial"/>
              <a:ea typeface="Arial"/>
            </a:endParaRPr>
          </a:p>
        </p:txBody>
      </p:sp>
      <p:sp>
        <p:nvSpPr>
          <p:cNvPr id="56" name="WordArt 12"/>
          <p:cNvSpPr txBox="1"/>
          <p:nvPr/>
        </p:nvSpPr>
        <p:spPr>
          <a:xfrm>
            <a:off x="5076720" y="692280"/>
            <a:ext cx="388620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Которые закон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нужные открыл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57" name="WordArt 13"/>
          <p:cNvSpPr txBox="1"/>
          <p:nvPr/>
        </p:nvSpPr>
        <p:spPr>
          <a:xfrm>
            <a:off x="108000" y="3860640"/>
            <a:ext cx="417672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 нам дорог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 космо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оложил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 Сатурн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1692360" y="5667480"/>
            <a:ext cx="56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давних времён загадочный мир планет и звёз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тягивал к себе  внимание люд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нил их своей таинственностью и красо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Один из первых снимков Земли, сделанных космонавтом с орбит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WordArt 5"/>
          <p:cNvSpPr txBox="1"/>
          <p:nvPr/>
        </p:nvSpPr>
        <p:spPr>
          <a:xfrm>
            <a:off x="5435640" y="4543560"/>
            <a:ext cx="347652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Раньше, давным-давно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когда люд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только начали узнавать Землю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ни представляли её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еревёрнутой чашей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которая покоитс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на трёх гигантских слонах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ажно стоящи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на панцире огромной че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1110-2.jpg"/>
          <p:cNvPicPr/>
          <p:nvPr/>
        </p:nvPicPr>
        <p:blipFill>
          <a:blip r:embed="rId2"/>
          <a:stretch/>
        </p:blipFill>
        <p:spPr>
          <a:xfrm>
            <a:off x="250920" y="189000"/>
            <a:ext cx="8569080" cy="6408720"/>
          </a:xfrm>
          <a:prstGeom prst="rect">
            <a:avLst/>
          </a:prstGeom>
          <a:ln w="0">
            <a:noFill/>
          </a:ln>
        </p:spPr>
      </p:pic>
      <p:sp>
        <p:nvSpPr>
          <p:cNvPr id="64" name="WordArt 6"/>
          <p:cNvSpPr txBox="1"/>
          <p:nvPr/>
        </p:nvSpPr>
        <p:spPr>
          <a:xfrm>
            <a:off x="108000" y="189000"/>
            <a:ext cx="4890960" cy="31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Эта чудо черепах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плавает в море-океане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а весь мир накры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хрустальным куполом неб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со множество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сверкающих звёзд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" dur="2000" fill="hold"/>
                                        <p:tgtEl>
                                          <p:spTgt spid="6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58085E-006 L 0.2835 0.27273 E">
                                      <p:cBhvr>
                                        <p:cTn id="116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753840" y="3645000"/>
            <a:ext cx="8009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ff"/>
                </a:solidFill>
                <a:latin typeface="Arial"/>
              </a:rPr>
              <a:t>С тех пор прошло несколько тысяч л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ff"/>
                </a:solidFill>
                <a:latin typeface="Arial"/>
              </a:rPr>
              <a:t>на нашей планете выро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ff"/>
                </a:solidFill>
                <a:latin typeface="Arial"/>
              </a:rPr>
              <a:t>много поколений добрых и умны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ff"/>
                </a:solidFill>
                <a:latin typeface="Arial"/>
              </a:rPr>
              <a:t>Они построили корабли 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ff"/>
                </a:solidFill>
                <a:latin typeface="Arial"/>
              </a:rPr>
              <a:t>совершив кругосветные путешеств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ff"/>
                </a:solidFill>
                <a:latin typeface="Arial"/>
              </a:rPr>
              <a:t>узнали, что Земля круглая – ш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ff"/>
                </a:solidFill>
                <a:latin typeface="Arial"/>
              </a:rPr>
              <a:t>А астрономы доказали, что земля летит в космос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ffff"/>
                </a:solidFill>
                <a:latin typeface="Arial"/>
              </a:rPr>
              <a:t>вращаясь вокруг Солнц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EARTH"/>
          <p:cNvPicPr/>
          <p:nvPr/>
        </p:nvPicPr>
        <p:blipFill>
          <a:blip r:embed="rId1"/>
          <a:stretch/>
        </p:blipFill>
        <p:spPr>
          <a:xfrm>
            <a:off x="2195640" y="0"/>
            <a:ext cx="518472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Луна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WordArt 5"/>
          <p:cNvSpPr txBox="1"/>
          <p:nvPr/>
        </p:nvSpPr>
        <p:spPr>
          <a:xfrm>
            <a:off x="4788000" y="5084640"/>
            <a:ext cx="3895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юдям захотелось загляну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темноту загадочного космоса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ногие учёные задумались над тем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 подняться в космос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еодолеть земное притяжение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13:57:08Z</dcterms:created>
  <dc:creator>Пользователь</dc:creator>
  <dc:description/>
  <dc:language>en-US</dc:language>
  <cp:lastModifiedBy>Александр Рыбальченко</cp:lastModifiedBy>
  <dcterms:modified xsi:type="dcterms:W3CDTF">2022-04-13T16:06:49Z</dcterms:modified>
  <cp:revision>12</cp:revision>
  <dc:subject/>
  <dc:title>Слайд 1</dc:title>
</cp:coreProperties>
</file>