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EA1E-1C12-43B9-A69E-D990854AA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D3F1-D515-4F60-873C-839FF91A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4D15-FF38-4FA4-B2ED-9D6A3AAB7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6A30-9DAC-4BA0-8D56-87A8F9CA8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EE70-216F-4413-A3B9-F72C7211F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66C3-C5DC-4B4E-AA26-8A4FDAE7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1847-DBD4-4BD6-890F-BB3BBBDF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1408-3609-480D-AFD9-B55EABB4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0AE0-3A00-4A2D-A990-69827BE4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A1B2-7AAC-4748-8451-23F67728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AE1B-41AE-4D25-BE14-C28E22C6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C606-5F4C-4EF2-ABED-D1118794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D1B4-363C-45B3-87C6-4C05D01E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1C5C-03ED-4F7D-BB36-AEBB7608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5F73-0DDA-4973-872A-37EC7205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71D8-CEBC-4758-8910-EA0306832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A464-D8A2-4244-A8AB-CF8F68076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02DD-AC7C-48BB-86CD-13B9BEB0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D4AC-4A95-46B6-9617-470F4245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A025-CF4F-416C-8694-C2E96784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8DF1-ED70-4E76-9DF9-A4D165C2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ACD3-CFAC-4FC3-83DE-6312429D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2B65-3FC1-48C0-849D-766DCA48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6B98-FF07-4CE3-8169-2ECCD835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E919-2D46-494C-9F87-35478B403D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E00F-0B54-4540-840F-9F0A9407A3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14320" y="214200"/>
            <a:ext cx="6057720" cy="15004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униципальное казенное общеобразовательное учреждение «Катайская СОШ»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713880" y="2285640"/>
            <a:ext cx="8001000" cy="15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Проек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«Культура речи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современного человека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mic Sans MS"/>
              </a:rPr>
              <a:t>Выполнил: ученик 9 класса Кузьменко Макси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mic Sans MS"/>
              </a:rPr>
              <a:t>Руководитель: Абубакирова Рамзида Сатваловна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Comic Sans MS"/>
              </a:rPr>
              <a:t>учитель руского языка и литератур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mic Sans MS"/>
              </a:rPr>
              <a:t>с.Мир, 2022г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2920" y="713880"/>
            <a:ext cx="8572320" cy="13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Необходимость защиты 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 русского язык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14200" y="1356840"/>
            <a:ext cx="8715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Comic Sans MS"/>
              </a:rPr>
              <a:t>Меры поддержки русского языка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беспечение научных, массовых  и школьных библиотек новыми  словарями русского языка и  современными учебниками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вышение квалификации работников  телевидения и радио в области  культуры речи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инансирование научных и научно - популярных  журналов по русскому языку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рганизацию научно-популярных  передач по русскому языку  на радио и телевидении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олее серьезно и глубоко подходить к изучению русского языка в школ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ольше читать русской классической литератур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вести строгое наказание за использование ненормативной лексики в общественных местах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2" descr="https://ds05.infourok.ru/uploads/ex/0435/000c4cbc-77b5251b/10/hello_html_24b0d776.png"/>
          <p:cNvPicPr/>
          <p:nvPr/>
        </p:nvPicPr>
        <p:blipFill>
          <a:blip r:embed="rId1"/>
          <a:stretch/>
        </p:blipFill>
        <p:spPr>
          <a:xfrm>
            <a:off x="3286080" y="5143680"/>
            <a:ext cx="2703600" cy="17143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https://lh4.googleusercontent.com/lmeZvvw-V1wiI1nfCTXfvj_efMS9ZJ5I2SZzJVF2njG__kYvSh2ZfJK-Qd2b23YnqQmbCb35_0dhOGqAdoafkCh2DNNplzY473VfrIKPzZuHTyLYrzv_dbAMHG3d-SOZIv3zgKEjHtw"/>
          <p:cNvPicPr/>
          <p:nvPr/>
        </p:nvPicPr>
        <p:blipFill>
          <a:blip r:embed="rId2"/>
          <a:stretch/>
        </p:blipFill>
        <p:spPr>
          <a:xfrm>
            <a:off x="6143760" y="5114880"/>
            <a:ext cx="246528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71360" y="152280"/>
            <a:ext cx="648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85480" y="1213920"/>
            <a:ext cx="809604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Высокий уровень речевой культуры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— неотъемлемая черта культурного человека.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Совершенствовать свою речь — задача каждого из нас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этого нужно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 algn="just"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ледить за своей речью, чтобы не допускать ошибок в произношении, в употреблении форм слов, в построении предложени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 algn="just"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ужно постоянно обогащать свой словарь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 algn="just"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читься чувствовать своего собеседник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 algn="just"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меть отбирать наиболее подходящие для каждого случая слова и конструк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000080" y="499680"/>
            <a:ext cx="66960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Высокая культура разговорной и письменной речи, хорошее знание и чутьё родного языка, уменье пользоваться его выразительными средствами, его стилистическим многообразием – самая лучшая опора, самое верное подспорье и самая надёжная рекомендация для каждого человека в его общественной и творческой деятельности». (В.В. Виноградов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9680" y="152280"/>
            <a:ext cx="70563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omic Sans MS"/>
              </a:rPr>
              <a:t>Что такое культура речи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71720" y="1285920"/>
            <a:ext cx="731016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Культура речи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понятие сложное и неоднозначное. С одной стороны, это особая научная дисциплина, а с другой – совокупность определенных знаний, речевых умений и навыков каждого человека. Чем больше таких знаний, умений и навыков, тем выше уровень культуры реч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лавным понятием культуры речи является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"норма"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601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Норма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это принятые на данном этапе развития языка правила словоупотребления, словообразования, произношения, построения предложения и т.д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5840" y="142920"/>
            <a:ext cx="8400960" cy="15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ктуальность проекта.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Comic Sans MS"/>
              </a:rPr>
              <a:t>«Берегите же наш прекрасный русский язык, этот клад, это достояние, переданное нам нашими предшественниками... Обращайтесь почтительно с этим могущественным орудием...».</a:t>
            </a:r>
            <a:r>
              <a:rPr b="0" lang="ru-RU" sz="20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.С. Тургене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85480" y="1714680"/>
            <a:ext cx="421164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облемы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28760" y="22143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неправильное применение заимствований, жаргонизмов, «слов-паразитов»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повсеместное использование сквернословия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«расшатывание традиционной орфоэпической нормы»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3280" y="1785960"/>
            <a:ext cx="40435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ладение культурой речи важно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357440" y="2428920"/>
            <a:ext cx="43290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остребованность специалиста на рынке труда, его конкурентоспособность в значительной степени зависят от наличия грамотной речи (и устной и письменной), умения эффективно общаться, от знания приемов речевого воздействия, убеждения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2. По тому, как человек знает этикет, соблюдает его, судят о нем самом, его воспитании, общей культуре, деловых качествах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3. Владение речевым этикетом способствует приобретению авторитета, порождает доверие и уважение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42960" y="274680"/>
            <a:ext cx="804384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omic Sans MS"/>
              </a:rPr>
              <a:t>Цели и задачи проект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28760" y="999720"/>
            <a:ext cx="4068720" cy="11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Цели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формировать навыки правильного общения и культурного поведения в обществе; привлечь внимание учащихся к проблемам культуры общения в обществе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пособствовать развитию интереса к родному языку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оспитывать у учащихся навыки использования грамотной речи в общени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дачи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бозначить проблемы культуры современного русского языка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дложить пути решения проблем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нтролировать и оценивать результаты своей деятельности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звитие умений работать с интернет ресурсами и другими источниками  и делать выводы по самостоятельно подобранному материалу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2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2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4400" spc="-1" strike="noStrike">
                <a:solidFill>
                  <a:srgbClr val="c00000"/>
                </a:solidFill>
                <a:latin typeface="Comic Sans MS"/>
              </a:rPr>
              <a:t>Результаты анкетирования</a:t>
            </a: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28440" y="928440"/>
            <a:ext cx="356868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3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85840" y="1214280"/>
            <a:ext cx="4214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00000"/>
                </a:solidFill>
                <a:latin typeface="Comic Sans MS"/>
              </a:rPr>
              <a:t>Кто на ваш взгляд говорит правильно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, 48% ответили – родители; 15%- друзья; 34%- учителя; 17%- дикторы СМИ и 15%- не знают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349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00000"/>
                </a:solidFill>
                <a:latin typeface="Comic Sans MS"/>
              </a:rPr>
              <a:t>Замечаешь ли ты ошибки в речи окружающих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, 45% ответили – да; 34%- иногда; 6%- не задумывались; 2%- нет; 10%- не интересуются этим совсем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349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00000"/>
                </a:solidFill>
                <a:latin typeface="Comic Sans MS"/>
              </a:rPr>
              <a:t>Замечают ли окружающие ошибки в твоей речи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, 9% ответили- часто; 27%- редко; 54%- иногда; 8%- никогда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349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00000"/>
                </a:solidFill>
                <a:latin typeface="Comic Sans MS"/>
              </a:rPr>
              <a:t>Какие ошибки окружающих тебя раздражают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ученики 6-11 классов почти сошлись в ответах, но все, же были некоторые разногласии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10-11 класс: 50%- неправильная расстановка ударений, неправильное произношение слов, 50%- ничего не раздражает (не знают)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00400" y="857160"/>
            <a:ext cx="368604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3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00720" y="1143000"/>
            <a:ext cx="41860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9 класс: 5%- неправильная расстановка ударений, неправильное произношение слов,89%- ничего не раздражает (не знают), 5%- разные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8 класс: 27% - неправильная расстановка ударений, неправильное произношение слов, 72%- ничего не раздражает (не знают)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7 класс: 22% - неправильная расстановка ударений, неправильное произношение слов,40% - ничего не раздражает (не знают),36% - дефект речи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6 класс: 33%- неправильная расстановка ударений, неправильное произношение слов, 29%- ничего не раздражает (не знают), 15%- компьютерный сленг, 22%- слова-паразиты,11% - ненормативная лексика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ru-RU" sz="1400" spc="-1" strike="noStrike">
                <a:solidFill>
                  <a:srgbClr val="c00000"/>
                </a:solidFill>
                <a:latin typeface="Comic Sans MS"/>
              </a:rPr>
              <a:t>Где и у кого можно узнать правильность произношения слова в случае затруднения,</a:t>
            </a:r>
            <a:r>
              <a:rPr b="0" lang="ru-RU" sz="14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26% ответили – в словаре; 63%- у учителя русского языка; 6%- в СМИ; 5%- не знают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428760"/>
            <a:ext cx="7972200" cy="13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Comic Sans MS"/>
              </a:rPr>
              <a:t>Актуальные проблемы культуры речи </a:t>
            </a: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Comic Sans MS"/>
              </a:rPr>
              <a:t>в современном российском обществ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6872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1. Иноязычные заимствова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8760" y="2285640"/>
            <a:ext cx="41400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своение иноязычной лексики обогащает словарный запас принимающего языка. И в русском языке достаточно много иностранных слов (не превышают 10% всего его словарного состава)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уществующий в родном языке вариант слова подменяется иноязычным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easy” -«легко», «сорян» (от англ. sorry) -«извини», окэй , «пикча» (picture – картинка, изображение), «эпикфейл», «хардкор», «фейс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0" y="1356840"/>
            <a:ext cx="411480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.Жаргонизация речи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omic Sans MS"/>
              </a:rPr>
              <a:t>«жаргон»-</a:t>
            </a: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это речь какой-либо группы, объединенной общими интересами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Молодёжный жаргон: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ечешь, гнобить, шестерка, потрясно, клево, бабки, галимый, оторваться, фигеть, стремно, тачка, ствол 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Выписки из телевизионной и газетной речи журналистов: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рубить бабок; газетный отморозок; оторвись по полной; тебя просто разводят; впаривать любую дрянь; он клинилс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14240" y="164160"/>
            <a:ext cx="7972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0040" y="1071720"/>
            <a:ext cx="399744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3. Нецензурная лексика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14200" y="1785960"/>
            <a:ext cx="42832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Нецензурная лексика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это речь, наполненная неприличными выражениями, непристойными словами, бранью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3280" y="92844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4. Влияние языка Интернета и С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азеты и телевидение заговорили языком улицы, о чем свидетельствует широкое использование вульгарных и жаргонных слов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ераилы «Универ», «Реальные пацаны», «Счастливы вместе», а также различные реалити-шоу наподобие «Дом-2» зачастую пестрили и пестрят такими выражениями, как: «пипец» (из «Универа»), «общага», «беспонтовый» (оттуда же), , «лошара», «даун», «бабло» («Счастливы вместе»)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6" descr="https://ds05.infourok.ru/uploads/ex/0f35/000e18f4-7bb7c548/hello_html_1d6cd48b.jpg"/>
          <p:cNvPicPr/>
          <p:nvPr/>
        </p:nvPicPr>
        <p:blipFill>
          <a:blip r:embed="rId1"/>
          <a:stretch/>
        </p:blipFill>
        <p:spPr>
          <a:xfrm>
            <a:off x="1357200" y="4286160"/>
            <a:ext cx="25434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42960" y="152280"/>
            <a:ext cx="6913440" cy="170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Соблюдение нормы - главное условие культуры реч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28760" y="1428480"/>
            <a:ext cx="79531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Важнейшие условия хорошей речи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логичность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ечь - это связанное целое, и каждое слово в ней, любая конструкция должны быть уместны и обоснованы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 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выразительность речи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остигается четким ясным произношением, правильной интонацией, умело расставленными паузами. Уделять внимание темпу речи, силе голоса, убедительности тона; особенностям ораторского искусства: позе, мимике, жестам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-чистота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речи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Если в речи присутствуют слова-паразиты, речевые штампы, канцеляризмы, то это свидетельствует о бедности и ограниченности словарного запаса. Например, слова-паразиты - такие как "это самое", "ну", "так сказать", "скажем так", "вот", "типа", "значит", "короче", "на самом деле", "конкретно", "да?", "э-э-э". 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00080" y="142560"/>
            <a:ext cx="65851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Речевой этик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85840" y="999720"/>
            <a:ext cx="85010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Речевой этикет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принятая в данной культуре совокупность требований к форме, содержанию, порядку, характеру и ситуативной уместности высказываний. (слова и выражения, употребляемые для прощания, просьбы, извинения, формы обращения, интонационные особенности, характеризующие вежливую речь и т.д.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чевой этикет является составной частью культуры поведения и общения человека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12" descr="https://fsd.multiurok.ru/html/2020/05/06/s_5eb2f58d313a5/img4.jpg"/>
          <p:cNvPicPr/>
          <p:nvPr/>
        </p:nvPicPr>
        <p:blipFill>
          <a:blip r:embed="rId1"/>
          <a:stretch/>
        </p:blipFill>
        <p:spPr>
          <a:xfrm>
            <a:off x="2428920" y="4572000"/>
            <a:ext cx="278136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6:59:53Z</dcterms:created>
  <dc:creator>kn0t</dc:creator>
  <dc:description/>
  <dc:language>en-US</dc:language>
  <cp:lastModifiedBy>Admin</cp:lastModifiedBy>
  <dcterms:modified xsi:type="dcterms:W3CDTF">2022-03-27T12:26:09Z</dcterms:modified>
  <cp:revision>22</cp:revision>
  <dc:subject/>
  <dc:title>Культура речи.</dc:title>
</cp:coreProperties>
</file>