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56F-0166-4A7B-A255-797D57A9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DBE-8C3D-4EE6-97A1-7179538F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AAC-0247-4825-81CD-5549B5BE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D5F-16EA-4275-BF47-9B269802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538D-5BD2-454E-A977-6392FA76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5F74-5131-41C3-89B0-76F4DB2E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D885-9795-49CC-BE5A-AC9A2922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D0C7-8794-4E27-89AB-D640C456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7634-BBEB-42FA-BC9F-0C630B78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68BE-CB0A-4961-8983-0D787C06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4AC0-E5C6-43D3-B00F-7288EBBF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47A-1616-4001-8857-FB99A9FE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DDD7-158C-46F1-A56A-EF67DA8E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3025-C416-4A48-A016-28DB967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85BB-4436-4E3C-ABCB-9EB12E8E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AFC7-440E-405A-B7C9-046188F8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81CA-2D72-4BED-AE57-D449F022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D440-DF28-4F44-9C18-8E9EBC52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2D018-2211-4A6B-9BD3-F671623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767C-FBF4-48D3-B715-527C29A3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0988-F1D9-4298-94A2-63FD2454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4741D-7CD0-42B8-BB6F-77284CFD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B74-E84F-4649-A897-FE0D6098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9F21D-7972-4F4F-998E-C4D0922F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2E3D6-5720-47B6-8836-117B6FA6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895A-935A-4527-8AF5-91E19AC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2D54D-0FCE-4EF7-ACAE-DCC2C125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0E1D9-E6A8-4897-ACDE-BC761156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381A4-0663-45D3-A7ED-80B724DF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A79C-0913-4196-8991-D00BC4E5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BF05E-D23E-4E04-93E7-0C77FD49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B3690-6AE6-4500-9B42-8BC0CE24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F4074-C3F6-4F72-958B-9F1B64F2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468-2A90-437E-83F9-B06C2B8D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793D-9004-4EF3-8AB5-B8A39B4E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2D691-33D3-410E-A3F6-BF0C6CB1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7C93-1D4E-4A65-B83D-53BB0A50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7FF3D-C5A7-4D33-96DC-42F275B4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42266-E46D-4AF0-96E2-7A7085E7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F50B-FBF5-48D1-A5EF-42857F88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D0A60-7CA2-42E7-A32F-897DDFD7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A626-70C2-465A-B56F-FB206E1F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D31F4-0BA2-43B2-B818-7BB8A66F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A37-BF41-4BA2-BF03-D688FB8A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F4D-E6D1-4001-BBF4-6FB47245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AE8-2D11-49E1-8B30-4C41DAED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55F-4965-44FF-87AC-B9041968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61D-4758-4D88-BBB9-450ED311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177185-9BAC-445A-85D9-1277BF5BD6B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7EDF10-90C8-4049-B1D0-753C298CCD2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E1C290-BAA5-46BA-AF67-9485C07D49B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134CF7-8B26-43F8-973F-C19C1A91951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00000" y="1197000"/>
            <a:ext cx="4536000" cy="352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Мастер - класс</a:t>
            </a:r>
            <a:br>
              <a:rPr sz="5300"/>
            </a:b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«Пасхальные  яйца в технике квиллинг»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0840" y="5733360"/>
            <a:ext cx="800352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Воспитатель: Андрецова Н.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Олеся\Desktop\Новая папка\20200417_110328.jpg"/>
          <p:cNvPicPr/>
          <p:nvPr/>
        </p:nvPicPr>
        <p:blipFill>
          <a:blip r:embed="rId2"/>
          <a:stretch/>
        </p:blipFill>
        <p:spPr>
          <a:xfrm>
            <a:off x="214200" y="1785960"/>
            <a:ext cx="4214520" cy="34063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7640" y="274680"/>
            <a:ext cx="7498800" cy="106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Нам потребуется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640" y="908640"/>
            <a:ext cx="4752360" cy="511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Картон плотный (для основы яйца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Цветная бумага для квиллинг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Пинцет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Ножницы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Карандаш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Линей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Стержень от шариковой ручки (с одного края делаем надрез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Шпажка деревянна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Клей ПВ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Пайетк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Олеся\Desktop\Новая папка\20200416_183939.jpg"/>
          <p:cNvPicPr/>
          <p:nvPr/>
        </p:nvPicPr>
        <p:blipFill>
          <a:blip r:embed="rId2"/>
          <a:stretch/>
        </p:blipFill>
        <p:spPr>
          <a:xfrm rot="5400000">
            <a:off x="4499640" y="2493360"/>
            <a:ext cx="4038120" cy="30286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6047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1 этап работы:                           2 этап работы: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7640" y="4214880"/>
            <a:ext cx="7704360" cy="228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80"/>
              </a:spcBef>
              <a:buClr>
                <a:srgbClr val="002060"/>
              </a:buClr>
              <a:buFont typeface="Arial"/>
              <a:buChar char="•"/>
            </a:pPr>
            <a:r>
              <a:rPr b="1" i="1" lang="ru-RU" sz="1900" spc="-1" strike="noStrike">
                <a:solidFill>
                  <a:srgbClr val="002060"/>
                </a:solidFill>
                <a:latin typeface="Arial Narrow"/>
              </a:rPr>
              <a:t>На листе картона нарисовать контур яйца;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80"/>
              </a:spcBef>
              <a:buClr>
                <a:srgbClr val="002060"/>
              </a:buClr>
              <a:buFont typeface="Arial"/>
              <a:buChar char="•"/>
            </a:pPr>
            <a:r>
              <a:rPr b="1" i="1" lang="ru-RU" sz="1900" spc="-1" strike="noStrike">
                <a:solidFill>
                  <a:srgbClr val="002060"/>
                </a:solidFill>
                <a:latin typeface="Arial Narrow"/>
              </a:rPr>
              <a:t>Высота яйца примерно 8 см, а ширина 6 см;</a:t>
            </a:r>
            <a:r>
              <a:rPr b="0" lang="ru-RU" sz="1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80"/>
              </a:spcBef>
              <a:buClr>
                <a:srgbClr val="002060"/>
              </a:buClr>
              <a:buFont typeface="Arial"/>
              <a:buChar char="•"/>
            </a:pPr>
            <a:r>
              <a:rPr b="1" i="1" lang="ru-RU" sz="19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Вырезать его. 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80"/>
              </a:spcBef>
              <a:buClr>
                <a:srgbClr val="008000"/>
              </a:buClr>
              <a:buFont typeface="Arial"/>
              <a:buChar char="•"/>
            </a:pPr>
            <a:r>
              <a:rPr b="1" i="1" lang="ru-RU" sz="19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Нарезаем полоски бумаги для квиллинга;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80"/>
              </a:spcBef>
              <a:buClr>
                <a:srgbClr val="008000"/>
              </a:buClr>
              <a:buFont typeface="Arial"/>
              <a:buChar char="•"/>
            </a:pPr>
            <a:r>
              <a:rPr b="1" i="1" lang="ru-RU" sz="19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Полоски могут иметь разную ширину от 3 миллиметров и до 1,5 сантиметров;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80"/>
              </a:spcBef>
              <a:buClr>
                <a:srgbClr val="008000"/>
              </a:buClr>
              <a:buFont typeface="Arial"/>
              <a:buChar char="•"/>
            </a:pPr>
            <a:r>
              <a:rPr b="1" i="1" lang="ru-RU" sz="19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Можно приобрести полоски  готовые в магазине.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Users\Олеся\Desktop\Новая папка\20200416_193809.jpg"/>
          <p:cNvPicPr/>
          <p:nvPr/>
        </p:nvPicPr>
        <p:blipFill>
          <a:blip r:embed="rId2"/>
          <a:srcRect l="0" t="0" r="13516" b="12257"/>
          <a:stretch/>
        </p:blipFill>
        <p:spPr>
          <a:xfrm rot="5400000">
            <a:off x="1327320" y="1255680"/>
            <a:ext cx="2560320" cy="22143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76" name="Picture 2" descr="C:\Users\Олеся\Desktop\Новая папка\20200416_193456.jpg"/>
          <p:cNvPicPr/>
          <p:nvPr/>
        </p:nvPicPr>
        <p:blipFill>
          <a:blip r:embed="rId3"/>
          <a:stretch/>
        </p:blipFill>
        <p:spPr>
          <a:xfrm rot="5400000">
            <a:off x="5215320" y="1214280"/>
            <a:ext cx="2571480" cy="2285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128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3 этап работы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14240" y="4293000"/>
            <a:ext cx="8143560" cy="213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5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- Берём полоску бумаги и закручиваем в ролл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- Аккуратно снимаем свободный ролл с инструмент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- Придаём роллу нужную нам форму и кончик полоски приклеиваем клеем. Получилась тугая спираль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- Для нашей композиции понадобится элемент «глаз» зелёного цвета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Users\Олеся\Desktop\Новая папка\20200416_194317.jpg"/>
          <p:cNvPicPr/>
          <p:nvPr/>
        </p:nvPicPr>
        <p:blipFill>
          <a:blip r:embed="rId2"/>
          <a:srcRect l="9771" t="0" r="6926" b="0"/>
          <a:stretch/>
        </p:blipFill>
        <p:spPr>
          <a:xfrm>
            <a:off x="357120" y="1285920"/>
            <a:ext cx="1676520" cy="1509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0" name="Picture 4" descr="C:\Users\Олеся\Desktop\Новая папка\20200416_202400.jpg"/>
          <p:cNvPicPr/>
          <p:nvPr/>
        </p:nvPicPr>
        <p:blipFill>
          <a:blip r:embed="rId3"/>
          <a:srcRect l="24459" t="17355" r="14670" b="17945"/>
          <a:stretch/>
        </p:blipFill>
        <p:spPr>
          <a:xfrm>
            <a:off x="3286080" y="1357200"/>
            <a:ext cx="1749240" cy="14997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1" name="Picture 2" descr="C:\Users\Олеся\Desktop\Новая папка\20200416_211851.jpg"/>
          <p:cNvPicPr/>
          <p:nvPr/>
        </p:nvPicPr>
        <p:blipFill>
          <a:blip r:embed="rId4"/>
          <a:srcRect l="27010" t="10371" r="0" b="9622"/>
          <a:stretch/>
        </p:blipFill>
        <p:spPr>
          <a:xfrm>
            <a:off x="6715080" y="1357200"/>
            <a:ext cx="1737720" cy="14997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2" name="Picture 4" descr="C:\Users\Олеся\Desktop\Новая папка\20200416_213208.jpg"/>
          <p:cNvPicPr/>
          <p:nvPr/>
        </p:nvPicPr>
        <p:blipFill>
          <a:blip r:embed="rId5"/>
          <a:srcRect l="22621" t="19946" r="5854" b="7889"/>
          <a:stretch/>
        </p:blipFill>
        <p:spPr>
          <a:xfrm>
            <a:off x="5000760" y="2857320"/>
            <a:ext cx="1714320" cy="1446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3" name="Picture 3" descr="C:\Users\Олеся\Desktop\Новая папка\20200416_213536.jpg"/>
          <p:cNvPicPr/>
          <p:nvPr/>
        </p:nvPicPr>
        <p:blipFill>
          <a:blip r:embed="rId6"/>
          <a:stretch/>
        </p:blipFill>
        <p:spPr>
          <a:xfrm>
            <a:off x="1571760" y="2928960"/>
            <a:ext cx="1928520" cy="14461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488360" cy="1353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4 этап работы: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2920" y="4429080"/>
            <a:ext cx="8715240" cy="242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пиральки наклеим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о периметру нашего яйца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- Для зайчика выполняем голову из  базового элемента «плотная спираль», а ушки – элемент «капля». Склеиваем их вместе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- Собираем полностью композицию  и приклеиваем элементы, помогая себе пинцетом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- Приклеим яйцо к шпажке с помощью клея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Users\Олеся\Desktop\Новая папка\20200417_102454.jpg"/>
          <p:cNvPicPr/>
          <p:nvPr/>
        </p:nvPicPr>
        <p:blipFill>
          <a:blip r:embed="rId2"/>
          <a:stretch/>
        </p:blipFill>
        <p:spPr>
          <a:xfrm>
            <a:off x="2571840" y="1214280"/>
            <a:ext cx="4095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7" name="Picture 3" descr="C:\Users\Олеся\Desktop\Новая папка\20200416_212453.jpg"/>
          <p:cNvPicPr/>
          <p:nvPr/>
        </p:nvPicPr>
        <p:blipFill>
          <a:blip r:embed="rId3"/>
          <a:stretch/>
        </p:blipFill>
        <p:spPr>
          <a:xfrm rot="5400000">
            <a:off x="-213840" y="1571400"/>
            <a:ext cx="3071520" cy="23569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88" name="Picture 2" descr="C:\Users\Олеся\Desktop\Новая папка\20200417_105854.jpg"/>
          <p:cNvPicPr/>
          <p:nvPr/>
        </p:nvPicPr>
        <p:blipFill>
          <a:blip r:embed="rId4"/>
          <a:srcRect l="0" t="11025" r="24400" b="10325"/>
          <a:stretch/>
        </p:blipFill>
        <p:spPr>
          <a:xfrm rot="5400000">
            <a:off x="6251040" y="1678680"/>
            <a:ext cx="3071520" cy="2142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27640" y="3929040"/>
            <a:ext cx="7344360" cy="281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Аналогично выполняются другие яйц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- На такие яички  можно приклеить любые узоры. Это может быть цыплёнок, цветок или кролик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79"/>
              </a:spcBef>
              <a:spcAft>
                <a:spcPts val="1500"/>
              </a:spcAft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- Можно декорировать получившиеся яйцо пайеткам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C:\Users\Олеся\Desktop\Новая папка\20200417_102232.jpg"/>
          <p:cNvPicPr/>
          <p:nvPr/>
        </p:nvPicPr>
        <p:blipFill>
          <a:blip r:embed="rId2"/>
          <a:stretch/>
        </p:blipFill>
        <p:spPr>
          <a:xfrm>
            <a:off x="3857760" y="357120"/>
            <a:ext cx="4571640" cy="3428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91" name="Picture 3" descr="C:\Users\Олеся\Desktop\Новая папка\20200417_102128.jpg"/>
          <p:cNvPicPr/>
          <p:nvPr/>
        </p:nvPicPr>
        <p:blipFill>
          <a:blip r:embed="rId3"/>
          <a:srcRect l="3703" t="4804" r="6841" b="5013"/>
          <a:stretch/>
        </p:blipFill>
        <p:spPr>
          <a:xfrm rot="5400000">
            <a:off x="945720" y="911160"/>
            <a:ext cx="3438360" cy="23295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5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  <Words>231</Words>
  <Paragraphs>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nemesis2017@yandex.ru</cp:lastModifiedBy>
  <dcterms:modified xsi:type="dcterms:W3CDTF">2022-04-12T09:48:39Z</dcterms:modified>
  <cp:revision>1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