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5CD-39A7-404A-8D3B-467E0378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967-2AC9-4EC4-A5FD-2ADFFF9B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538-A898-40E9-B54E-34885DB6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E10-C712-4EA7-B8B5-7AA54CF1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CA9C-F9B5-4D29-8729-5A2568EE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7A89-9479-4C55-A141-B7555202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BD95-57E1-4068-B1DC-3A2EE781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CFCC-3BE0-477B-9B28-EA8DEA26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C231-90E2-4437-A652-508E34B3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C681-59F8-4A08-B03C-FC04028D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9021-D5F4-4E46-B951-E343DC09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869-3582-4A78-A48E-D5ACF188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B89E-C614-4483-8AB1-B1A141AC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0CB6-9D82-4329-B28B-DE9143BE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A2A6-7AE3-43A5-9AB1-70B477BC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3507-D04C-48A7-85C4-70CAB92F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AEC8-3F49-41A6-A659-61C28BCF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40C5-57BC-479B-8F52-6574BE41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B520-EC06-403B-A3CD-ACEA64D8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D073-144E-422F-AB34-36D03EBD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21BC-C1EA-4C16-A294-BA4CADA3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90A4-D9F0-4E76-847B-37F9D124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252-D093-4DA3-9D15-F7668288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6FD60-3602-483C-9A61-DFC72479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51F8-258A-433F-AA9E-1A4295EA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EFB5-643D-490C-A181-57BBF19D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50658-0A45-4013-B73C-68734401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69D8-4A8E-4234-A1B0-F540DBF7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6CE39-4016-4B18-973C-3800EEB2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41575-B62B-4A0D-8F5D-8FBFDD46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92A68-4A30-4389-A41A-E0694A5D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DF99C-9620-4F2C-B67C-1A48E602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2A4A-1863-4D79-9620-C639BC00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FFD-EAAC-4D4E-8F13-FFCA5598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97C95-687F-42C7-8F46-E368F4EB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829F7-2306-40D7-84DA-DBE2CCAA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889A0-D5B8-4D42-BF9A-8776E0AD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0F9A1-4FE9-43E0-B56A-B8C86BCA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C96F6-6664-49F0-847D-E349CC92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CBBE-0D26-4E2F-A004-F5C2D99B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FF3E0-7982-48D7-8D62-69C93E86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276FE-73B4-486B-8721-AB34882D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FCEFD-3D83-419E-9E79-EACD8ED4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D34-AC92-4826-99E7-7742A114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DFA-CF11-4AA2-86E7-017D71AD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4F8-31EE-4A4C-A101-CC858D05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063-DE89-421E-87D6-020FAE64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18D-48DC-4A18-B66F-D2B29B58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F98F43-B616-4BA8-B2BF-E40D8FB6EBD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ACA689-779A-4427-A7DD-193AD925B49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09FD1A-1D6E-4A26-ABE8-3F9DF129CA8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FF312B-98B8-4CAE-BEFD-983EA5704CD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00000" y="1197000"/>
            <a:ext cx="4536000" cy="352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Мастер - класс</a:t>
            </a:r>
            <a:br>
              <a:rPr sz="5300"/>
            </a:br>
            <a:r>
              <a:rPr b="1" i="1" lang="ru-RU" sz="4000" spc="-1" strike="noStrike">
                <a:solidFill>
                  <a:srgbClr val="008000"/>
                </a:solidFill>
                <a:latin typeface="Calibri"/>
              </a:rPr>
              <a:t>«Пасхальные  яйца в технике квиллинг»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00840" y="5733360"/>
            <a:ext cx="8003520" cy="71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Воспитатель: Андрецова Н.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Олеся\Desktop\Новая папка\20200417_110328.jpg"/>
          <p:cNvPicPr/>
          <p:nvPr/>
        </p:nvPicPr>
        <p:blipFill>
          <a:blip r:embed="rId2"/>
          <a:stretch/>
        </p:blipFill>
        <p:spPr>
          <a:xfrm>
            <a:off x="214200" y="1785960"/>
            <a:ext cx="4214520" cy="34063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7640" y="274680"/>
            <a:ext cx="7498800" cy="106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Нам потребуется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640" y="908640"/>
            <a:ext cx="4752360" cy="511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Картон плотный (для основы яйца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Цветная бумага для квиллинг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Пинцет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Ножницы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Карандаш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Линей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Стержень от шариковой ручки (с одного края делаем надрез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Шпажка деревянная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Клей ПВ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Пайетк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Олеся\Desktop\Новая папка\20200416_183939.jpg"/>
          <p:cNvPicPr/>
          <p:nvPr/>
        </p:nvPicPr>
        <p:blipFill>
          <a:blip r:embed="rId2"/>
          <a:stretch/>
        </p:blipFill>
        <p:spPr>
          <a:xfrm rot="5400000">
            <a:off x="4499640" y="2493360"/>
            <a:ext cx="4038120" cy="30286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6047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1 этап работы:                           2 этап работы: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7640" y="4214880"/>
            <a:ext cx="7704360" cy="228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80"/>
              </a:spcBef>
              <a:buClr>
                <a:srgbClr val="002060"/>
              </a:buClr>
              <a:buFont typeface="Arial"/>
              <a:buChar char="•"/>
            </a:pPr>
            <a:r>
              <a:rPr b="1" i="1" lang="ru-RU" sz="1900" spc="-1" strike="noStrike">
                <a:solidFill>
                  <a:srgbClr val="002060"/>
                </a:solidFill>
                <a:latin typeface="Arial Narrow"/>
              </a:rPr>
              <a:t>На листе картона нарисовать контур яйца;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80"/>
              </a:spcBef>
              <a:buClr>
                <a:srgbClr val="002060"/>
              </a:buClr>
              <a:buFont typeface="Arial"/>
              <a:buChar char="•"/>
            </a:pPr>
            <a:r>
              <a:rPr b="1" i="1" lang="ru-RU" sz="1900" spc="-1" strike="noStrike">
                <a:solidFill>
                  <a:srgbClr val="002060"/>
                </a:solidFill>
                <a:latin typeface="Arial Narrow"/>
              </a:rPr>
              <a:t>Высота яйца примерно 8 см, а ширина 6 см;</a:t>
            </a:r>
            <a:r>
              <a:rPr b="0" lang="ru-RU" sz="1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80"/>
              </a:spcBef>
              <a:buClr>
                <a:srgbClr val="002060"/>
              </a:buClr>
              <a:buFont typeface="Arial"/>
              <a:buChar char="•"/>
            </a:pPr>
            <a:r>
              <a:rPr b="1" i="1" lang="ru-RU" sz="19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Вырезать его. 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80"/>
              </a:spcBef>
              <a:buClr>
                <a:srgbClr val="008000"/>
              </a:buClr>
              <a:buFont typeface="Arial"/>
              <a:buChar char="•"/>
            </a:pPr>
            <a:r>
              <a:rPr b="1" i="1" lang="ru-RU" sz="19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Нарезаем полоски бумаги для квиллинга;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80"/>
              </a:spcBef>
              <a:buClr>
                <a:srgbClr val="008000"/>
              </a:buClr>
              <a:buFont typeface="Arial"/>
              <a:buChar char="•"/>
            </a:pPr>
            <a:r>
              <a:rPr b="1" i="1" lang="ru-RU" sz="19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Полоски могут иметь разную ширину от 3 миллиметров и до 1,5 сантиметров;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80"/>
              </a:spcBef>
              <a:buClr>
                <a:srgbClr val="008000"/>
              </a:buClr>
              <a:buFont typeface="Arial"/>
              <a:buChar char="•"/>
            </a:pPr>
            <a:r>
              <a:rPr b="1" i="1" lang="ru-RU" sz="19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Можно приобрести полоски  готовые в магазине.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C:\Users\Олеся\Desktop\Новая папка\20200416_193809.jpg"/>
          <p:cNvPicPr/>
          <p:nvPr/>
        </p:nvPicPr>
        <p:blipFill>
          <a:blip r:embed="rId2"/>
          <a:srcRect l="0" t="0" r="13516" b="12257"/>
          <a:stretch/>
        </p:blipFill>
        <p:spPr>
          <a:xfrm rot="5400000">
            <a:off x="1327320" y="1255680"/>
            <a:ext cx="2560320" cy="22143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76" name="Picture 2" descr="C:\Users\Олеся\Desktop\Новая папка\20200416_193456.jpg"/>
          <p:cNvPicPr/>
          <p:nvPr/>
        </p:nvPicPr>
        <p:blipFill>
          <a:blip r:embed="rId3"/>
          <a:stretch/>
        </p:blipFill>
        <p:spPr>
          <a:xfrm rot="5400000">
            <a:off x="5215320" y="1214280"/>
            <a:ext cx="2571480" cy="2285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1280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3 этап работы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14240" y="4293000"/>
            <a:ext cx="8143560" cy="213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5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- Берём полоску бумаги и закручиваем в ролл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- Аккуратно снимаем свободный ролл с инструмент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- Придаём роллу нужную нам форму и кончик полоски приклеиваем клеем. Получилась тугая спираль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- Для нашей композиции понадобится элемент «глаз» зелёного цвета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C:\Users\Олеся\Desktop\Новая папка\20200416_194317.jpg"/>
          <p:cNvPicPr/>
          <p:nvPr/>
        </p:nvPicPr>
        <p:blipFill>
          <a:blip r:embed="rId2"/>
          <a:srcRect l="9771" t="0" r="6926" b="0"/>
          <a:stretch/>
        </p:blipFill>
        <p:spPr>
          <a:xfrm>
            <a:off x="357120" y="1285920"/>
            <a:ext cx="1676520" cy="1509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80" name="Picture 4" descr="C:\Users\Олеся\Desktop\Новая папка\20200416_202400.jpg"/>
          <p:cNvPicPr/>
          <p:nvPr/>
        </p:nvPicPr>
        <p:blipFill>
          <a:blip r:embed="rId3"/>
          <a:srcRect l="24459" t="17355" r="14670" b="17945"/>
          <a:stretch/>
        </p:blipFill>
        <p:spPr>
          <a:xfrm>
            <a:off x="3286080" y="1357200"/>
            <a:ext cx="1749240" cy="14997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81" name="Picture 2" descr="C:\Users\Олеся\Desktop\Новая папка\20200416_211851.jpg"/>
          <p:cNvPicPr/>
          <p:nvPr/>
        </p:nvPicPr>
        <p:blipFill>
          <a:blip r:embed="rId4"/>
          <a:srcRect l="27010" t="10371" r="0" b="9622"/>
          <a:stretch/>
        </p:blipFill>
        <p:spPr>
          <a:xfrm>
            <a:off x="6715080" y="1357200"/>
            <a:ext cx="1737720" cy="14997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82" name="Picture 4" descr="C:\Users\Олеся\Desktop\Новая папка\20200416_213208.jpg"/>
          <p:cNvPicPr/>
          <p:nvPr/>
        </p:nvPicPr>
        <p:blipFill>
          <a:blip r:embed="rId5"/>
          <a:srcRect l="22621" t="19946" r="5854" b="7889"/>
          <a:stretch/>
        </p:blipFill>
        <p:spPr>
          <a:xfrm>
            <a:off x="5000760" y="2857320"/>
            <a:ext cx="1714320" cy="1446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83" name="Picture 3" descr="C:\Users\Олеся\Desktop\Новая папка\20200416_213536.jpg"/>
          <p:cNvPicPr/>
          <p:nvPr/>
        </p:nvPicPr>
        <p:blipFill>
          <a:blip r:embed="rId6"/>
          <a:stretch/>
        </p:blipFill>
        <p:spPr>
          <a:xfrm>
            <a:off x="1571760" y="2928960"/>
            <a:ext cx="1928520" cy="14461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488360" cy="1353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4 этап работы: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2920" y="4429080"/>
            <a:ext cx="8715240" cy="242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пиральки наклеим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о периметру нашего яйца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- Для зайчика выполняем голову из  базового элемента «плотная спираль», а ушки – элемент «капля». Склеиваем их вместе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- Собираем полностью композицию  и приклеиваем элементы, помогая себе пинцетом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- Приклеим яйцо к шпажке с помощью клея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Users\Олеся\Desktop\Новая папка\20200417_102454.jpg"/>
          <p:cNvPicPr/>
          <p:nvPr/>
        </p:nvPicPr>
        <p:blipFill>
          <a:blip r:embed="rId2"/>
          <a:stretch/>
        </p:blipFill>
        <p:spPr>
          <a:xfrm>
            <a:off x="2571840" y="1214280"/>
            <a:ext cx="4095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87" name="Picture 3" descr="C:\Users\Олеся\Desktop\Новая папка\20200416_212453.jpg"/>
          <p:cNvPicPr/>
          <p:nvPr/>
        </p:nvPicPr>
        <p:blipFill>
          <a:blip r:embed="rId3"/>
          <a:stretch/>
        </p:blipFill>
        <p:spPr>
          <a:xfrm rot="5400000">
            <a:off x="-213840" y="1571400"/>
            <a:ext cx="3071520" cy="23569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88" name="Picture 2" descr="C:\Users\Олеся\Desktop\Новая папка\20200417_105854.jpg"/>
          <p:cNvPicPr/>
          <p:nvPr/>
        </p:nvPicPr>
        <p:blipFill>
          <a:blip r:embed="rId4"/>
          <a:srcRect l="0" t="11025" r="24400" b="10325"/>
          <a:stretch/>
        </p:blipFill>
        <p:spPr>
          <a:xfrm rot="5400000">
            <a:off x="6251040" y="1678680"/>
            <a:ext cx="3071520" cy="2142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27640" y="3929040"/>
            <a:ext cx="7344360" cy="281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Аналогично выполняются другие яйц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- На такие яички  можно приклеить любые узоры. Это может быть цыплёнок, цветок или кролик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79"/>
              </a:spcBef>
              <a:spcAft>
                <a:spcPts val="1500"/>
              </a:spcAft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- Можно декорировать получившиеся яйцо пайеткам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C:\Users\Олеся\Desktop\Новая папка\20200417_102232.jpg"/>
          <p:cNvPicPr/>
          <p:nvPr/>
        </p:nvPicPr>
        <p:blipFill>
          <a:blip r:embed="rId2"/>
          <a:stretch/>
        </p:blipFill>
        <p:spPr>
          <a:xfrm>
            <a:off x="3857760" y="357120"/>
            <a:ext cx="4571640" cy="3428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91" name="Picture 3" descr="C:\Users\Олеся\Desktop\Новая папка\20200417_102128.jpg"/>
          <p:cNvPicPr/>
          <p:nvPr/>
        </p:nvPicPr>
        <p:blipFill>
          <a:blip r:embed="rId3"/>
          <a:srcRect l="3703" t="4804" r="6841" b="5013"/>
          <a:stretch/>
        </p:blipFill>
        <p:spPr>
          <a:xfrm rot="5400000">
            <a:off x="945720" y="911160"/>
            <a:ext cx="3438360" cy="23295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5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  <Words>231</Words>
  <Paragraphs>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nemesis2017@yandex.ru</cp:lastModifiedBy>
  <dcterms:modified xsi:type="dcterms:W3CDTF">2022-04-12T09:48:39Z</dcterms:modified>
  <cp:revision>1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