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168-AF7C-4AE3-A804-F850C446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536-CC66-4A45-83C0-AD7035AD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771-B602-4C47-99E0-918AB5EC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57B-44AA-4108-AB33-5F8E9F85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535-C535-4D57-A8EE-51F70AF5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4C4-7BF0-4997-AC61-79EB08D7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920-B12B-4033-8900-F206CD37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60F-96C4-42DC-90EE-64D42065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592-5F48-4CA6-A147-9A5FC2EC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B8D-53D5-420F-A4AC-64BE2672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9BC-EE7C-4B25-BD79-F9FA3DD4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AEF-F4BE-4694-A22F-CF37F186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47CC-A089-48D7-BDAD-C813E7A96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98100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THIS    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285264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ЭТ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6" descr=""/>
          <p:cNvPicPr/>
          <p:nvPr/>
        </p:nvPicPr>
        <p:blipFill>
          <a:blip r:embed="rId1"/>
          <a:stretch/>
        </p:blipFill>
        <p:spPr>
          <a:xfrm>
            <a:off x="5651640" y="765000"/>
            <a:ext cx="3265200" cy="4248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148428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O  IS  THIS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357720"/>
            <a:ext cx="5040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IS    IS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GRAN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4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3762360" cy="489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98100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O  IS  THIS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5905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THIS    IS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M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MUM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549360"/>
            <a:ext cx="8137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нглийский язык, 2 класс. Тема урока: Моя 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руппа обучающихся с особыми образовательными потребностями: обучающиеся с нарушением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нформационные ресурсы: Мобильное электронное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озможности использования продукта в целях индивидуализации образовательного процесса обучающихся с особыми образовательными потреб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ную презентацию можно использовать при работе с обучающимися с нарушениями зрения в условиях индивидуальной и фронталь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9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3762360" cy="489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708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um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Объект 4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3762360" cy="489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31417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ad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Объект 4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3348000" cy="435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42920" y="263700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grand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бъект 4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3762360" cy="489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2920" y="270828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gran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3756240" cy="489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299736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r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Объект 4" descr=""/>
          <p:cNvPicPr/>
          <p:nvPr/>
        </p:nvPicPr>
        <p:blipFill>
          <a:blip r:embed="rId1"/>
          <a:stretch/>
        </p:blipFill>
        <p:spPr>
          <a:xfrm>
            <a:off x="4427640" y="1125360"/>
            <a:ext cx="4259160" cy="381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360" y="278136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0920" y="206064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O  IS  THIS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3860640"/>
            <a:ext cx="55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КТО   ЭТ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3T15:22:31Z</dcterms:created>
  <dc:creator>Наталья</dc:creator>
  <dc:description/>
  <dc:language>en-US</dc:language>
  <cp:lastModifiedBy>student</cp:lastModifiedBy>
  <dcterms:modified xsi:type="dcterms:W3CDTF">2022-04-04T04:07:40Z</dcterms:modified>
  <cp:revision>2</cp:revision>
  <dc:subject/>
  <dc:title>Слайд 1</dc:title>
</cp:coreProperties>
</file>