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E509-FA5E-433F-9D33-2FE9252C12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643-0966-484D-AB84-D7143A47797C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4A9-C8E4-46E7-AB74-AC20A028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DF5-BBDA-417A-9DFA-8C296C41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BD5-C8C9-42F8-A8D4-88BF1F13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033-8DBC-49CE-8B5B-CAF2F16E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9E7E-279C-42C9-AB7F-AD0365E0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4EF9-B602-40B7-A73A-1C180EF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2399-F68E-4382-B0D1-F392C32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CC2-FE7D-41BC-ABE3-6F44F999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FA39-9DEF-44DE-930E-1AA9B75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1EF9-E821-4875-B2EB-DD96C0CC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87AC-5185-4E36-8780-1F4BE40D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1F9-6197-47B0-AE74-0D6050CF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8DC8-A6EC-4EE4-9A36-7D4A4F94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8F76-C641-49D3-91B3-704F7FBD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AD46-9FF2-47FC-B593-3129AD8D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72B3-A728-4FF3-94E3-4855CBCD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0245-9616-4C74-97EE-AEB96136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A57D-5E50-491B-940A-0F10F7C6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CF26-F2AA-4F0D-A844-33C0659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B511-66A6-4D5D-9967-1D7137D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975D-9CAD-42A8-B1D4-5069AE0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B5A8-DF61-42C3-8DCB-D5D79761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0D6-DD36-4302-865C-28E55823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5AC5-23BA-41E4-8D6C-EF5E1B1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FBF9-3D03-45C2-A00C-108F836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D86C-8AC6-4F73-A07A-ED829E0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4D1F-247F-464A-AE15-449B3EA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D945-6770-4084-B6BF-6ED6B4C5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557B-C636-4AAA-89DE-A55A80D1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7CF1-8E77-444F-B4D4-4DB1FBED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2D8B-31A5-4B64-86D6-81451C72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1CDE-510E-4A11-8DC8-6FEA3E8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EABD-0AF0-403B-8FB4-7C5F3C4E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191-2842-447C-A99C-371370CA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B02F-2BD1-48CD-8FE2-9F6A9FDA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7DB8-30C0-41D2-AA78-9F5FAF49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201B-9579-498C-9A8F-6A8C81B9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684D-B8F0-415D-88BF-E9EB0B2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6A6D-9DD5-4332-9607-96C5A287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7C02-C1EF-4FB9-89FA-B0D05B3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233A-28FC-4023-9F74-42B7549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CADF-37E2-45E3-9A1A-7D5414FA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1957-50F9-4133-9761-96DC1C01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AF11C-810F-44E1-A0E4-DA3F5073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05F-25EA-4477-9BC3-1D04A4D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ADA30-F67A-473B-AE6C-6FC7F774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F7835-6003-4E4C-9766-A9EC0B99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48E1-4C33-45CA-B742-4CBCB6FA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ACF2-FC2F-4624-B49B-75EB1B50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5374-7041-4295-90DF-467331DC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10DB-D55B-45D6-9D48-04A037F9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FE19-41F3-461B-B993-692B706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0F44-FAAD-44E6-8F71-8F8F7DC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8BD7-4A74-4C57-A004-ACA5829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EC5D1-F39E-4881-A0D0-02A4060C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7BF-69DA-455F-AB08-5692B487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3C21-A89F-47EC-89CD-5FA6466F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A9A-9B26-4FA6-B226-80CDBD2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1D8-67C0-4C26-81D8-8CE77389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D15-BAE6-4FE8-8F76-B9E9DE2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BA0A-1AC7-4713-9A2D-6085C6E2A0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6FF-92D5-439C-8919-F6AA4137FB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E426-6832-4944-A4D4-B930E421C4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BE86-7FA8-4EFA-BC76-37C60C1726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1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2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3E0-115B-4639-BE0C-CA0B394868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4" descr="1 слайд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9" name="WordArt 13"/>
          <p:cNvSpPr txBox="1"/>
          <p:nvPr/>
        </p:nvSpPr>
        <p:spPr>
          <a:xfrm>
            <a:off x="900000" y="549360"/>
            <a:ext cx="741852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циональные символы 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и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0" dur="1845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" dur="1845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" dur="1845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9" dur="123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2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ерб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ерб – эмблема государства, города, сословия, рода, изображаемая на флагах, монетах, печатях, государственных и других  документах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ковый словарь С.И. Ожег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4"/>
          <p:cNvSpPr txBox="1"/>
          <p:nvPr/>
        </p:nvSpPr>
        <p:spPr>
          <a:xfrm>
            <a:off x="2987640" y="549360"/>
            <a:ext cx="324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б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3" name="Picture 6" descr="rusgerb3"/>
          <p:cNvPicPr/>
          <p:nvPr/>
        </p:nvPicPr>
        <p:blipFill>
          <a:blip r:embed="rId1"/>
          <a:stretch/>
        </p:blipFill>
        <p:spPr>
          <a:xfrm>
            <a:off x="2916360" y="2349360"/>
            <a:ext cx="305748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ерб    Росс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б  Росси – золотой двуглавый            орел на фоне красного щ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апах орла скипетр и держ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ипетр – это жез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ржав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лотой шар с крестом наверх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на , скипетр и держава – символы власт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руди орла – святой воин Георгий Победоносец копьем поражает зм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 современный герб очень древний. Ему уже более 500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2987640" y="549360"/>
            <a:ext cx="324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б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8" name="Picture 3" descr="rusgerb3"/>
          <p:cNvPicPr/>
          <p:nvPr/>
        </p:nvPicPr>
        <p:blipFill>
          <a:blip r:embed="rId1"/>
          <a:stretch/>
        </p:blipFill>
        <p:spPr>
          <a:xfrm>
            <a:off x="2592360" y="1773360"/>
            <a:ext cx="4032360" cy="4844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лаг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вейся в неб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аг России гордый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учезарном небе вознесись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колором красным ,синим , бел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ин России , ты гордись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Белый цвет – мир, чист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иний цвет - это небо, вер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расный цвет означает отвагу, мужество и героиз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WordArt 5"/>
          <p:cNvSpPr txBox="1"/>
          <p:nvPr/>
        </p:nvSpPr>
        <p:spPr>
          <a:xfrm>
            <a:off x="3203640" y="260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лаг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имн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мн – это торжественное песноп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мн России – это торжественная песнь о красоте, величии нашей Род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3059280" y="620640"/>
            <a:ext cx="31734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мн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700360" y="1557360"/>
            <a:ext cx="374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 Указом Президента Российской Федерации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30 декабря 2000 года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11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5" descr="main"/>
          <p:cNvPicPr/>
          <p:nvPr/>
        </p:nvPicPr>
        <p:blipFill>
          <a:blip r:embed="rId1"/>
          <a:stretch/>
        </p:blipFill>
        <p:spPr>
          <a:xfrm>
            <a:off x="684360" y="234936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253800" y="4221000"/>
            <a:ext cx="2524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зыка: 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В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ксандров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Picture 7" descr="mihalkov_07"/>
          <p:cNvPicPr/>
          <p:nvPr/>
        </p:nvPicPr>
        <p:blipFill>
          <a:blip r:embed="rId2"/>
          <a:stretch/>
        </p:blipFill>
        <p:spPr>
          <a:xfrm>
            <a:off x="7020000" y="2205000"/>
            <a:ext cx="1266840" cy="15112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8"/>
          <p:cNvSpPr/>
          <p:nvPr/>
        </p:nvSpPr>
        <p:spPr>
          <a:xfrm>
            <a:off x="6806520" y="4005360"/>
            <a:ext cx="20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а: 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.В.Михалков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1042920" y="836640"/>
            <a:ext cx="31734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мн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4284720" y="3960"/>
            <a:ext cx="4140000" cy="73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-й купле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- священная наша держав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- любимая наша стран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гучая воля, великая слава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е достоянье на все времена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вься, Отечество наше свободное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тских народов союз веково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ками данная мудрость народная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авься, страна! Мы гордимся тобой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-й купле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 южных морей до полярного кра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кинулись наши леса и пол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а ты на свете! Одна ты такая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ранимая Богом родная земля!</a:t>
            </a:r>
            <a:br>
              <a:rPr sz="1800"/>
            </a:b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пев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-й купл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рокий простор для мечты и для жиз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ядущие нам открывают год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м силу дает наша верность Отчизн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было, так есть и так буд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сегда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пев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гимн россии.mp3" descr=""/>
          <p:cNvPicPr/>
          <p:nvPr/>
        </p:nvPicPr>
        <p:blipFill>
          <a:blip r:embed="rId1"/>
          <a:stretch/>
        </p:blipFill>
        <p:spPr>
          <a:xfrm>
            <a:off x="1692360" y="486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250119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2286000" y="747720"/>
            <a:ext cx="4572000" cy="58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мволы России - наши  главные слова,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ерб,  Гимн, и Флаг – вот ценность нашей жизни,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езидент, Конституция, Кремль и  Москва,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се это связано с нашей Отчизною!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еннадий Горшков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1763640" y="189000"/>
            <a:ext cx="60548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ва-столица России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4464000" y="1414800"/>
            <a:ext cx="46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х, Москва, наша песня и слава,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ы звездою взошла над рекой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икакая другая держава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 имеет столицы такой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рк Лисянский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Picture 10" descr="Москва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643280" y="2636640"/>
            <a:ext cx="38880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ут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димир Владимирови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WordArt 4"/>
          <p:cNvSpPr txBox="1"/>
          <p:nvPr/>
        </p:nvSpPr>
        <p:spPr>
          <a:xfrm>
            <a:off x="1258920" y="620640"/>
            <a:ext cx="6487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идент России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2"/>
          <a:srcRect l="11811" t="0" r="19256" b="0"/>
          <a:stretch/>
        </p:blipFill>
        <p:spPr>
          <a:xfrm>
            <a:off x="1258920" y="2276640"/>
            <a:ext cx="3286080" cy="268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3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6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90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p00"/>
          <p:cNvPicPr/>
          <p:nvPr/>
        </p:nvPicPr>
        <p:blipFill>
          <a:blip r:embed="rId1"/>
          <a:stretch/>
        </p:blipFill>
        <p:spPr>
          <a:xfrm>
            <a:off x="6877080" y="256536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332" name="WordArt 3"/>
          <p:cNvSpPr txBox="1"/>
          <p:nvPr/>
        </p:nvSpPr>
        <p:spPr>
          <a:xfrm>
            <a:off x="1042920" y="692280"/>
            <a:ext cx="75614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ституция Российской Федерации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2565000"/>
            <a:ext cx="6335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онституция является основным законом Российской Федерации. На основании Конституции строится вся система государственного управления.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3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187280" y="2349000"/>
            <a:ext cx="763272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мимо традиционных символов в виде герба, флага и гимна, каждая страна имеет и ряд других национальных символов, которые обозначают специфические для каждой страны историю, культуру и бы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ссия также имеет свои полуофициальные и неофициальные символ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WordArt 4"/>
          <p:cNvSpPr txBox="1"/>
          <p:nvPr/>
        </p:nvSpPr>
        <p:spPr>
          <a:xfrm>
            <a:off x="1042920" y="620640"/>
            <a:ext cx="75438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официальные символы России.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push dir="r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4"/>
          <p:cNvSpPr txBox="1"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ая площадь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042920" y="4723920"/>
            <a:ext cx="7274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ная площадь, как символ единства России, героизма российского народа, боевой и трудовой славы многих наших соотечественников, а также как место многочисленных исторических и судьбоносных событий является гордостью каждого и олицетворяет величие России. Красная площадь – символ центра страны, ее средоточ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Picture 8" descr="красная площадь"/>
          <p:cNvPicPr/>
          <p:nvPr/>
        </p:nvPicPr>
        <p:blipFill>
          <a:blip r:embed="rId1"/>
          <a:stretch/>
        </p:blipFill>
        <p:spPr>
          <a:xfrm>
            <a:off x="1042920" y="2060640"/>
            <a:ext cx="3152880" cy="2160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лобное место"/>
          <p:cNvPicPr/>
          <p:nvPr/>
        </p:nvPicPr>
        <p:blipFill>
          <a:blip r:embed="rId2"/>
          <a:stretch/>
        </p:blipFill>
        <p:spPr>
          <a:xfrm>
            <a:off x="5292720" y="2060640"/>
            <a:ext cx="30495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4"/>
          <p:cNvSpPr txBox="1"/>
          <p:nvPr/>
        </p:nvSpPr>
        <p:spPr>
          <a:xfrm>
            <a:off x="1116000" y="549360"/>
            <a:ext cx="7543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мль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971280" y="4797000"/>
            <a:ext cx="4056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мль является символом высшего руководства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Picture 9" descr="677kpfk"/>
          <p:cNvPicPr/>
          <p:nvPr/>
        </p:nvPicPr>
        <p:blipFill>
          <a:blip r:embed="rId1"/>
          <a:stretch/>
        </p:blipFill>
        <p:spPr>
          <a:xfrm>
            <a:off x="5195880" y="1981080"/>
            <a:ext cx="329400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3"/>
          <p:cNvSpPr txBox="1"/>
          <p:nvPr/>
        </p:nvSpPr>
        <p:spPr>
          <a:xfrm>
            <a:off x="1332000" y="333360"/>
            <a:ext cx="6697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млевские куранты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2492280"/>
            <a:ext cx="5184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емлевские куран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 Спасской башне,  давно уже стали символом не только Красной площади, но и точности, надежности и незыблемости России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Picture 7" descr="Кремль"/>
          <p:cNvPicPr/>
          <p:nvPr/>
        </p:nvPicPr>
        <p:blipFill>
          <a:blip r:embed="rId1"/>
          <a:stretch/>
        </p:blipFill>
        <p:spPr>
          <a:xfrm>
            <a:off x="5364000" y="2205000"/>
            <a:ext cx="3380040" cy="3475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7" descr="Березки1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347" name="WordArt 4"/>
          <p:cNvSpPr txBox="1"/>
          <p:nvPr/>
        </p:nvSpPr>
        <p:spPr>
          <a:xfrm>
            <a:off x="539640" y="476280"/>
            <a:ext cx="51181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за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860280"/>
            <a:ext cx="6912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Береза всегда считалась символом России, символом ее одухотворенности, процветания и долголетия.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446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трешки –  неофициальный символ России. Символ ее загадочной для всех души. Выточенная из липы на токарном станке, матрешка – сложное изделие. При росписи (расписывают гуашью прямо по дереву) нужно добиться, чтобы совпадали руки, и узоры на фартуке, и тесемки. У матрешки на одежке много цветов. Потому что Матрешка, девочка Матреша, сама растет среди цветов и трав, как и все мы среди них растем, только забываем об этом. А матрешка помнит, оттого так радостно на нее смотре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WordArt 12"/>
          <p:cNvSpPr txBox="1"/>
          <p:nvPr/>
        </p:nvSpPr>
        <p:spPr>
          <a:xfrm>
            <a:off x="1116000" y="692280"/>
            <a:ext cx="754380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решки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1" name="Picture 16" descr="Матрешки2"/>
          <p:cNvPicPr/>
          <p:nvPr/>
        </p:nvPicPr>
        <p:blipFill>
          <a:blip r:embed="rId1"/>
          <a:stretch/>
        </p:blipFill>
        <p:spPr>
          <a:xfrm>
            <a:off x="5651640" y="1989000"/>
            <a:ext cx="2543040" cy="2009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7" descr="Матрешки3"/>
          <p:cNvPicPr/>
          <p:nvPr/>
        </p:nvPicPr>
        <p:blipFill>
          <a:blip r:embed="rId2"/>
          <a:stretch/>
        </p:blipFill>
        <p:spPr>
          <a:xfrm>
            <a:off x="5364000" y="4365720"/>
            <a:ext cx="3181680" cy="20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6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4"/>
          <p:cNvSpPr txBox="1"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ведь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116000" y="4076640"/>
            <a:ext cx="4248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правило, в народном сознании медведь - величественное животное, занимающее исключительное положение среди других зверей. Во многом оно обусловлено биологическими качествами медведя, его размерами, силой, мощью, сметливостью, переходами от движений ленивых и неуклюжих - к быстрым и точным. Не случайно его изображение имеют на своих гербах многие русские города (Ярославль, Новгород и др.), а сам медведь является неофициальным символом России и русского наро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9" descr="Медведь"/>
          <p:cNvPicPr/>
          <p:nvPr/>
        </p:nvPicPr>
        <p:blipFill>
          <a:blip r:embed="rId1"/>
          <a:stretch/>
        </p:blipFill>
        <p:spPr>
          <a:xfrm>
            <a:off x="2195640" y="1989000"/>
            <a:ext cx="2160360" cy="1729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Медведь1"/>
          <p:cNvPicPr/>
          <p:nvPr/>
        </p:nvPicPr>
        <p:blipFill>
          <a:blip r:embed="rId2"/>
          <a:stretch/>
        </p:blipFill>
        <p:spPr>
          <a:xfrm>
            <a:off x="5651640" y="2205000"/>
            <a:ext cx="28731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3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6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е современное государство имеет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мн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аг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б.                     Это -  главные символы каждого государства.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41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 тройке поэты слагали стихи, народ сочинял частушки, художники увековечили ее в живописи и лаковой миниатюре, ваятели - в скульптуре. Трой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превратилась в достойный символ России, олицетворяющий русскую удалую и загадочную душу. Тройка - символ русского народа и его культуры с ее безудержной удалью и пронзительной лиричностью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Picture 8" descr="Матрешки1"/>
          <p:cNvPicPr/>
          <p:nvPr/>
        </p:nvPicPr>
        <p:blipFill>
          <a:blip r:embed="rId1"/>
          <a:stretch/>
        </p:blipFill>
        <p:spPr>
          <a:xfrm>
            <a:off x="5219640" y="2843280"/>
            <a:ext cx="3456000" cy="2676600"/>
          </a:xfrm>
          <a:prstGeom prst="rect">
            <a:avLst/>
          </a:prstGeom>
          <a:ln w="0">
            <a:noFill/>
          </a:ln>
        </p:spPr>
      </p:pic>
      <p:sp>
        <p:nvSpPr>
          <p:cNvPr id="359" name="WordArt 9"/>
          <p:cNvSpPr txBox="1"/>
          <p:nvPr/>
        </p:nvSpPr>
        <p:spPr>
          <a:xfrm>
            <a:off x="1547640" y="836640"/>
            <a:ext cx="646272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ойка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3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5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вар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71640" y="1988640"/>
            <a:ext cx="4464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льский самовар с жемчужником на тулове, с фигурной ручкой -веткой является символом русского гостеприим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овар олицетворял бытовые стороны русского образа жизн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7" descr="Самовар"/>
          <p:cNvPicPr/>
          <p:nvPr/>
        </p:nvPicPr>
        <p:blipFill>
          <a:blip r:embed="rId1"/>
          <a:stretch/>
        </p:blipFill>
        <p:spPr>
          <a:xfrm>
            <a:off x="5940360" y="2421000"/>
            <a:ext cx="2801880" cy="37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3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лалайка</a:t>
            </a:r>
            <a:endParaRPr b="0" i="1" lang="en-US" sz="32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042920" y="4581000"/>
            <a:ext cx="36957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лалайка — это один из инструментов, ставших (наряду с гармонью и, в меньшей степени, жалейкой) музыкальным символом русского на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Picture 7" descr="Балалайка1"/>
          <p:cNvPicPr/>
          <p:nvPr/>
        </p:nvPicPr>
        <p:blipFill>
          <a:blip r:embed="rId1"/>
          <a:stretch/>
        </p:blipFill>
        <p:spPr>
          <a:xfrm>
            <a:off x="5580000" y="2133720"/>
            <a:ext cx="3089160" cy="4114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Балалайка"/>
          <p:cNvPicPr/>
          <p:nvPr/>
        </p:nvPicPr>
        <p:blipFill>
          <a:blip r:embed="rId2"/>
          <a:stretch/>
        </p:blipFill>
        <p:spPr>
          <a:xfrm rot="3633000">
            <a:off x="1045080" y="2059560"/>
            <a:ext cx="1725480" cy="27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Балалайка2"/>
          <p:cNvPicPr/>
          <p:nvPr/>
        </p:nvPicPr>
        <p:blipFill>
          <a:blip r:embed="rId3"/>
          <a:stretch/>
        </p:blipFill>
        <p:spPr>
          <a:xfrm>
            <a:off x="3635280" y="2565360"/>
            <a:ext cx="1513080" cy="14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115640" y="1197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 познакомились с символами России. Все мы их должны знать и почитать, поскольку они зримо воплощают(вне зависимости происхождения, истории) прежде всего современную Россию, в которой мы все жив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я  - самое крупное государство на земном шар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рритория  России – 17,1 млн.кв.к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занимает  1/8 часть суш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проживает около 145 млн.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территории России проживает свыше 100 наций и народ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1619280" y="2708280"/>
            <a:ext cx="5832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Живу в России,  россиянин - я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Я  это сознаю, горжусь я этим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оссия – это Родина моя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на милее мне всех стран на свете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России небо голубее , зеленей трав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десь солнышко теплее греет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 человека Родина всегда одн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оэтому и дорожим мы ею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имволы России - наши  главные слов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ерб,  Гимн, и Флаг – вот ценность нашей жизни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езидент, Конституция, Кремль и  Москв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се это связано с нашей Отчизною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еннадий Горшков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581040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Я - россиянин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6" name="Picture 4" descr="674kpfk"/>
          <p:cNvPicPr/>
          <p:nvPr/>
        </p:nvPicPr>
        <p:blipFill>
          <a:blip r:embed="rId1"/>
          <a:stretch/>
        </p:blipFill>
        <p:spPr>
          <a:xfrm>
            <a:off x="6156360" y="2133720"/>
            <a:ext cx="2212920" cy="23558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"/>
          <p:cNvSpPr/>
          <p:nvPr/>
        </p:nvSpPr>
        <p:spPr>
          <a:xfrm>
            <a:off x="1619280" y="2727360"/>
            <a:ext cx="5832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Живу в России,  россиянин - я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Я  это сознаю, горжусь я этим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оссия – это Родина моя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на милее мне всех стран на свете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России небо голубее , зеленей трав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десь солнышко теплее греет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 человека Родина всегда одн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оэтому и дорожим мы ею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имволы России - наши  главные слов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ерб,  Гимн, и Флаг – вот ценность нашей жизни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езидент, Конституция, Кремль и  Москва,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се это связано с нашей Отчизною!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еннадий Горшков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в хх веке во всем мире установилась обязательная традиция – каждой стране иметь свой герб, флаг и гим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ели разных стран по праву гордятся своими симво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лаги стран мира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4" descr="united-states-of-america"/>
          <p:cNvPicPr/>
          <p:nvPr/>
        </p:nvPicPr>
        <p:blipFill>
          <a:blip r:embed="rId1"/>
          <a:stretch/>
        </p:blipFill>
        <p:spPr>
          <a:xfrm>
            <a:off x="6918480" y="3533760"/>
            <a:ext cx="1644480" cy="1095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i(13)"/>
          <p:cNvPicPr/>
          <p:nvPr/>
        </p:nvPicPr>
        <p:blipFill>
          <a:blip r:embed="rId2"/>
          <a:stretch/>
        </p:blipFill>
        <p:spPr>
          <a:xfrm>
            <a:off x="6948360" y="2087640"/>
            <a:ext cx="1584360" cy="1193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i(24)"/>
          <p:cNvPicPr/>
          <p:nvPr/>
        </p:nvPicPr>
        <p:blipFill>
          <a:blip r:embed="rId3"/>
          <a:stretch/>
        </p:blipFill>
        <p:spPr>
          <a:xfrm>
            <a:off x="6851520" y="4724280"/>
            <a:ext cx="1778040" cy="1181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(2)"/>
          <p:cNvPicPr/>
          <p:nvPr/>
        </p:nvPicPr>
        <p:blipFill>
          <a:blip r:embed="rId4"/>
          <a:stretch/>
        </p:blipFill>
        <p:spPr>
          <a:xfrm>
            <a:off x="1908000" y="2743200"/>
            <a:ext cx="4284720" cy="2846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шение к гербу, флагу и гимну – это отношение к самому государству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волы нашей Родины насчитывают не одну сотню л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5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75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5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75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75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государственный герб появилс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,              первый  флаг –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8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е,              а первый гимн – в 19 ве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03Z</dcterms:created>
  <dc:creator>Марина</dc:creator>
  <dc:description/>
  <dc:language>en-US</dc:language>
  <cp:lastModifiedBy>Пользователь</cp:lastModifiedBy>
  <dcterms:modified xsi:type="dcterms:W3CDTF">2022-04-13T12:38:42Z</dcterms:modified>
  <cp:revision>109</cp:revision>
  <dc:subject/>
  <dc:title>Национальные символы России</dc:title>
</cp:coreProperties>
</file>