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5DB-4B51-454D-A0CF-941F408F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98F-0BCF-4530-A27F-6FA877F5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936-1385-4356-BF6F-9B1290B3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27F-1D26-4E94-9383-E5D4BC69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F2E-984F-48F4-A2E4-6EE38B9A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C97-71E2-453E-A9BC-A415F9F0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40D-83E1-496E-90D9-E7986779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14F-0EBB-4CAE-88B3-A99B0477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CA4-7E35-4B4B-9B9D-973B1BAC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6CE-C2E5-4778-8A49-4DE0F715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03E-F941-4F9A-B817-71F0DBB1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4D1-988E-4FB7-AB0C-4DA5D9AD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D14C-0CC3-4F91-8170-150656179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yaklass.ru/p/anglijskij-yazyk/24-klass/grammar-104180/comparatives-and-superlatives-515171/re-d4d7d3f6-37ea-40bc-b172-47220d799695" TargetMode="External"/><Relationship Id="rId3" Type="http://schemas.openxmlformats.org/officeDocument/2006/relationships/hyperlink" Target="https://www.yaklass.ru/p/anglijskij-yazyk/24-klass/grammar-104180/comparatives-and-superlatives-515171/re-d4d7d3f6-37ea-40bc-b172-47220d799695" TargetMode="External"/><Relationship Id="rId4" Type="http://schemas.openxmlformats.org/officeDocument/2006/relationships/hyperlink" Target="https://www.yaklass.ru/p/anglijskij-yazyk/24-klass/grammar-104180/comparatives-and-superlatives-515171/re-d9a280e9-6b4b-43d6-b2e6-ec800a4e091d" TargetMode="External"/><Relationship Id="rId5" Type="http://schemas.openxmlformats.org/officeDocument/2006/relationships/hyperlink" Target="https://www.yaklass.ru/p/anglijskij-yazyk/24-klass/grammar-104180/comparatives-and-superlatives-515171/re-b5008820-f957-4432-aacf-14627f6a4d78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yaklass.ru/p/anglijskij-yazyk/24-klass/grammar-104180/comparatives-and-superlatives-515171/re-d4d7d3f6-37ea-40bc-b172-47220d799695" TargetMode="External"/><Relationship Id="rId3" Type="http://schemas.openxmlformats.org/officeDocument/2006/relationships/hyperlink" Target="https://www.yaklass.ru/p/anglijskij-yazyk/24-klass/grammar-104180/comparatives-and-superlatives-515171/re-d4d7d3f6-37ea-40bc-b172-47220d799695" TargetMode="External"/><Relationship Id="rId4" Type="http://schemas.openxmlformats.org/officeDocument/2006/relationships/hyperlink" Target="https://www.yaklass.ru/p/anglijskij-yazyk/24-klass/grammar-104180/comparatives-and-superlatives-515171/re-d4d7d3f6-37ea-40bc-b172-47220d799695" TargetMode="External"/><Relationship Id="rId5" Type="http://schemas.openxmlformats.org/officeDocument/2006/relationships/hyperlink" Target="https://www.yaklass.ru/p/anglijskij-yazyk/24-klass/grammar-104180/comparatives-and-superlatives-515171/re-d4d7d3f6-37ea-40bc-b172-47220d799695" TargetMode="External"/><Relationship Id="rId6" Type="http://schemas.openxmlformats.org/officeDocument/2006/relationships/hyperlink" Target="https://www.yaklass.ru/p/anglijskij-yazyk/24-klass/grammar-104180/comparatives-and-superlatives-515171/re-d4d7d3f6-37ea-40bc-b172-47220d799695" TargetMode="External"/><Relationship Id="rId7" Type="http://schemas.openxmlformats.org/officeDocument/2006/relationships/hyperlink" Target="https://www.yaklass.ru/p/anglijskij-yazyk/24-klass/grammar-104180/comparatives-and-superlatives-515171/re-d4d7d3f6-37ea-40bc-b172-47220d799695" TargetMode="External"/><Relationship Id="rId8" Type="http://schemas.openxmlformats.org/officeDocument/2006/relationships/hyperlink" Target="http://s58.radikal.ru/i161/1002/2c/82e45367c26d.jpg" TargetMode="External"/><Relationship Id="rId9" Type="http://schemas.openxmlformats.org/officeDocument/2006/relationships/hyperlink" Target="http://s58.radikal.ru/i161/1002/2c/82e45367c26d.jpg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0000" y="1484280"/>
            <a:ext cx="7775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Степени сравнения прилаг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Ad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egrees of Compar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43640" y="587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врилова 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476280"/>
            <a:ext cx="77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Михайловская СОШ Чулым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836640"/>
            <a:ext cx="756144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Прилагательные в английском языке не изменяются по числам и падежам, но, как и  в русском языке име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349360"/>
            <a:ext cx="70567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)Положительную степень         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равнения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(the Positive Degree),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2)Сравнительную степень сравнения (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e Comparative Degree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3)Превосходную степень 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e Superlative Degree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степень 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349360"/>
            <a:ext cx="70567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)Положительную степень              сравнения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(the Positive Degree),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)Сравнительную степень сравнения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e Comparative Degree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3)Превосходную степень 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e Superlative Degree)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692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Однако далеко не все прилагательные могут «сравниваться»: такая привилегия закреплена только за качественными – то есть, такими, которые обозначают определенные качества предмета: красоту, величину, ширину и так да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img1.liveinternet.ru/images/attach/c/4/81/112/81112071_d8b08c0f0dba.jpg"/>
          <p:cNvPicPr/>
          <p:nvPr/>
        </p:nvPicPr>
        <p:blipFill>
          <a:blip r:embed="rId2"/>
          <a:stretch/>
        </p:blipFill>
        <p:spPr>
          <a:xfrm>
            <a:off x="1116000" y="4365720"/>
            <a:ext cx="1214280" cy="1630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mg1.liveinternet.ru/images/attach/c/4/81/112/81112071_d8b08c0f0dba.jpg"/>
          <p:cNvPicPr/>
          <p:nvPr/>
        </p:nvPicPr>
        <p:blipFill>
          <a:blip r:embed="rId3"/>
          <a:stretch/>
        </p:blipFill>
        <p:spPr>
          <a:xfrm>
            <a:off x="3348000" y="4076640"/>
            <a:ext cx="1500120" cy="201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img1.liveinternet.ru/images/attach/c/4/81/112/81112071_d8b08c0f0dba.jpg"/>
          <p:cNvPicPr/>
          <p:nvPr/>
        </p:nvPicPr>
        <p:blipFill>
          <a:blip r:embed="rId4"/>
          <a:stretch/>
        </p:blipFill>
        <p:spPr>
          <a:xfrm>
            <a:off x="5940360" y="3716280"/>
            <a:ext cx="17859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620640"/>
            <a:ext cx="82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Arial"/>
              </a:rPr>
              <a:t>                     </a:t>
            </a:r>
            <a:r>
              <a:rPr b="1" i="1" lang="en-US" sz="3200" spc="-1" strike="noStrike">
                <a:solidFill>
                  <a:srgbClr val="00b050"/>
                </a:solidFill>
                <a:latin typeface="Arial"/>
              </a:rPr>
              <a:t>Правопис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73360"/>
            <a:ext cx="80643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авило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онечная гласна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(немое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) опускается     перед фикс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еr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-est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larg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larg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whit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whit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ic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the nic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id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wid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lat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lat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981000"/>
            <a:ext cx="79912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авило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лово оканчивается на одну согласную букву, а перед ней стоит одна гласная буква ( закрытый слог), то согласная буква удваива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b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gg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g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t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h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t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://img07.taobaocdn.com/bao/uploaded/i7/T1cqljXlyBoJPyKkDa_121731.jpg_160x160.jpg"/>
          <p:cNvPicPr/>
          <p:nvPr/>
        </p:nvPicPr>
        <p:blipFill>
          <a:blip r:embed="rId2"/>
          <a:stretch/>
        </p:blipFill>
        <p:spPr>
          <a:xfrm>
            <a:off x="826920" y="4941720"/>
            <a:ext cx="152424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from-ua.com/images/articles/___new_172278-big.jpg"/>
          <p:cNvPicPr/>
          <p:nvPr/>
        </p:nvPicPr>
        <p:blipFill>
          <a:blip r:embed="rId3"/>
          <a:stretch/>
        </p:blipFill>
        <p:spPr>
          <a:xfrm>
            <a:off x="3635280" y="4508640"/>
            <a:ext cx="1571760" cy="177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s46.radikal.ru/i111/1008/43/2c3233c3e331.jpg"/>
          <p:cNvPicPr/>
          <p:nvPr/>
        </p:nvPicPr>
        <p:blipFill>
          <a:blip r:embed="rId4"/>
          <a:stretch/>
        </p:blipFill>
        <p:spPr>
          <a:xfrm>
            <a:off x="6588000" y="4365720"/>
            <a:ext cx="2000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907920"/>
            <a:ext cx="78487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авило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Если слово оканчивается на букву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, а перед ней стоит согласная буква, то буква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меняется на –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bus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- bus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er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- the bus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анятой – более занятый – самый заня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app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– happ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er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– the happ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photoholic24.com/wp-content/uploads/2012/01/smile_b.jpg"/>
          <p:cNvPicPr/>
          <p:nvPr/>
        </p:nvPicPr>
        <p:blipFill>
          <a:blip r:embed="rId2"/>
          <a:stretch/>
        </p:blipFill>
        <p:spPr>
          <a:xfrm>
            <a:off x="1187280" y="515772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photoholic24.com/wp-content/uploads/2012/01/smile_b.jpg"/>
          <p:cNvPicPr/>
          <p:nvPr/>
        </p:nvPicPr>
        <p:blipFill>
          <a:blip r:embed="rId3"/>
          <a:stretch/>
        </p:blipFill>
        <p:spPr>
          <a:xfrm>
            <a:off x="3419640" y="501336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photoholic24.com/wp-content/uploads/2012/01/smile_b.jpg"/>
          <p:cNvPicPr/>
          <p:nvPr/>
        </p:nvPicPr>
        <p:blipFill>
          <a:blip r:embed="rId4"/>
          <a:stretch/>
        </p:blipFill>
        <p:spPr>
          <a:xfrm>
            <a:off x="6012000" y="4724280"/>
            <a:ext cx="180324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105264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mp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1844640"/>
            <a:ext cx="71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Kate is (tall) than A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is grandfather is (old) than his grand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Tom is (strong) in his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Mary is (good) in ou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)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The (bad) holiday in my life was last sum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6)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These sweets are (tasty) than those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http://im2-tub-ru.yandex.net/i?id=98914287-10-72&amp;n=21"/>
          <p:cNvPicPr/>
          <p:nvPr/>
        </p:nvPicPr>
        <p:blipFill>
          <a:blip r:embed="rId2"/>
          <a:stretch/>
        </p:blipFill>
        <p:spPr>
          <a:xfrm>
            <a:off x="250920" y="260280"/>
            <a:ext cx="2017440" cy="1414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s58.radikal.ru/i161/1002/2c/82e45367c26d.jpg"/>
          <p:cNvPicPr/>
          <p:nvPr/>
        </p:nvPicPr>
        <p:blipFill>
          <a:blip r:embed="rId3"/>
          <a:stretch/>
        </p:blipFill>
        <p:spPr>
          <a:xfrm>
            <a:off x="7334280" y="5013360"/>
            <a:ext cx="14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32000" y="1413000"/>
            <a:ext cx="712764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я у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я ум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я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я могу сделать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953735"/>
                </a:solidFill>
                <a:latin typeface="Arial"/>
              </a:rPr>
              <a:t>мне понадоб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6920" y="1413000"/>
            <a:ext cx="69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aklass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p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glijskij-yazyk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24-klass/grammar-104180/comparatives-and-superlatives-515171/re-d4d7d3f6-37ea-40bc-b172-47220d79969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ория 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s://www.yaklass.ru/p/anglijskij-yazyk/24-klass/grammar-104180/comparatives-and-superlatives-515171/re-d9a280e9-6b4b-43d6-b2e6-ec800a4e091d  срав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s://www.yaklass.ru/p/anglijskij-yazyk/24-klass/grammar-104180/comparatives-and-superlatives-515171/re-b5008820-f957-4432-aacf-14627f6a4d78 превосх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58.radikal.ru/i161/1002/2c/82e45367c26d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58.radikal.ru/i161/1002/2c/82e45367c26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476280"/>
            <a:ext cx="691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0920" y="69228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1T05:10:48Z</dcterms:created>
  <dc:creator>Наталья</dc:creator>
  <dc:description/>
  <dc:language>en-US</dc:language>
  <cp:lastModifiedBy>Наталья</cp:lastModifiedBy>
  <dcterms:modified xsi:type="dcterms:W3CDTF">2022-03-31T09:41:01Z</dcterms:modified>
  <cp:revision>3</cp:revision>
  <dc:subject/>
  <dc:title>Слайд 1</dc:title>
</cp:coreProperties>
</file>