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CC1-A59E-44EA-B9B8-C9BD1A99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41D-5B26-4703-B150-DB7991C3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056-BD4B-4B63-947C-98BD38B0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60E-4C3C-43B6-B177-E0E92D9A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5A8E-E689-4A1E-B18D-ECFC1FCA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CA4C-848C-48EB-96CA-D9ACCBA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4652-95F0-4307-A412-77DBB9B6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09C1-3B54-4377-B736-9171546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4F1-FEB5-4DA5-BAA7-FB35A021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CF96-C7AC-4822-BD55-1BE3ADA5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BFC9-0A2A-4F55-A882-2371367E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F6D-4CA7-43C7-BA80-48D399EF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3A9-AB67-4D59-BCE6-D2B8C0B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7F6-A4A1-4977-96DE-B871C9B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9F2A-1C60-40C0-B9BD-069BFEC0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5A4-1F2A-4CA4-A9B6-C5940487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3D38-B04A-477E-A4E2-A7523A57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08D-A3B2-427C-92CA-DCA14C74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D51-34CA-4285-957E-1692E2E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C25-5DA9-4601-B9BF-8A24176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CA3-7DBA-419A-BA7E-5F8A1072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227-63A7-4DCD-9C2A-015801F5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3A3-8B9E-441F-B84E-7EBF518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8EE-809D-4393-AF8C-3F3BAFB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0240-99BD-4774-853D-767060298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Freeform 8"/>
            <p:cNvSpPr/>
            <p:nvPr/>
          </p:nvSpPr>
          <p:spPr>
            <a:xfrm>
              <a:off x="442440" y="190080"/>
              <a:ext cx="1603440" cy="69372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52280" y="190800"/>
              <a:ext cx="1363680" cy="70020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387000" y="190800"/>
              <a:ext cx="1492920" cy="84780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608400" y="306360"/>
              <a:ext cx="830160" cy="615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830520" y="497880"/>
              <a:ext cx="331560" cy="23148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362880" y="782640"/>
              <a:ext cx="466560" cy="37116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362880" y="758520"/>
              <a:ext cx="244080" cy="549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1491840" y="190080"/>
              <a:ext cx="554040" cy="65520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165960" y="343800"/>
              <a:ext cx="1103400" cy="65520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22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Picture 23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24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5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Picture 26" descr="6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0" name="Freeform 8"/>
            <p:cNvSpPr/>
            <p:nvPr/>
          </p:nvSpPr>
          <p:spPr>
            <a:xfrm>
              <a:off x="341280" y="291240"/>
              <a:ext cx="2315160" cy="11286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580320" y="478800"/>
              <a:ext cx="1194120" cy="99828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739440" y="666360"/>
              <a:ext cx="795960" cy="68688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898920" y="791640"/>
              <a:ext cx="477360" cy="372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228600" y="1252800"/>
              <a:ext cx="669960" cy="60336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228600" y="1213920"/>
              <a:ext cx="351360" cy="88884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854360" y="291240"/>
              <a:ext cx="797760" cy="10630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-56160" y="541440"/>
              <a:ext cx="1585080" cy="10630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82160" y="228600"/>
              <a:ext cx="1353240" cy="100224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137600" y="979200"/>
              <a:ext cx="1427760" cy="18756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2" descr="18009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3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6" name="Picture 24" descr="4_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5" descr="6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6" descr="123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7" descr="6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season_2"/>
          <p:cNvPicPr/>
          <p:nvPr/>
        </p:nvPicPr>
        <p:blipFill>
          <a:blip r:embed="rId8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D56-21F5-424C-8701-124E2273C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чем птицы пою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ий исследователь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порков Юрий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0430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417060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5715000" y="3429000"/>
            <a:ext cx="234792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5181480" y="685800"/>
            <a:ext cx="2833920" cy="2286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990720" y="2286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и пред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228600" y="3124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ы поют от рад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114800" y="2971800"/>
            <a:ext cx="50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ы поют для своих птен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0" y="609588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ы поют, чтобы их пение радовало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5334120" y="6019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ы пением  предупреждают об 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2133720" y="990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561280" cy="3353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838080" y="52578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ицы поют, чтобы их пение радовало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219320" y="380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можно найти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depositphotos_22346671-Stack-of-color-books"/>
          <p:cNvPicPr/>
          <p:nvPr/>
        </p:nvPicPr>
        <p:blipFill>
          <a:blip r:embed="rId1"/>
          <a:stretch/>
        </p:blipFill>
        <p:spPr>
          <a:xfrm>
            <a:off x="457200" y="1066680"/>
            <a:ext cx="2590920" cy="203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pg1896812527"/>
          <p:cNvPicPr/>
          <p:nvPr/>
        </p:nvPicPr>
        <p:blipFill>
          <a:blip r:embed="rId2"/>
          <a:stretch/>
        </p:blipFill>
        <p:spPr>
          <a:xfrm>
            <a:off x="6095880" y="10666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_1_~1(4)"/>
          <p:cNvPicPr/>
          <p:nvPr/>
        </p:nvPicPr>
        <p:blipFill>
          <a:blip r:embed="rId3"/>
          <a:stretch/>
        </p:blipFill>
        <p:spPr>
          <a:xfrm>
            <a:off x="3505320" y="2514600"/>
            <a:ext cx="2361960" cy="2114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2207_52cf84c3e6d1252cf84c3e6d4d"/>
          <p:cNvPicPr/>
          <p:nvPr/>
        </p:nvPicPr>
        <p:blipFill>
          <a:blip r:embed="rId4"/>
          <a:stretch/>
        </p:blipFill>
        <p:spPr>
          <a:xfrm>
            <a:off x="457200" y="3657600"/>
            <a:ext cx="2666880" cy="2209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ttp://s3.womanjournal.ru/sites/default/files/imagecache/slideshow-625x400/article/38415/slideshow/1_babushka_i_rebenok.jpg"/>
          <p:cNvPicPr/>
          <p:nvPr/>
        </p:nvPicPr>
        <p:blipFill>
          <a:blip r:embed="rId5"/>
          <a:stretch/>
        </p:blipFill>
        <p:spPr>
          <a:xfrm>
            <a:off x="6095880" y="3733920"/>
            <a:ext cx="2438640" cy="2209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228600" y="3124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еть в кни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019920" y="29718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еть в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3429000" y="4648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ть сам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3049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сить у воспит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601992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сить у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114300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я зн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701880" cy="260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4"/>
          <a:stretch/>
        </p:blipFill>
        <p:spPr>
          <a:xfrm>
            <a:off x="838080" y="1066680"/>
            <a:ext cx="327672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05_2"/>
          <p:cNvPicPr/>
          <p:nvPr/>
        </p:nvPicPr>
        <p:blipFill>
          <a:blip r:embed="rId1"/>
          <a:stretch/>
        </p:blipFill>
        <p:spPr>
          <a:xfrm>
            <a:off x="380880" y="1066680"/>
            <a:ext cx="2971800" cy="2614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v_altayskom_detskom_sadu_rabotala_psihicheski_bolnaya_zhenschina_thumb_fed_photo"/>
          <p:cNvPicPr/>
          <p:nvPr/>
        </p:nvPicPr>
        <p:blipFill>
          <a:blip r:embed="rId2"/>
          <a:stretch/>
        </p:blipFill>
        <p:spPr>
          <a:xfrm>
            <a:off x="4226040" y="1066680"/>
            <a:ext cx="4917960" cy="41594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762120" y="2286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мы можем использовать полученны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3594240" cy="2305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28600" y="3657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ать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480060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ать друзьям во дв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0" y="6324480"/>
            <a:ext cx="42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ать братику или сестр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838080" y="533520"/>
            <a:ext cx="701064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исследования: «Зачем птицы пою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, зачем птицы по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з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им, что  птицы поют, потому что  им радо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ы поют для своих птенч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ы поют, чтобы их пение радовало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ы пением  предупреждают об опас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обрать материалы о жизни пт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бобщить получен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казать,  зачем птицы по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914400" y="3808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т что мы уз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914400" y="914400"/>
            <a:ext cx="7696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ннее пение для птиц — дело серьезное и важное. Поют только самцы. Прилетает такой самец из далеких краев на родину и во весь голос заводит песню, в которой предупреждает. «Это мое место, я его занял и намерен здесь жить и растить птенцов!" Соседи-соперники знают: место занято, а если кто-то посмеет ослушаться - берегись, будет дра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в место, самец звонкой песней привлекает к себе подругу. Самка песню услышит и полетит на нее, конечно, если песня ей понравится. А нет - выберет другого самца, того, что поет лучше и звонче. Когда самец и самка находят друг друга, он начинает трепать ее за перышки и петь еще громче. Самки некоторых пород птиц отвечают самцу своими песням. Птицы издают и другие звуки, кроме пения. Они обмениваются выкриками, сигналами, тревожными звуками, понимая при этом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близи гнезда появляется змея, птица прибегает к сигналу тревоги. По этому сигналу к ней слетаются стаи птиц для подмоги. Различными сигналами и звуками птицы пользуются круглый год, а поют они только в период гнезд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чье пение отличается по высоте, ритму, качеству. За дроздами признается первенство по созданию «настоящих» пе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838080" y="228600"/>
            <a:ext cx="701064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тогам своих наблюдений, прочитав энциклопедию и информацию в сети интернет, мы узнали, зачем птицы по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е  наши предположения  подтверди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тичьих песнопений есть несколько функций — охрана территории, призыв самок, угроза сопернику, сообщение сородичам об опасности или присутствии корма. В основном пернатые поют во время спаривания и гнездования, после появления птенцов у них появляются другие заботы — кормежка потомства и охрана гнезда. А в случаях с маленькими птичками их громкое пение наоборот способно привлечь хищника. Нельзя  подходить  близко к гнездам птиц. По следам их могут  отыскать и разорить хищники. Если случайно окажешься возле гнезда, не  прикасайся к нему, иначе птицы-родители могут насовсем покинуть гнездо. 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ряй птичьих гнез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17955</cp:lastModifiedBy>
  <dcterms:modified xsi:type="dcterms:W3CDTF">2022-01-19T05:35:31Z</dcterms:modified>
  <cp:revision>22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