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C9B-F391-4173-A877-E7CD7645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E41-1E90-42E9-980C-B6E52CB2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320-1F71-4DBB-97F0-6DCFA7BF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488-FCFD-4BC9-9B2B-60EEC443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1D02-2137-414F-8F58-8BCD7035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30B-1F5A-41BC-9EF6-247FFBF8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306A-6663-4760-8B36-5108E2A6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2F68-9B1E-41D1-A7BB-4E0AD3E5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D411-A620-4CA3-B92E-D4135D73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B9EE-3ED0-43A3-9C2F-9396A8ED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CD79-E31E-45B7-B169-D0F5E79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9FA-4D66-47FA-9175-BC27AA9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0C61-A065-45DD-975A-F6E8DCF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87A6-787E-47CA-82DC-FC37FAE5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5E2-6C0B-4A01-BD14-FED263A3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1F58-83C8-44F2-B3D9-ED460597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300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5872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300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5872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AB4B-55E7-4E9C-A57D-ED1DDBE8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B9C-9018-4800-B58E-045A1730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293-423D-42A1-857D-BB9189A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56E-3C2B-414B-9AEF-3535B8F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B70-7B57-4182-8C16-E7C38A41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611-7008-4ADA-850D-CB04839E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3576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6AD-20FE-49B7-835D-BBAD71E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3576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466-AE56-405A-A4BA-B30C390B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youtu.be/QhPnjv9neY8%20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647640" y="241200"/>
            <a:ext cx="1051524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Текстовое поле 99"/>
          <p:cNvSpPr/>
          <p:nvPr/>
        </p:nvSpPr>
        <p:spPr>
          <a:xfrm>
            <a:off x="588600" y="1125360"/>
            <a:ext cx="1101384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знать, что такое «адапт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Дать определение понятия «компьютерная зависим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ыяснить, какие проблемы возникают в период адаптации ребенка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Выяснить, как обеспечить безопасность ребенка в интер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онять, как можно помочь ребенку адаптироваться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837720" y="551880"/>
            <a:ext cx="1051524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Текстовое поле 99"/>
          <p:cNvSpPr/>
          <p:nvPr/>
        </p:nvSpPr>
        <p:spPr>
          <a:xfrm>
            <a:off x="627480" y="1774080"/>
            <a:ext cx="10935720" cy="3518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знать, что такое «адапт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ыяснить, какие проблемы возникают в период адаптации ребенка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онять, как можно помочь ребенку адаптироваться к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2019960" y="426600"/>
            <a:ext cx="8151840" cy="6004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Замещающее содержимое 100" descr=""/>
          <p:cNvPicPr/>
          <p:nvPr/>
        </p:nvPicPr>
        <p:blipFill>
          <a:blip r:embed="rId1"/>
          <a:srcRect l="13183" t="0" r="0" b="0"/>
          <a:stretch/>
        </p:blipFill>
        <p:spPr>
          <a:xfrm>
            <a:off x="2364840" y="409680"/>
            <a:ext cx="7462080" cy="603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1793880" y="417240"/>
            <a:ext cx="8222760" cy="6023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2115360" y="290160"/>
            <a:ext cx="7961760" cy="627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Замещающее содержимое 103" descr=""/>
          <p:cNvPicPr/>
          <p:nvPr/>
        </p:nvPicPr>
        <p:blipFill>
          <a:blip r:embed="rId1"/>
          <a:stretch/>
        </p:blipFill>
        <p:spPr>
          <a:xfrm>
            <a:off x="1621800" y="469440"/>
            <a:ext cx="8566920" cy="591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934360"/>
            <a:ext cx="1051524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 u="sng">
                <a:solidFill>
                  <a:srgbClr val="1b8af9"/>
                </a:solidFill>
                <a:uFillTx/>
                <a:latin typeface="Calibri"/>
                <a:hlinkClick r:id="rId1"/>
              </a:rPr>
              <a:t>https://youtu.be/QhPnjv9neY8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473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4T12:23:00Z</dcterms:created>
  <dc:creator/>
  <dc:description/>
  <dc:language>en-US</dc:language>
  <cp:lastModifiedBy>Лера</cp:lastModifiedBy>
  <dcterms:modified xsi:type="dcterms:W3CDTF">2022-04-14T13:17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A9C463133934EE09506D53473D171EC</vt:lpwstr>
  </property>
  <property fmtid="{D5CDD505-2E9C-101B-9397-08002B2CF9AE}" pid="3" name="KSOProductBuildVer">
    <vt:lpwstr>1049-11.2.0.11074</vt:lpwstr>
  </property>
  <property fmtid="{D5CDD505-2E9C-101B-9397-08002B2CF9AE}" pid="4" name="PresentationFormat">
    <vt:lpwstr>宽屏</vt:lpwstr>
  </property>
  <property fmtid="{D5CDD505-2E9C-101B-9397-08002B2CF9AE}" pid="5" name="Slides">
    <vt:r8>8</vt:r8>
  </property>
</Properties>
</file>