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3E1-7EC0-48ED-BD58-48595B93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325-AAF8-4169-A25D-02F2B6D5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CE7-C0BE-45A4-9A5E-4535339D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E6C-6382-40B7-8D01-4F8042A1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A24F-6439-44C5-A8FA-F0F6F700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542C-0494-4318-8EA7-15F8B519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7E9F-300D-499E-B30A-07CD5507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A570-B33B-416F-BE89-8261C2C3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D14B-7A8B-437C-8DCD-AB07AD0C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F77F-2CA1-416B-BF9E-EBB20F21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B8A3-83CB-498D-BDF4-D9A1CFE4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81C-F282-47FC-93B2-59D62D8A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F3DC-932C-4155-ACAB-5A51E1DC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D784-E851-4B43-92F6-D1A24BB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9484-A6F9-4751-B661-0143CCED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A183-D706-4219-800D-22DE41F0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132A-1565-4D95-93A7-E3636F5D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CD7-4635-4E11-A9AF-716C8FED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CF1-BB11-4FD4-AD87-B1EB1CF5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E06-53A3-4437-BB86-CFB91275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AB4-12A3-4B48-BA20-6945B3A4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4FF-EC57-452C-80B0-ED0745B4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5E0-B5A8-4D6B-A28D-814B8FC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81B3-C0CB-4469-963C-A3514B4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5CED-5D10-439F-A73A-7BCF2BB8DA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E4E9-7431-4671-A34A-849D52FEAE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Мой прадедушка.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го прадеда звали Лукьяненко Иван Васильевич. Он родился 5 декабря 1912 г. Когда началась война ему было 29 лет. Он прошел войну в звании старшего лейтенанта, был призван в Красночикойский РВК, Читинсокой области, командовал второй батареей 946 артиллерийского полка 382 стрелковой Новгородской девиз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 наградного листа мы узнаем, что в боях на Карельском  перешейке Лейтенант Лукьяненко уничтожил четыре ДЗОТа, два наблюдательных пункта, до 100 немецких солдат и офицеров. Совершил личный боевой подвиг- подполз к немецкому станковому пулемету и бросил противотанковую гранату. Пулемет противника был уничтожен-путь пехоте откры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95800" y="1600200"/>
            <a:ext cx="3143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боях на Курляндском полуострове, батарея товарища Лукьяненко отлично действовала в составе штурмовой группы, не отрываясь от противника, уничтожала его живые силы и технику, расчищая путь нашей пех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й прадедушка удостоился правительственной награды- ордена Отечественной войны второй степени. Он прошел всю войну, вернулся домой, работал на благо своей страны, растил детей и вну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80000" y="3068640"/>
            <a:ext cx="2755800" cy="367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550200" y="0"/>
            <a:ext cx="2593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19280" y="3141360"/>
            <a:ext cx="447516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Конец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0T20:00:32Z</dcterms:created>
  <dc:creator>Admin</dc:creator>
  <dc:description/>
  <dc:language>en-US</dc:language>
  <cp:lastModifiedBy>Admin</cp:lastModifiedBy>
  <dcterms:modified xsi:type="dcterms:W3CDTF">2019-10-20T20:20:53Z</dcterms:modified>
  <cp:revision>2</cp:revision>
  <dc:subject/>
  <dc:title>Мой прадедушка.</dc:title>
</cp:coreProperties>
</file>